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B0F-D8E5-4B69-8F58-6DED30B9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D9C-F232-4AD4-BA96-F8CE4081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6DD-78A4-4888-B945-62C9E004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B48-45C5-46AB-9DDD-C73797F9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0327-DF9F-4763-A76F-DAB009F4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14F6-FAFC-450B-9F78-A5C5C68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E601-9B48-43B2-922F-B6FD1F6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56D-B797-4CA3-B109-27AA266A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FBB5-8693-4CD1-BF16-A55E314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46F7-5A19-437A-BADD-406C8650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AEFB-9611-47AD-B5CA-A4E0E1F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77D-22FC-4A15-B0EC-94BE1D55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6A8B-7126-4D2E-8661-B865F3F2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1CB2-2B60-4886-BA7F-5A15824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2927-3A68-4765-87A9-581CE823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7F1B-4196-46EE-8A7D-D3D0810B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A581-BC09-41BD-92F4-B4C35E74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638-A2D5-4977-94FC-218ADA1E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944-5BB3-427B-988D-95F89D0F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232-3076-402D-BE23-A6909762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26C-D2FC-4DF7-A0F8-C9B933E1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564-26AB-403C-B1FD-7CED6F7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81F-1E8C-480B-B620-BC716EBF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90D-E43C-42AE-ACAD-492A45C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FDEA-BCD0-43EE-B05E-1165D8E0A36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442A-8D58-455A-80DF-7BE9CD5C965B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arm-up:  Complete the chart below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95280" y="1600200"/>
          <a:ext cx="6096240" cy="4648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cent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4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87</a:t>
                      </a:r>
                      <a:endParaRPr b="0" lang="en-US" sz="2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114800" y="2209680"/>
          <a:ext cx="3794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09680"/>
                    <a:ext cx="3794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191120" y="3809880"/>
          <a:ext cx="33804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809880"/>
                    <a:ext cx="3380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91120" y="5410080"/>
          <a:ext cx="2934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5410080"/>
                    <a:ext cx="29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429080" y="2374920"/>
            <a:ext cx="758880" cy="430200"/>
          </a:xfrm>
          <a:custGeom>
            <a:avLst/>
            <a:gdLst/>
            <a:ahLst/>
            <a:rect l="l" t="t" r="r" b="b"/>
            <a:pathLst>
              <a:path w="2110" h="1192">
                <a:moveTo>
                  <a:pt x="12378" y="7020"/>
                </a:moveTo>
                <a:cubicBezTo>
                  <a:pt x="12378" y="7012"/>
                  <a:pt x="12378" y="7003"/>
                  <a:pt x="12378" y="6995"/>
                </a:cubicBezTo>
                <a:cubicBezTo>
                  <a:pt x="12393" y="7057"/>
                  <a:pt x="12453" y="7104"/>
                  <a:pt x="12477" y="7169"/>
                </a:cubicBezTo>
                <a:cubicBezTo>
                  <a:pt x="12477" y="7177"/>
                  <a:pt x="12477" y="7185"/>
                  <a:pt x="12477" y="7193"/>
                </a:cubicBezTo>
              </a:path>
              <a:path w="2110" h="1192">
                <a:moveTo>
                  <a:pt x="12526" y="7020"/>
                </a:moveTo>
                <a:cubicBezTo>
                  <a:pt x="12445" y="7053"/>
                  <a:pt x="12390" y="7160"/>
                  <a:pt x="12353" y="7243"/>
                </a:cubicBezTo>
                <a:cubicBezTo>
                  <a:pt x="12353" y="7251"/>
                  <a:pt x="12353" y="7260"/>
                  <a:pt x="12353" y="7268"/>
                </a:cubicBezTo>
              </a:path>
              <a:path w="2110" h="1192">
                <a:moveTo>
                  <a:pt x="12328" y="6995"/>
                </a:moveTo>
                <a:cubicBezTo>
                  <a:pt x="12290" y="6995"/>
                  <a:pt x="12416" y="7092"/>
                  <a:pt x="12452" y="7119"/>
                </a:cubicBezTo>
                <a:cubicBezTo>
                  <a:pt x="12493" y="7150"/>
                  <a:pt x="12495" y="7158"/>
                  <a:pt x="12526" y="7169"/>
                </a:cubicBezTo>
              </a:path>
              <a:path w="2110" h="1192">
                <a:moveTo>
                  <a:pt x="12526" y="6970"/>
                </a:moveTo>
                <a:cubicBezTo>
                  <a:pt x="12478" y="7050"/>
                  <a:pt x="12409" y="7139"/>
                  <a:pt x="12378" y="7218"/>
                </a:cubicBezTo>
              </a:path>
              <a:path w="2110" h="1192">
                <a:moveTo>
                  <a:pt x="12799" y="7169"/>
                </a:moveTo>
                <a:cubicBezTo>
                  <a:pt x="12746" y="7148"/>
                  <a:pt x="12727" y="7158"/>
                  <a:pt x="12700" y="7193"/>
                </a:cubicBezTo>
                <a:cubicBezTo>
                  <a:pt x="12692" y="7201"/>
                  <a:pt x="12683" y="7210"/>
                  <a:pt x="12675" y="7218"/>
                </a:cubicBezTo>
                <a:cubicBezTo>
                  <a:pt x="12729" y="7259"/>
                  <a:pt x="12795" y="7220"/>
                  <a:pt x="12849" y="7268"/>
                </a:cubicBezTo>
                <a:cubicBezTo>
                  <a:pt x="12894" y="7308"/>
                  <a:pt x="12794" y="7380"/>
                  <a:pt x="12774" y="7392"/>
                </a:cubicBezTo>
                <a:cubicBezTo>
                  <a:pt x="12726" y="7416"/>
                  <a:pt x="12710" y="7426"/>
                  <a:pt x="12725" y="7367"/>
                </a:cubicBezTo>
              </a:path>
              <a:path w="2110" h="1192">
                <a:moveTo>
                  <a:pt x="13072" y="7119"/>
                </a:moveTo>
                <a:cubicBezTo>
                  <a:pt x="13126" y="7119"/>
                  <a:pt x="13145" y="7113"/>
                  <a:pt x="13196" y="7094"/>
                </a:cubicBezTo>
              </a:path>
              <a:path w="2110" h="1192">
                <a:moveTo>
                  <a:pt x="13097" y="7193"/>
                </a:moveTo>
                <a:cubicBezTo>
                  <a:pt x="13147" y="7193"/>
                  <a:pt x="13180" y="7193"/>
                  <a:pt x="13221" y="7193"/>
                </a:cubicBezTo>
              </a:path>
              <a:path w="2110" h="1192">
                <a:moveTo>
                  <a:pt x="13494" y="7392"/>
                </a:moveTo>
                <a:cubicBezTo>
                  <a:pt x="13517" y="7526"/>
                  <a:pt x="13519" y="7652"/>
                  <a:pt x="13519" y="7789"/>
                </a:cubicBezTo>
              </a:path>
              <a:path w="2110" h="1192">
                <a:moveTo>
                  <a:pt x="13791" y="7392"/>
                </a:moveTo>
                <a:cubicBezTo>
                  <a:pt x="13686" y="7485"/>
                  <a:pt x="13671" y="7553"/>
                  <a:pt x="13692" y="7689"/>
                </a:cubicBezTo>
                <a:cubicBezTo>
                  <a:pt x="13757" y="7680"/>
                  <a:pt x="14048" y="7632"/>
                  <a:pt x="13965" y="7491"/>
                </a:cubicBezTo>
                <a:cubicBezTo>
                  <a:pt x="13894" y="7443"/>
                  <a:pt x="13873" y="7427"/>
                  <a:pt x="13816" y="7417"/>
                </a:cubicBezTo>
              </a:path>
              <a:path w="2110" h="1192">
                <a:moveTo>
                  <a:pt x="14213" y="7367"/>
                </a:moveTo>
                <a:cubicBezTo>
                  <a:pt x="14166" y="7484"/>
                  <a:pt x="14145" y="7568"/>
                  <a:pt x="14163" y="7689"/>
                </a:cubicBezTo>
                <a:cubicBezTo>
                  <a:pt x="14237" y="7695"/>
                  <a:pt x="14508" y="7647"/>
                  <a:pt x="14412" y="7491"/>
                </a:cubicBezTo>
                <a:cubicBezTo>
                  <a:pt x="14363" y="7412"/>
                  <a:pt x="14266" y="7403"/>
                  <a:pt x="14188" y="7392"/>
                </a:cubicBezTo>
              </a:path>
              <a:path w="2110" h="1192">
                <a:moveTo>
                  <a:pt x="13568" y="7243"/>
                </a:moveTo>
                <a:cubicBezTo>
                  <a:pt x="13723" y="7217"/>
                  <a:pt x="13882" y="7192"/>
                  <a:pt x="14039" y="7169"/>
                </a:cubicBezTo>
                <a:cubicBezTo>
                  <a:pt x="14135" y="7155"/>
                  <a:pt x="14197" y="7144"/>
                  <a:pt x="14288" y="7144"/>
                </a:cubicBezTo>
              </a:path>
              <a:path w="2110" h="1192">
                <a:moveTo>
                  <a:pt x="12700" y="7045"/>
                </a:moveTo>
                <a:cubicBezTo>
                  <a:pt x="12751" y="7032"/>
                  <a:pt x="12763" y="7020"/>
                  <a:pt x="12824" y="7020"/>
                </a:cubicBezTo>
              </a:path>
              <a:path w="2110" h="1192">
                <a:moveTo>
                  <a:pt x="12774" y="6772"/>
                </a:moveTo>
                <a:cubicBezTo>
                  <a:pt x="12799" y="6772"/>
                  <a:pt x="12807" y="6772"/>
                  <a:pt x="12799" y="6747"/>
                </a:cubicBezTo>
                <a:cubicBezTo>
                  <a:pt x="12755" y="6747"/>
                  <a:pt x="12706" y="6727"/>
                  <a:pt x="12700" y="6772"/>
                </a:cubicBezTo>
                <a:cubicBezTo>
                  <a:pt x="12700" y="6796"/>
                  <a:pt x="12700" y="6805"/>
                  <a:pt x="12700" y="6821"/>
                </a:cubicBezTo>
                <a:cubicBezTo>
                  <a:pt x="12752" y="6821"/>
                  <a:pt x="12782" y="6833"/>
                  <a:pt x="12824" y="6846"/>
                </a:cubicBezTo>
                <a:cubicBezTo>
                  <a:pt x="12832" y="6846"/>
                  <a:pt x="12841" y="6846"/>
                  <a:pt x="12849" y="6846"/>
                </a:cubicBezTo>
                <a:cubicBezTo>
                  <a:pt x="12834" y="6907"/>
                  <a:pt x="12810" y="6912"/>
                  <a:pt x="12750" y="6921"/>
                </a:cubicBezTo>
              </a:path>
              <a:path w="2110" h="1192">
                <a:moveTo>
                  <a:pt x="13494" y="6722"/>
                </a:moveTo>
                <a:cubicBezTo>
                  <a:pt x="13572" y="6722"/>
                  <a:pt x="13639" y="6684"/>
                  <a:pt x="13717" y="6672"/>
                </a:cubicBezTo>
                <a:cubicBezTo>
                  <a:pt x="13717" y="6778"/>
                  <a:pt x="13713" y="6825"/>
                  <a:pt x="13643" y="6896"/>
                </a:cubicBezTo>
                <a:cubicBezTo>
                  <a:pt x="13635" y="6904"/>
                  <a:pt x="13626" y="6913"/>
                  <a:pt x="13618" y="6921"/>
                </a:cubicBezTo>
                <a:cubicBezTo>
                  <a:pt x="13664" y="6857"/>
                  <a:pt x="13775" y="6781"/>
                  <a:pt x="13841" y="6896"/>
                </a:cubicBezTo>
                <a:cubicBezTo>
                  <a:pt x="13924" y="7041"/>
                  <a:pt x="13715" y="7128"/>
                  <a:pt x="13618" y="7119"/>
                </a:cubicBezTo>
                <a:cubicBezTo>
                  <a:pt x="13610" y="7111"/>
                  <a:pt x="13601" y="7102"/>
                  <a:pt x="13593" y="7094"/>
                </a:cubicBezTo>
              </a:path>
              <a:path w="2110" h="1192">
                <a:moveTo>
                  <a:pt x="14089" y="6598"/>
                </a:moveTo>
                <a:cubicBezTo>
                  <a:pt x="14032" y="6627"/>
                  <a:pt x="13956" y="6774"/>
                  <a:pt x="13940" y="6846"/>
                </a:cubicBezTo>
                <a:cubicBezTo>
                  <a:pt x="13940" y="6936"/>
                  <a:pt x="13933" y="6962"/>
                  <a:pt x="13990" y="6995"/>
                </a:cubicBezTo>
                <a:cubicBezTo>
                  <a:pt x="14172" y="6959"/>
                  <a:pt x="14247" y="6874"/>
                  <a:pt x="14213" y="6672"/>
                </a:cubicBezTo>
                <a:cubicBezTo>
                  <a:pt x="14197" y="6578"/>
                  <a:pt x="14082" y="6603"/>
                  <a:pt x="14015" y="65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8120" y="2411280"/>
            <a:ext cx="679680" cy="295560"/>
          </a:xfrm>
          <a:custGeom>
            <a:avLst/>
            <a:gdLst/>
            <a:ahLst/>
            <a:rect l="l" t="t" r="r" b="b"/>
            <a:pathLst>
              <a:path w="1887" h="820">
                <a:moveTo>
                  <a:pt x="16942" y="6896"/>
                </a:moveTo>
                <a:cubicBezTo>
                  <a:pt x="16993" y="6844"/>
                  <a:pt x="17012" y="6826"/>
                  <a:pt x="17066" y="6821"/>
                </a:cubicBezTo>
                <a:cubicBezTo>
                  <a:pt x="17152" y="6976"/>
                  <a:pt x="17091" y="7006"/>
                  <a:pt x="16966" y="7094"/>
                </a:cubicBezTo>
                <a:cubicBezTo>
                  <a:pt x="17067" y="7079"/>
                  <a:pt x="17202" y="7076"/>
                  <a:pt x="17140" y="7243"/>
                </a:cubicBezTo>
                <a:cubicBezTo>
                  <a:pt x="17083" y="7397"/>
                  <a:pt x="16880" y="7461"/>
                  <a:pt x="16743" y="7392"/>
                </a:cubicBezTo>
                <a:cubicBezTo>
                  <a:pt x="16735" y="7384"/>
                  <a:pt x="16726" y="7375"/>
                  <a:pt x="16718" y="7367"/>
                </a:cubicBezTo>
              </a:path>
              <a:path w="1887" h="820">
                <a:moveTo>
                  <a:pt x="17562" y="6796"/>
                </a:moveTo>
                <a:cubicBezTo>
                  <a:pt x="17431" y="6880"/>
                  <a:pt x="17294" y="6987"/>
                  <a:pt x="17314" y="7169"/>
                </a:cubicBezTo>
                <a:cubicBezTo>
                  <a:pt x="17340" y="7404"/>
                  <a:pt x="17537" y="7361"/>
                  <a:pt x="17661" y="7243"/>
                </a:cubicBezTo>
                <a:cubicBezTo>
                  <a:pt x="17815" y="7097"/>
                  <a:pt x="17822" y="6968"/>
                  <a:pt x="17636" y="6871"/>
                </a:cubicBezTo>
                <a:cubicBezTo>
                  <a:pt x="17568" y="6835"/>
                  <a:pt x="17541" y="6838"/>
                  <a:pt x="17487" y="6871"/>
                </a:cubicBezTo>
              </a:path>
              <a:path w="1887" h="820">
                <a:moveTo>
                  <a:pt x="18083" y="6722"/>
                </a:moveTo>
                <a:cubicBezTo>
                  <a:pt x="18032" y="6739"/>
                  <a:pt x="17825" y="6884"/>
                  <a:pt x="17983" y="6921"/>
                </a:cubicBezTo>
                <a:cubicBezTo>
                  <a:pt x="18108" y="6921"/>
                  <a:pt x="18150" y="6921"/>
                  <a:pt x="18231" y="6896"/>
                </a:cubicBezTo>
                <a:cubicBezTo>
                  <a:pt x="18231" y="6774"/>
                  <a:pt x="18232" y="6799"/>
                  <a:pt x="18107" y="6747"/>
                </a:cubicBezTo>
                <a:cubicBezTo>
                  <a:pt x="18195" y="6729"/>
                  <a:pt x="18314" y="6691"/>
                  <a:pt x="18405" y="6697"/>
                </a:cubicBezTo>
                <a:cubicBezTo>
                  <a:pt x="18485" y="6702"/>
                  <a:pt x="18494" y="6720"/>
                  <a:pt x="18529" y="6772"/>
                </a:cubicBezTo>
                <a:cubicBezTo>
                  <a:pt x="18434" y="6989"/>
                  <a:pt x="18288" y="7125"/>
                  <a:pt x="18157" y="7317"/>
                </a:cubicBezTo>
                <a:cubicBezTo>
                  <a:pt x="18128" y="7359"/>
                  <a:pt x="18083" y="7523"/>
                  <a:pt x="18083" y="7491"/>
                </a:cubicBezTo>
              </a:path>
              <a:path w="1887" h="820">
                <a:moveTo>
                  <a:pt x="18504" y="7243"/>
                </a:moveTo>
                <a:cubicBezTo>
                  <a:pt x="18429" y="7288"/>
                  <a:pt x="18381" y="7380"/>
                  <a:pt x="18355" y="7466"/>
                </a:cubicBezTo>
                <a:cubicBezTo>
                  <a:pt x="18423" y="7480"/>
                  <a:pt x="18652" y="7460"/>
                  <a:pt x="18604" y="7317"/>
                </a:cubicBezTo>
                <a:cubicBezTo>
                  <a:pt x="18584" y="7258"/>
                  <a:pt x="18484" y="7299"/>
                  <a:pt x="18430" y="726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0" y="3027240"/>
            <a:ext cx="795240" cy="500040"/>
          </a:xfrm>
          <a:custGeom>
            <a:avLst/>
            <a:gdLst/>
            <a:ahLst/>
            <a:rect l="l" t="t" r="r" b="b"/>
            <a:pathLst>
              <a:path w="2209" h="1390">
                <a:moveTo>
                  <a:pt x="10170" y="8483"/>
                </a:moveTo>
                <a:cubicBezTo>
                  <a:pt x="10235" y="8505"/>
                  <a:pt x="10179" y="8626"/>
                  <a:pt x="10170" y="8682"/>
                </a:cubicBezTo>
                <a:cubicBezTo>
                  <a:pt x="10170" y="8690"/>
                  <a:pt x="10170" y="8698"/>
                  <a:pt x="10170" y="8706"/>
                </a:cubicBezTo>
                <a:cubicBezTo>
                  <a:pt x="10280" y="8706"/>
                  <a:pt x="10407" y="8746"/>
                  <a:pt x="10468" y="8657"/>
                </a:cubicBezTo>
              </a:path>
              <a:path w="2209" h="1390">
                <a:moveTo>
                  <a:pt x="10468" y="8409"/>
                </a:moveTo>
                <a:cubicBezTo>
                  <a:pt x="10468" y="8574"/>
                  <a:pt x="10468" y="8740"/>
                  <a:pt x="10468" y="8905"/>
                </a:cubicBezTo>
              </a:path>
              <a:path w="2209" h="1390">
                <a:moveTo>
                  <a:pt x="9748" y="9103"/>
                </a:moveTo>
                <a:cubicBezTo>
                  <a:pt x="10016" y="9053"/>
                  <a:pt x="10294" y="9019"/>
                  <a:pt x="10567" y="9004"/>
                </a:cubicBezTo>
                <a:cubicBezTo>
                  <a:pt x="10648" y="9000"/>
                  <a:pt x="10733" y="9004"/>
                  <a:pt x="10815" y="9004"/>
                </a:cubicBezTo>
              </a:path>
              <a:path w="2209" h="1390">
                <a:moveTo>
                  <a:pt x="9798" y="9327"/>
                </a:moveTo>
                <a:cubicBezTo>
                  <a:pt x="9798" y="9484"/>
                  <a:pt x="9798" y="9641"/>
                  <a:pt x="9798" y="9798"/>
                </a:cubicBezTo>
              </a:path>
              <a:path w="2209" h="1390">
                <a:moveTo>
                  <a:pt x="10220" y="9401"/>
                </a:moveTo>
                <a:cubicBezTo>
                  <a:pt x="10168" y="9349"/>
                  <a:pt x="10094" y="9513"/>
                  <a:pt x="10071" y="9575"/>
                </a:cubicBezTo>
                <a:cubicBezTo>
                  <a:pt x="10028" y="9690"/>
                  <a:pt x="10055" y="9713"/>
                  <a:pt x="10120" y="9798"/>
                </a:cubicBezTo>
                <a:cubicBezTo>
                  <a:pt x="10244" y="9771"/>
                  <a:pt x="10434" y="9700"/>
                  <a:pt x="10319" y="9525"/>
                </a:cubicBezTo>
                <a:cubicBezTo>
                  <a:pt x="10300" y="9496"/>
                  <a:pt x="10230" y="9459"/>
                  <a:pt x="10195" y="9451"/>
                </a:cubicBezTo>
              </a:path>
              <a:path w="2209" h="1390">
                <a:moveTo>
                  <a:pt x="10740" y="9376"/>
                </a:moveTo>
                <a:cubicBezTo>
                  <a:pt x="10668" y="9376"/>
                  <a:pt x="10607" y="9441"/>
                  <a:pt x="10567" y="9500"/>
                </a:cubicBezTo>
                <a:cubicBezTo>
                  <a:pt x="10504" y="9592"/>
                  <a:pt x="10498" y="9652"/>
                  <a:pt x="10517" y="9748"/>
                </a:cubicBezTo>
                <a:cubicBezTo>
                  <a:pt x="10654" y="9780"/>
                  <a:pt x="10804" y="9791"/>
                  <a:pt x="10815" y="9599"/>
                </a:cubicBezTo>
                <a:cubicBezTo>
                  <a:pt x="10823" y="9463"/>
                  <a:pt x="10761" y="9433"/>
                  <a:pt x="10666" y="9401"/>
                </a:cubicBezTo>
                <a:cubicBezTo>
                  <a:pt x="10674" y="9401"/>
                  <a:pt x="10683" y="9401"/>
                  <a:pt x="10691" y="9401"/>
                </a:cubicBezTo>
              </a:path>
              <a:path w="2209" h="1390">
                <a:moveTo>
                  <a:pt x="11708" y="9004"/>
                </a:moveTo>
                <a:cubicBezTo>
                  <a:pt x="11788" y="9004"/>
                  <a:pt x="11857" y="8994"/>
                  <a:pt x="11931" y="8979"/>
                </a:cubicBezTo>
                <a:cubicBezTo>
                  <a:pt x="11939" y="8979"/>
                  <a:pt x="11948" y="8979"/>
                  <a:pt x="11956" y="8979"/>
                </a:cubicBezTo>
              </a:path>
              <a:path w="2209" h="1390">
                <a:moveTo>
                  <a:pt x="11733" y="9178"/>
                </a:moveTo>
                <a:cubicBezTo>
                  <a:pt x="11779" y="9225"/>
                  <a:pt x="11852" y="9184"/>
                  <a:pt x="11931" y="9178"/>
                </a:cubicBezTo>
                <a:cubicBezTo>
                  <a:pt x="11939" y="9178"/>
                  <a:pt x="11948" y="9178"/>
                  <a:pt x="11956" y="9178"/>
                </a:cubicBezTo>
              </a:path>
              <a:path w="2209" h="1390">
                <a:moveTo>
                  <a:pt x="10840" y="8706"/>
                </a:moveTo>
                <a:cubicBezTo>
                  <a:pt x="10848" y="8706"/>
                  <a:pt x="10856" y="8706"/>
                  <a:pt x="10864" y="8706"/>
                </a:cubicBezTo>
                <a:cubicBezTo>
                  <a:pt x="10877" y="8668"/>
                  <a:pt x="10963" y="8645"/>
                  <a:pt x="11013" y="8632"/>
                </a:cubicBezTo>
                <a:cubicBezTo>
                  <a:pt x="11038" y="8632"/>
                  <a:pt x="11046" y="8632"/>
                  <a:pt x="11038" y="8607"/>
                </a:cubicBezTo>
              </a:path>
              <a:path w="2209" h="1390">
                <a:moveTo>
                  <a:pt x="11137" y="8508"/>
                </a:moveTo>
                <a:cubicBezTo>
                  <a:pt x="11142" y="8547"/>
                  <a:pt x="11145" y="8646"/>
                  <a:pt x="11212" y="8632"/>
                </a:cubicBezTo>
                <a:cubicBezTo>
                  <a:pt x="11284" y="8617"/>
                  <a:pt x="11325" y="8571"/>
                  <a:pt x="11385" y="853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37080" y="3929040"/>
            <a:ext cx="741240" cy="473040"/>
          </a:xfrm>
          <a:custGeom>
            <a:avLst/>
            <a:gdLst/>
            <a:ahLst/>
            <a:rect l="l" t="t" r="r" b="b"/>
            <a:pathLst>
              <a:path w="2060" h="1316">
                <a:moveTo>
                  <a:pt x="12601" y="11385"/>
                </a:moveTo>
                <a:cubicBezTo>
                  <a:pt x="12668" y="11402"/>
                  <a:pt x="12730" y="11525"/>
                  <a:pt x="12774" y="11584"/>
                </a:cubicBezTo>
                <a:cubicBezTo>
                  <a:pt x="12812" y="11640"/>
                  <a:pt x="12807" y="11665"/>
                  <a:pt x="12849" y="11658"/>
                </a:cubicBezTo>
              </a:path>
              <a:path w="2060" h="1316">
                <a:moveTo>
                  <a:pt x="12799" y="11336"/>
                </a:moveTo>
                <a:cubicBezTo>
                  <a:pt x="12788" y="11444"/>
                  <a:pt x="12770" y="11561"/>
                  <a:pt x="12725" y="11658"/>
                </a:cubicBezTo>
                <a:cubicBezTo>
                  <a:pt x="12717" y="11666"/>
                  <a:pt x="12708" y="11675"/>
                  <a:pt x="12700" y="11683"/>
                </a:cubicBezTo>
              </a:path>
              <a:path w="2060" h="1316">
                <a:moveTo>
                  <a:pt x="13122" y="11187"/>
                </a:moveTo>
                <a:cubicBezTo>
                  <a:pt x="13109" y="11265"/>
                  <a:pt x="13097" y="11328"/>
                  <a:pt x="13097" y="11410"/>
                </a:cubicBezTo>
              </a:path>
              <a:path w="2060" h="1316">
                <a:moveTo>
                  <a:pt x="13271" y="11112"/>
                </a:moveTo>
                <a:cubicBezTo>
                  <a:pt x="13220" y="11202"/>
                  <a:pt x="13208" y="11311"/>
                  <a:pt x="13171" y="11410"/>
                </a:cubicBezTo>
                <a:cubicBezTo>
                  <a:pt x="13298" y="11397"/>
                  <a:pt x="13376" y="11367"/>
                  <a:pt x="13370" y="11212"/>
                </a:cubicBezTo>
                <a:cubicBezTo>
                  <a:pt x="13367" y="11125"/>
                  <a:pt x="13314" y="11149"/>
                  <a:pt x="13271" y="11162"/>
                </a:cubicBezTo>
              </a:path>
              <a:path w="2060" h="1316">
                <a:moveTo>
                  <a:pt x="13097" y="11559"/>
                </a:moveTo>
                <a:cubicBezTo>
                  <a:pt x="13143" y="11546"/>
                  <a:pt x="13337" y="11460"/>
                  <a:pt x="13370" y="11485"/>
                </a:cubicBezTo>
                <a:cubicBezTo>
                  <a:pt x="13370" y="11493"/>
                  <a:pt x="13370" y="11501"/>
                  <a:pt x="13370" y="11509"/>
                </a:cubicBezTo>
              </a:path>
              <a:path w="2060" h="1316">
                <a:moveTo>
                  <a:pt x="13370" y="11733"/>
                </a:moveTo>
                <a:cubicBezTo>
                  <a:pt x="13335" y="11794"/>
                  <a:pt x="13310" y="11841"/>
                  <a:pt x="13295" y="11906"/>
                </a:cubicBezTo>
                <a:cubicBezTo>
                  <a:pt x="13391" y="11922"/>
                  <a:pt x="13454" y="11926"/>
                  <a:pt x="13469" y="11782"/>
                </a:cubicBezTo>
                <a:cubicBezTo>
                  <a:pt x="13471" y="11760"/>
                  <a:pt x="13389" y="11702"/>
                  <a:pt x="13370" y="11683"/>
                </a:cubicBezTo>
              </a:path>
              <a:path w="2060" h="1316">
                <a:moveTo>
                  <a:pt x="13618" y="11534"/>
                </a:moveTo>
                <a:cubicBezTo>
                  <a:pt x="13629" y="11534"/>
                  <a:pt x="13734" y="11534"/>
                  <a:pt x="13667" y="11534"/>
                </a:cubicBezTo>
              </a:path>
              <a:path w="2060" h="1316">
                <a:moveTo>
                  <a:pt x="14139" y="10939"/>
                </a:moveTo>
                <a:cubicBezTo>
                  <a:pt x="14003" y="10898"/>
                  <a:pt x="13824" y="10958"/>
                  <a:pt x="13816" y="11137"/>
                </a:cubicBezTo>
                <a:cubicBezTo>
                  <a:pt x="13833" y="11145"/>
                  <a:pt x="13849" y="11154"/>
                  <a:pt x="13866" y="11162"/>
                </a:cubicBezTo>
                <a:cubicBezTo>
                  <a:pt x="13977" y="11134"/>
                  <a:pt x="13975" y="11013"/>
                  <a:pt x="14089" y="11013"/>
                </a:cubicBezTo>
                <a:cubicBezTo>
                  <a:pt x="14089" y="11157"/>
                  <a:pt x="14074" y="11293"/>
                  <a:pt x="14064" y="11435"/>
                </a:cubicBezTo>
              </a:path>
              <a:path w="2060" h="1316">
                <a:moveTo>
                  <a:pt x="14362" y="10939"/>
                </a:moveTo>
                <a:cubicBezTo>
                  <a:pt x="14294" y="11104"/>
                  <a:pt x="14265" y="11183"/>
                  <a:pt x="14362" y="11336"/>
                </a:cubicBezTo>
                <a:cubicBezTo>
                  <a:pt x="14453" y="11269"/>
                  <a:pt x="14661" y="11080"/>
                  <a:pt x="14511" y="10939"/>
                </a:cubicBezTo>
                <a:cubicBezTo>
                  <a:pt x="14438" y="10939"/>
                  <a:pt x="14414" y="10938"/>
                  <a:pt x="14387" y="10988"/>
                </a:cubicBezTo>
              </a:path>
              <a:path w="2060" h="1316">
                <a:moveTo>
                  <a:pt x="13990" y="11584"/>
                </a:moveTo>
                <a:cubicBezTo>
                  <a:pt x="14180" y="11565"/>
                  <a:pt x="14370" y="11529"/>
                  <a:pt x="14560" y="11509"/>
                </a:cubicBezTo>
                <a:cubicBezTo>
                  <a:pt x="14577" y="11509"/>
                  <a:pt x="14593" y="11509"/>
                  <a:pt x="14610" y="11509"/>
                </a:cubicBezTo>
              </a:path>
              <a:path w="2060" h="1316">
                <a:moveTo>
                  <a:pt x="14039" y="11857"/>
                </a:moveTo>
                <a:cubicBezTo>
                  <a:pt x="14012" y="11918"/>
                  <a:pt x="13923" y="12156"/>
                  <a:pt x="13965" y="12229"/>
                </a:cubicBezTo>
                <a:cubicBezTo>
                  <a:pt x="13973" y="12221"/>
                  <a:pt x="13982" y="12212"/>
                  <a:pt x="13990" y="12204"/>
                </a:cubicBezTo>
              </a:path>
              <a:path w="2060" h="1316">
                <a:moveTo>
                  <a:pt x="14213" y="11832"/>
                </a:moveTo>
                <a:cubicBezTo>
                  <a:pt x="14162" y="11956"/>
                  <a:pt x="14108" y="12034"/>
                  <a:pt x="14188" y="12154"/>
                </a:cubicBezTo>
                <a:cubicBezTo>
                  <a:pt x="14251" y="12097"/>
                  <a:pt x="14397" y="11977"/>
                  <a:pt x="14288" y="11881"/>
                </a:cubicBezTo>
                <a:cubicBezTo>
                  <a:pt x="14280" y="11881"/>
                  <a:pt x="14271" y="11881"/>
                  <a:pt x="14263" y="11881"/>
                </a:cubicBezTo>
              </a:path>
              <a:path w="2060" h="1316">
                <a:moveTo>
                  <a:pt x="14486" y="11782"/>
                </a:moveTo>
                <a:cubicBezTo>
                  <a:pt x="14458" y="11930"/>
                  <a:pt x="14391" y="12052"/>
                  <a:pt x="14511" y="12154"/>
                </a:cubicBezTo>
                <a:cubicBezTo>
                  <a:pt x="14612" y="12075"/>
                  <a:pt x="14775" y="11883"/>
                  <a:pt x="14560" y="11782"/>
                </a:cubicBezTo>
                <a:cubicBezTo>
                  <a:pt x="14527" y="11782"/>
                  <a:pt x="14494" y="11782"/>
                  <a:pt x="14461" y="1178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0760" y="3178080"/>
            <a:ext cx="598320" cy="287280"/>
          </a:xfrm>
          <a:custGeom>
            <a:avLst/>
            <a:gdLst/>
            <a:ahLst/>
            <a:rect l="l" t="t" r="r" b="b"/>
            <a:pathLst>
              <a:path w="1663" h="795">
                <a:moveTo>
                  <a:pt x="17190" y="8905"/>
                </a:moveTo>
                <a:cubicBezTo>
                  <a:pt x="17204" y="8992"/>
                  <a:pt x="17248" y="9129"/>
                  <a:pt x="17165" y="9203"/>
                </a:cubicBezTo>
                <a:cubicBezTo>
                  <a:pt x="17140" y="9203"/>
                  <a:pt x="17132" y="9203"/>
                  <a:pt x="17140" y="9178"/>
                </a:cubicBezTo>
                <a:cubicBezTo>
                  <a:pt x="17286" y="9123"/>
                  <a:pt x="17439" y="9211"/>
                  <a:pt x="17587" y="9203"/>
                </a:cubicBezTo>
                <a:cubicBezTo>
                  <a:pt x="17587" y="9195"/>
                  <a:pt x="17587" y="9186"/>
                  <a:pt x="17587" y="9178"/>
                </a:cubicBezTo>
              </a:path>
              <a:path w="1663" h="795">
                <a:moveTo>
                  <a:pt x="17487" y="8830"/>
                </a:moveTo>
                <a:cubicBezTo>
                  <a:pt x="17535" y="9084"/>
                  <a:pt x="17562" y="9317"/>
                  <a:pt x="17562" y="9575"/>
                </a:cubicBezTo>
              </a:path>
              <a:path w="1663" h="795">
                <a:moveTo>
                  <a:pt x="18083" y="8855"/>
                </a:moveTo>
                <a:cubicBezTo>
                  <a:pt x="17964" y="8948"/>
                  <a:pt x="17920" y="9000"/>
                  <a:pt x="17983" y="9128"/>
                </a:cubicBezTo>
                <a:cubicBezTo>
                  <a:pt x="18097" y="9107"/>
                  <a:pt x="18338" y="9013"/>
                  <a:pt x="18132" y="8880"/>
                </a:cubicBezTo>
                <a:cubicBezTo>
                  <a:pt x="18058" y="8861"/>
                  <a:pt x="18051" y="8853"/>
                  <a:pt x="18008" y="8855"/>
                </a:cubicBezTo>
                <a:cubicBezTo>
                  <a:pt x="18117" y="8855"/>
                  <a:pt x="18221" y="8877"/>
                  <a:pt x="18331" y="8880"/>
                </a:cubicBezTo>
                <a:cubicBezTo>
                  <a:pt x="18389" y="8880"/>
                  <a:pt x="18397" y="8880"/>
                  <a:pt x="18430" y="8880"/>
                </a:cubicBezTo>
                <a:cubicBezTo>
                  <a:pt x="18459" y="9054"/>
                  <a:pt x="18384" y="9133"/>
                  <a:pt x="18306" y="9302"/>
                </a:cubicBezTo>
                <a:cubicBezTo>
                  <a:pt x="18263" y="9396"/>
                  <a:pt x="18171" y="9553"/>
                  <a:pt x="18207" y="9624"/>
                </a:cubicBezTo>
              </a:path>
              <a:path w="1663" h="795">
                <a:moveTo>
                  <a:pt x="18653" y="9327"/>
                </a:moveTo>
                <a:cubicBezTo>
                  <a:pt x="18583" y="9420"/>
                  <a:pt x="18560" y="9446"/>
                  <a:pt x="18554" y="9525"/>
                </a:cubicBezTo>
                <a:cubicBezTo>
                  <a:pt x="18604" y="9520"/>
                  <a:pt x="18950" y="9378"/>
                  <a:pt x="18802" y="9302"/>
                </a:cubicBezTo>
                <a:cubicBezTo>
                  <a:pt x="18752" y="9302"/>
                  <a:pt x="18703" y="9302"/>
                  <a:pt x="18653" y="930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65920" y="3983040"/>
            <a:ext cx="884160" cy="1098720"/>
          </a:xfrm>
          <a:custGeom>
            <a:avLst/>
            <a:gdLst/>
            <a:ahLst/>
            <a:rect l="l" t="t" r="r" b="b"/>
            <a:pathLst>
              <a:path w="2456" h="3052">
                <a:moveTo>
                  <a:pt x="17239" y="11410"/>
                </a:moveTo>
                <a:cubicBezTo>
                  <a:pt x="17239" y="11288"/>
                  <a:pt x="17204" y="11240"/>
                  <a:pt x="17140" y="11137"/>
                </a:cubicBezTo>
                <a:cubicBezTo>
                  <a:pt x="17078" y="11161"/>
                  <a:pt x="16595" y="11493"/>
                  <a:pt x="16842" y="11609"/>
                </a:cubicBezTo>
                <a:cubicBezTo>
                  <a:pt x="17045" y="11705"/>
                  <a:pt x="17147" y="11384"/>
                  <a:pt x="17165" y="11261"/>
                </a:cubicBezTo>
                <a:cubicBezTo>
                  <a:pt x="17246" y="11487"/>
                  <a:pt x="17192" y="11675"/>
                  <a:pt x="17165" y="11906"/>
                </a:cubicBezTo>
                <a:cubicBezTo>
                  <a:pt x="17165" y="11988"/>
                  <a:pt x="17165" y="12038"/>
                  <a:pt x="17165" y="11956"/>
                </a:cubicBezTo>
              </a:path>
              <a:path w="2456" h="3052">
                <a:moveTo>
                  <a:pt x="17611" y="11311"/>
                </a:moveTo>
                <a:cubicBezTo>
                  <a:pt x="17460" y="11558"/>
                  <a:pt x="17362" y="11667"/>
                  <a:pt x="17487" y="11931"/>
                </a:cubicBezTo>
                <a:cubicBezTo>
                  <a:pt x="17762" y="11860"/>
                  <a:pt x="17950" y="11774"/>
                  <a:pt x="17859" y="11435"/>
                </a:cubicBezTo>
                <a:cubicBezTo>
                  <a:pt x="17791" y="11321"/>
                  <a:pt x="17776" y="11284"/>
                  <a:pt x="17686" y="11261"/>
                </a:cubicBezTo>
              </a:path>
              <a:path w="2456" h="3052">
                <a:moveTo>
                  <a:pt x="18306" y="11063"/>
                </a:moveTo>
                <a:cubicBezTo>
                  <a:pt x="18107" y="11124"/>
                  <a:pt x="18077" y="11213"/>
                  <a:pt x="18157" y="11385"/>
                </a:cubicBezTo>
                <a:cubicBezTo>
                  <a:pt x="18338" y="11345"/>
                  <a:pt x="18419" y="11284"/>
                  <a:pt x="18306" y="11088"/>
                </a:cubicBezTo>
                <a:cubicBezTo>
                  <a:pt x="18298" y="11080"/>
                  <a:pt x="18289" y="11071"/>
                  <a:pt x="18281" y="11063"/>
                </a:cubicBezTo>
                <a:cubicBezTo>
                  <a:pt x="18372" y="11063"/>
                  <a:pt x="18590" y="11018"/>
                  <a:pt x="18653" y="11088"/>
                </a:cubicBezTo>
                <a:cubicBezTo>
                  <a:pt x="18761" y="11209"/>
                  <a:pt x="18419" y="11641"/>
                  <a:pt x="18380" y="11708"/>
                </a:cubicBezTo>
                <a:cubicBezTo>
                  <a:pt x="18259" y="11917"/>
                  <a:pt x="18117" y="12039"/>
                  <a:pt x="18430" y="11881"/>
                </a:cubicBezTo>
              </a:path>
              <a:path w="2456" h="3052">
                <a:moveTo>
                  <a:pt x="18802" y="11683"/>
                </a:moveTo>
                <a:cubicBezTo>
                  <a:pt x="18710" y="11785"/>
                  <a:pt x="18636" y="11815"/>
                  <a:pt x="18653" y="11931"/>
                </a:cubicBezTo>
                <a:cubicBezTo>
                  <a:pt x="18742" y="11914"/>
                  <a:pt x="19150" y="11794"/>
                  <a:pt x="18901" y="11658"/>
                </a:cubicBezTo>
                <a:cubicBezTo>
                  <a:pt x="18843" y="11642"/>
                  <a:pt x="18786" y="11625"/>
                  <a:pt x="18728" y="11609"/>
                </a:cubicBezTo>
              </a:path>
              <a:path w="2456" h="3052">
                <a:moveTo>
                  <a:pt x="16991" y="13370"/>
                </a:moveTo>
                <a:lnTo>
                  <a:pt x="16991" y="13370"/>
                </a:lnTo>
              </a:path>
              <a:path w="2456" h="3052">
                <a:moveTo>
                  <a:pt x="17066" y="13444"/>
                </a:moveTo>
                <a:cubicBezTo>
                  <a:pt x="17092" y="13411"/>
                  <a:pt x="17114" y="13378"/>
                  <a:pt x="17140" y="13345"/>
                </a:cubicBezTo>
                <a:cubicBezTo>
                  <a:pt x="17050" y="13254"/>
                  <a:pt x="16726" y="13421"/>
                  <a:pt x="16619" y="13494"/>
                </a:cubicBezTo>
                <a:cubicBezTo>
                  <a:pt x="16603" y="13519"/>
                  <a:pt x="16586" y="13543"/>
                  <a:pt x="16570" y="13568"/>
                </a:cubicBezTo>
                <a:cubicBezTo>
                  <a:pt x="16664" y="13648"/>
                  <a:pt x="17076" y="13842"/>
                  <a:pt x="16966" y="13990"/>
                </a:cubicBezTo>
                <a:cubicBezTo>
                  <a:pt x="16871" y="14117"/>
                  <a:pt x="16727" y="14093"/>
                  <a:pt x="16619" y="14064"/>
                </a:cubicBezTo>
                <a:cubicBezTo>
                  <a:pt x="16720" y="13921"/>
                  <a:pt x="17058" y="13617"/>
                  <a:pt x="17066" y="13444"/>
                </a:cubicBezTo>
                <a:cubicBezTo>
                  <a:pt x="17049" y="13436"/>
                  <a:pt x="17033" y="13427"/>
                  <a:pt x="17016" y="13419"/>
                </a:cubicBezTo>
              </a:path>
              <a:path w="2456" h="3052">
                <a:moveTo>
                  <a:pt x="17338" y="13370"/>
                </a:moveTo>
                <a:cubicBezTo>
                  <a:pt x="17437" y="13345"/>
                  <a:pt x="17554" y="13298"/>
                  <a:pt x="17661" y="13271"/>
                </a:cubicBezTo>
                <a:cubicBezTo>
                  <a:pt x="17851" y="13224"/>
                  <a:pt x="17853" y="13315"/>
                  <a:pt x="17810" y="13494"/>
                </a:cubicBezTo>
                <a:cubicBezTo>
                  <a:pt x="17795" y="13557"/>
                  <a:pt x="17634" y="13938"/>
                  <a:pt x="17661" y="13965"/>
                </a:cubicBezTo>
              </a:path>
              <a:path w="2456" h="3052">
                <a:moveTo>
                  <a:pt x="18331" y="13122"/>
                </a:moveTo>
                <a:cubicBezTo>
                  <a:pt x="18192" y="13214"/>
                  <a:pt x="18137" y="13293"/>
                  <a:pt x="18207" y="13444"/>
                </a:cubicBezTo>
                <a:cubicBezTo>
                  <a:pt x="18277" y="13428"/>
                  <a:pt x="18632" y="13283"/>
                  <a:pt x="18430" y="13171"/>
                </a:cubicBezTo>
                <a:cubicBezTo>
                  <a:pt x="18306" y="13102"/>
                  <a:pt x="18302" y="13187"/>
                  <a:pt x="18281" y="13146"/>
                </a:cubicBezTo>
                <a:cubicBezTo>
                  <a:pt x="18409" y="13121"/>
                  <a:pt x="18599" y="13044"/>
                  <a:pt x="18703" y="13171"/>
                </a:cubicBezTo>
                <a:cubicBezTo>
                  <a:pt x="18861" y="13363"/>
                  <a:pt x="18459" y="13777"/>
                  <a:pt x="18380" y="13915"/>
                </a:cubicBezTo>
                <a:cubicBezTo>
                  <a:pt x="18344" y="14005"/>
                  <a:pt x="18292" y="14046"/>
                  <a:pt x="18355" y="14039"/>
                </a:cubicBezTo>
              </a:path>
              <a:path w="2456" h="3052">
                <a:moveTo>
                  <a:pt x="18852" y="13717"/>
                </a:moveTo>
                <a:cubicBezTo>
                  <a:pt x="18800" y="13777"/>
                  <a:pt x="18773" y="13822"/>
                  <a:pt x="18752" y="13891"/>
                </a:cubicBezTo>
                <a:cubicBezTo>
                  <a:pt x="18805" y="13894"/>
                  <a:pt x="19111" y="13807"/>
                  <a:pt x="19000" y="13767"/>
                </a:cubicBezTo>
                <a:cubicBezTo>
                  <a:pt x="18959" y="13759"/>
                  <a:pt x="18917" y="13750"/>
                  <a:pt x="18876" y="1374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09880" y="401796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5953" y="11162"/>
                </a:moveTo>
                <a:cubicBezTo>
                  <a:pt x="5767" y="11271"/>
                  <a:pt x="5668" y="11523"/>
                  <a:pt x="5606" y="11733"/>
                </a:cubicBezTo>
                <a:cubicBezTo>
                  <a:pt x="5585" y="11878"/>
                  <a:pt x="5561" y="11912"/>
                  <a:pt x="5631" y="11981"/>
                </a:cubicBezTo>
                <a:cubicBezTo>
                  <a:pt x="5890" y="11929"/>
                  <a:pt x="6024" y="11748"/>
                  <a:pt x="6052" y="11460"/>
                </a:cubicBezTo>
                <a:cubicBezTo>
                  <a:pt x="6066" y="11312"/>
                  <a:pt x="5990" y="11210"/>
                  <a:pt x="5854" y="1118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95360" y="4027320"/>
            <a:ext cx="500400" cy="27792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6449" y="11906"/>
                </a:moveTo>
                <a:cubicBezTo>
                  <a:pt x="6390" y="11915"/>
                  <a:pt x="6389" y="11900"/>
                  <a:pt x="6375" y="11956"/>
                </a:cubicBezTo>
                <a:cubicBezTo>
                  <a:pt x="6407" y="11948"/>
                  <a:pt x="6486" y="11899"/>
                  <a:pt x="6424" y="11881"/>
                </a:cubicBezTo>
                <a:cubicBezTo>
                  <a:pt x="6400" y="11881"/>
                  <a:pt x="6392" y="11881"/>
                  <a:pt x="6424" y="11881"/>
                </a:cubicBezTo>
              </a:path>
              <a:path w="1390" h="770">
                <a:moveTo>
                  <a:pt x="7119" y="11509"/>
                </a:moveTo>
                <a:cubicBezTo>
                  <a:pt x="7104" y="11357"/>
                  <a:pt x="7055" y="11288"/>
                  <a:pt x="6945" y="11187"/>
                </a:cubicBezTo>
                <a:cubicBezTo>
                  <a:pt x="6904" y="11225"/>
                  <a:pt x="6635" y="11597"/>
                  <a:pt x="6871" y="11609"/>
                </a:cubicBezTo>
                <a:cubicBezTo>
                  <a:pt x="7022" y="11617"/>
                  <a:pt x="7193" y="11403"/>
                  <a:pt x="7169" y="11261"/>
                </a:cubicBezTo>
                <a:cubicBezTo>
                  <a:pt x="7161" y="11269"/>
                  <a:pt x="7152" y="11278"/>
                  <a:pt x="7144" y="11286"/>
                </a:cubicBezTo>
                <a:cubicBezTo>
                  <a:pt x="7137" y="11511"/>
                  <a:pt x="7098" y="11714"/>
                  <a:pt x="7069" y="11931"/>
                </a:cubicBezTo>
              </a:path>
              <a:path w="1390" h="770">
                <a:moveTo>
                  <a:pt x="7590" y="11286"/>
                </a:moveTo>
                <a:cubicBezTo>
                  <a:pt x="7520" y="11451"/>
                  <a:pt x="7423" y="11592"/>
                  <a:pt x="7441" y="11782"/>
                </a:cubicBezTo>
                <a:cubicBezTo>
                  <a:pt x="7471" y="11842"/>
                  <a:pt x="7489" y="11865"/>
                  <a:pt x="7541" y="11881"/>
                </a:cubicBezTo>
                <a:cubicBezTo>
                  <a:pt x="7696" y="11778"/>
                  <a:pt x="7738" y="11628"/>
                  <a:pt x="7764" y="11435"/>
                </a:cubicBezTo>
                <a:cubicBezTo>
                  <a:pt x="7768" y="11405"/>
                  <a:pt x="7706" y="11229"/>
                  <a:pt x="7665" y="11261"/>
                </a:cubicBezTo>
                <a:cubicBezTo>
                  <a:pt x="7665" y="11286"/>
                  <a:pt x="7665" y="11294"/>
                  <a:pt x="7665" y="1131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44920" y="3402000"/>
            <a:ext cx="625320" cy="527040"/>
          </a:xfrm>
          <a:custGeom>
            <a:avLst/>
            <a:gdLst/>
            <a:ahLst/>
            <a:rect l="l" t="t" r="r" b="b"/>
            <a:pathLst>
              <a:path w="1738" h="1464">
                <a:moveTo>
                  <a:pt x="11013" y="9599"/>
                </a:moveTo>
                <a:cubicBezTo>
                  <a:pt x="11075" y="9611"/>
                  <a:pt x="11120" y="9624"/>
                  <a:pt x="11187" y="9624"/>
                </a:cubicBezTo>
                <a:cubicBezTo>
                  <a:pt x="11195" y="9624"/>
                  <a:pt x="11204" y="9624"/>
                  <a:pt x="11212" y="9624"/>
                </a:cubicBezTo>
              </a:path>
              <a:path w="1738" h="1464">
                <a:moveTo>
                  <a:pt x="11361" y="9575"/>
                </a:moveTo>
                <a:cubicBezTo>
                  <a:pt x="11386" y="9643"/>
                  <a:pt x="11374" y="9758"/>
                  <a:pt x="11485" y="9723"/>
                </a:cubicBezTo>
                <a:cubicBezTo>
                  <a:pt x="11548" y="9681"/>
                  <a:pt x="11573" y="9678"/>
                  <a:pt x="11559" y="9624"/>
                </a:cubicBezTo>
              </a:path>
              <a:path w="1738" h="1464">
                <a:moveTo>
                  <a:pt x="11559" y="9451"/>
                </a:moveTo>
                <a:cubicBezTo>
                  <a:pt x="11559" y="9551"/>
                  <a:pt x="11581" y="9647"/>
                  <a:pt x="11584" y="9748"/>
                </a:cubicBezTo>
                <a:cubicBezTo>
                  <a:pt x="11585" y="9806"/>
                  <a:pt x="11584" y="9881"/>
                  <a:pt x="11584" y="9823"/>
                </a:cubicBezTo>
              </a:path>
              <a:path w="1738" h="1464">
                <a:moveTo>
                  <a:pt x="10021" y="10641"/>
                </a:moveTo>
                <a:cubicBezTo>
                  <a:pt x="9994" y="10587"/>
                  <a:pt x="9890" y="10573"/>
                  <a:pt x="9847" y="10641"/>
                </a:cubicBezTo>
                <a:cubicBezTo>
                  <a:pt x="9847" y="10658"/>
                  <a:pt x="9847" y="10674"/>
                  <a:pt x="9847" y="10691"/>
                </a:cubicBezTo>
                <a:cubicBezTo>
                  <a:pt x="9938" y="10701"/>
                  <a:pt x="9945" y="10684"/>
                  <a:pt x="10021" y="10616"/>
                </a:cubicBezTo>
                <a:cubicBezTo>
                  <a:pt x="10059" y="10705"/>
                  <a:pt x="10015" y="10803"/>
                  <a:pt x="10046" y="10889"/>
                </a:cubicBezTo>
                <a:cubicBezTo>
                  <a:pt x="10054" y="10889"/>
                  <a:pt x="10063" y="10889"/>
                  <a:pt x="10071" y="10889"/>
                </a:cubicBezTo>
              </a:path>
              <a:path w="1738" h="1464">
                <a:moveTo>
                  <a:pt x="10294" y="10592"/>
                </a:moveTo>
                <a:cubicBezTo>
                  <a:pt x="10240" y="10700"/>
                  <a:pt x="10184" y="10781"/>
                  <a:pt x="10195" y="10889"/>
                </a:cubicBezTo>
                <a:cubicBezTo>
                  <a:pt x="10252" y="10863"/>
                  <a:pt x="10528" y="10715"/>
                  <a:pt x="10344" y="10641"/>
                </a:cubicBezTo>
                <a:cubicBezTo>
                  <a:pt x="10261" y="10641"/>
                  <a:pt x="10228" y="10658"/>
                  <a:pt x="10244" y="10592"/>
                </a:cubicBezTo>
              </a:path>
              <a:path w="1738" h="1464">
                <a:moveTo>
                  <a:pt x="10691" y="10443"/>
                </a:moveTo>
                <a:cubicBezTo>
                  <a:pt x="10641" y="10468"/>
                  <a:pt x="10611" y="10533"/>
                  <a:pt x="10592" y="10592"/>
                </a:cubicBezTo>
                <a:cubicBezTo>
                  <a:pt x="10656" y="10576"/>
                  <a:pt x="10650" y="10473"/>
                  <a:pt x="10716" y="10468"/>
                </a:cubicBezTo>
                <a:cubicBezTo>
                  <a:pt x="10716" y="10476"/>
                  <a:pt x="10716" y="10484"/>
                  <a:pt x="10716" y="10492"/>
                </a:cubicBezTo>
                <a:cubicBezTo>
                  <a:pt x="10832" y="10609"/>
                  <a:pt x="10781" y="10693"/>
                  <a:pt x="10740" y="10840"/>
                </a:cubicBezTo>
                <a:cubicBezTo>
                  <a:pt x="10740" y="10848"/>
                  <a:pt x="10740" y="10856"/>
                  <a:pt x="10740" y="10864"/>
                </a:cubicBezTo>
              </a:path>
              <a:path w="1738" h="1464">
                <a:moveTo>
                  <a:pt x="10864" y="10840"/>
                </a:moveTo>
                <a:cubicBezTo>
                  <a:pt x="10825" y="10879"/>
                  <a:pt x="10809" y="10880"/>
                  <a:pt x="10815" y="10914"/>
                </a:cubicBezTo>
                <a:cubicBezTo>
                  <a:pt x="10840" y="10914"/>
                  <a:pt x="10951" y="10908"/>
                  <a:pt x="10864" y="10864"/>
                </a:cubicBezTo>
                <a:cubicBezTo>
                  <a:pt x="10856" y="10864"/>
                  <a:pt x="10848" y="10864"/>
                  <a:pt x="10840" y="108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036960"/>
            <a:ext cx="339840" cy="419040"/>
          </a:xfrm>
          <a:custGeom>
            <a:avLst/>
            <a:gdLst/>
            <a:ahLst/>
            <a:rect l="l" t="t" r="r" b="b"/>
            <a:pathLst>
              <a:path w="944" h="1166">
                <a:moveTo>
                  <a:pt x="12973" y="8434"/>
                </a:moveTo>
                <a:cubicBezTo>
                  <a:pt x="13036" y="8516"/>
                  <a:pt x="13052" y="8651"/>
                  <a:pt x="13072" y="8756"/>
                </a:cubicBezTo>
                <a:cubicBezTo>
                  <a:pt x="13072" y="8781"/>
                  <a:pt x="13072" y="8789"/>
                  <a:pt x="13072" y="8806"/>
                </a:cubicBezTo>
              </a:path>
              <a:path w="944" h="1166">
                <a:moveTo>
                  <a:pt x="12799" y="8930"/>
                </a:moveTo>
                <a:cubicBezTo>
                  <a:pt x="12984" y="8881"/>
                  <a:pt x="13179" y="8797"/>
                  <a:pt x="13370" y="8781"/>
                </a:cubicBezTo>
                <a:cubicBezTo>
                  <a:pt x="13395" y="8781"/>
                  <a:pt x="13403" y="8781"/>
                  <a:pt x="13419" y="8781"/>
                </a:cubicBezTo>
              </a:path>
              <a:path w="944" h="1166">
                <a:moveTo>
                  <a:pt x="12849" y="9227"/>
                </a:moveTo>
                <a:cubicBezTo>
                  <a:pt x="12962" y="9193"/>
                  <a:pt x="12977" y="9180"/>
                  <a:pt x="13072" y="9227"/>
                </a:cubicBezTo>
                <a:cubicBezTo>
                  <a:pt x="13096" y="9392"/>
                  <a:pt x="13058" y="9570"/>
                  <a:pt x="12849" y="9599"/>
                </a:cubicBezTo>
                <a:cubicBezTo>
                  <a:pt x="12740" y="9578"/>
                  <a:pt x="12704" y="9585"/>
                  <a:pt x="12700" y="9500"/>
                </a:cubicBezTo>
                <a:cubicBezTo>
                  <a:pt x="12755" y="9419"/>
                  <a:pt x="12872" y="9436"/>
                  <a:pt x="12973" y="9451"/>
                </a:cubicBezTo>
                <a:cubicBezTo>
                  <a:pt x="13038" y="9461"/>
                  <a:pt x="13074" y="9509"/>
                  <a:pt x="13097" y="9475"/>
                </a:cubicBezTo>
                <a:cubicBezTo>
                  <a:pt x="13122" y="9434"/>
                  <a:pt x="13146" y="9392"/>
                  <a:pt x="13171" y="9351"/>
                </a:cubicBezTo>
              </a:path>
              <a:path w="944" h="1166">
                <a:moveTo>
                  <a:pt x="13469" y="9054"/>
                </a:moveTo>
                <a:cubicBezTo>
                  <a:pt x="13414" y="9063"/>
                  <a:pt x="13366" y="9093"/>
                  <a:pt x="13345" y="9103"/>
                </a:cubicBezTo>
                <a:cubicBezTo>
                  <a:pt x="13324" y="9113"/>
                  <a:pt x="13281" y="9166"/>
                  <a:pt x="13271" y="9203"/>
                </a:cubicBezTo>
                <a:cubicBezTo>
                  <a:pt x="13271" y="9219"/>
                  <a:pt x="13271" y="9236"/>
                  <a:pt x="13271" y="9252"/>
                </a:cubicBezTo>
                <a:cubicBezTo>
                  <a:pt x="13362" y="9222"/>
                  <a:pt x="13393" y="9203"/>
                  <a:pt x="13494" y="9203"/>
                </a:cubicBezTo>
                <a:cubicBezTo>
                  <a:pt x="13614" y="9203"/>
                  <a:pt x="13619" y="9277"/>
                  <a:pt x="13568" y="9376"/>
                </a:cubicBezTo>
                <a:cubicBezTo>
                  <a:pt x="13514" y="9482"/>
                  <a:pt x="13452" y="9475"/>
                  <a:pt x="13345" y="9475"/>
                </a:cubicBezTo>
                <a:cubicBezTo>
                  <a:pt x="13312" y="9475"/>
                  <a:pt x="13304" y="9467"/>
                  <a:pt x="13320" y="9426"/>
                </a:cubicBezTo>
              </a:path>
              <a:path w="944" h="1166">
                <a:moveTo>
                  <a:pt x="13419" y="9128"/>
                </a:moveTo>
                <a:cubicBezTo>
                  <a:pt x="13419" y="9120"/>
                  <a:pt x="13419" y="9111"/>
                  <a:pt x="13419" y="9103"/>
                </a:cubicBezTo>
                <a:cubicBezTo>
                  <a:pt x="13494" y="9089"/>
                  <a:pt x="13552" y="9032"/>
                  <a:pt x="13618" y="9004"/>
                </a:cubicBezTo>
                <a:cubicBezTo>
                  <a:pt x="13626" y="9004"/>
                  <a:pt x="13635" y="9004"/>
                  <a:pt x="13643" y="900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2880" y="2482920"/>
            <a:ext cx="268200" cy="214200"/>
          </a:xfrm>
          <a:custGeom>
            <a:avLst/>
            <a:gdLst/>
            <a:ahLst/>
            <a:rect l="l" t="t" r="r" b="b"/>
            <a:pathLst>
              <a:path w="745" h="596">
                <a:moveTo>
                  <a:pt x="5854" y="6921"/>
                </a:moveTo>
                <a:cubicBezTo>
                  <a:pt x="5768" y="6857"/>
                  <a:pt x="5702" y="6977"/>
                  <a:pt x="5655" y="7045"/>
                </a:cubicBezTo>
                <a:cubicBezTo>
                  <a:pt x="5596" y="7130"/>
                  <a:pt x="5396" y="7399"/>
                  <a:pt x="5556" y="7466"/>
                </a:cubicBezTo>
                <a:cubicBezTo>
                  <a:pt x="5743" y="7545"/>
                  <a:pt x="5929" y="7393"/>
                  <a:pt x="5978" y="7218"/>
                </a:cubicBezTo>
                <a:cubicBezTo>
                  <a:pt x="6017" y="7080"/>
                  <a:pt x="5946" y="6983"/>
                  <a:pt x="5804" y="6995"/>
                </a:cubicBezTo>
                <a:cubicBezTo>
                  <a:pt x="5764" y="7015"/>
                  <a:pt x="5758" y="7024"/>
                  <a:pt x="5730" y="7020"/>
                </a:cubicBezTo>
              </a:path>
              <a:path w="745" h="596">
                <a:moveTo>
                  <a:pt x="6201" y="7441"/>
                </a:moveTo>
                <a:cubicBezTo>
                  <a:pt x="6179" y="7452"/>
                  <a:pt x="6211" y="7465"/>
                  <a:pt x="6251" y="7367"/>
                </a:cubicBezTo>
                <a:cubicBezTo>
                  <a:pt x="6223" y="7367"/>
                  <a:pt x="6212" y="7369"/>
                  <a:pt x="6201" y="739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84280" y="2463840"/>
            <a:ext cx="357480" cy="179280"/>
          </a:xfrm>
          <a:custGeom>
            <a:avLst/>
            <a:gdLst/>
            <a:ahLst/>
            <a:rect l="l" t="t" r="r" b="b"/>
            <a:pathLst>
              <a:path w="993" h="497">
                <a:moveTo>
                  <a:pt x="6623" y="6945"/>
                </a:moveTo>
                <a:cubicBezTo>
                  <a:pt x="6650" y="6891"/>
                  <a:pt x="6768" y="6853"/>
                  <a:pt x="6821" y="6921"/>
                </a:cubicBezTo>
                <a:cubicBezTo>
                  <a:pt x="6869" y="6983"/>
                  <a:pt x="6755" y="7045"/>
                  <a:pt x="6722" y="7069"/>
                </a:cubicBezTo>
                <a:cubicBezTo>
                  <a:pt x="6809" y="7078"/>
                  <a:pt x="6996" y="7107"/>
                  <a:pt x="6896" y="7243"/>
                </a:cubicBezTo>
                <a:cubicBezTo>
                  <a:pt x="6835" y="7326"/>
                  <a:pt x="6711" y="7311"/>
                  <a:pt x="6623" y="7317"/>
                </a:cubicBezTo>
              </a:path>
              <a:path w="993" h="497">
                <a:moveTo>
                  <a:pt x="7367" y="6846"/>
                </a:moveTo>
                <a:cubicBezTo>
                  <a:pt x="7221" y="6878"/>
                  <a:pt x="7170" y="6978"/>
                  <a:pt x="7119" y="7119"/>
                </a:cubicBezTo>
                <a:cubicBezTo>
                  <a:pt x="7050" y="7310"/>
                  <a:pt x="7197" y="7379"/>
                  <a:pt x="7367" y="7317"/>
                </a:cubicBezTo>
                <a:cubicBezTo>
                  <a:pt x="7518" y="7261"/>
                  <a:pt x="7675" y="7124"/>
                  <a:pt x="7565" y="6970"/>
                </a:cubicBezTo>
                <a:cubicBezTo>
                  <a:pt x="7511" y="6894"/>
                  <a:pt x="7453" y="6871"/>
                  <a:pt x="7367" y="687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10080" y="5634000"/>
            <a:ext cx="268200" cy="206280"/>
          </a:xfrm>
          <a:custGeom>
            <a:avLst/>
            <a:gdLst/>
            <a:ahLst/>
            <a:rect l="l" t="t" r="r" b="b"/>
            <a:pathLst>
              <a:path w="746" h="571">
                <a:moveTo>
                  <a:pt x="12526" y="16024"/>
                </a:moveTo>
                <a:cubicBezTo>
                  <a:pt x="12570" y="16085"/>
                  <a:pt x="12611" y="16149"/>
                  <a:pt x="12626" y="16222"/>
                </a:cubicBezTo>
              </a:path>
              <a:path w="746" h="571">
                <a:moveTo>
                  <a:pt x="13146" y="15652"/>
                </a:moveTo>
                <a:cubicBezTo>
                  <a:pt x="13121" y="15678"/>
                  <a:pt x="12982" y="15889"/>
                  <a:pt x="13146" y="15875"/>
                </a:cubicBezTo>
                <a:cubicBezTo>
                  <a:pt x="13282" y="15863"/>
                  <a:pt x="13270" y="15726"/>
                  <a:pt x="13221" y="1565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10080" y="5634000"/>
            <a:ext cx="303120" cy="295200"/>
          </a:xfrm>
          <a:custGeom>
            <a:avLst/>
            <a:gdLst/>
            <a:ahLst/>
            <a:rect l="l" t="t" r="r" b="b"/>
            <a:pathLst>
              <a:path w="845" h="819">
                <a:moveTo>
                  <a:pt x="12626" y="15999"/>
                </a:moveTo>
                <a:cubicBezTo>
                  <a:pt x="12600" y="16078"/>
                  <a:pt x="12576" y="16165"/>
                  <a:pt x="12551" y="16247"/>
                </a:cubicBezTo>
                <a:cubicBezTo>
                  <a:pt x="12531" y="16288"/>
                  <a:pt x="12512" y="16304"/>
                  <a:pt x="12551" y="16297"/>
                </a:cubicBezTo>
              </a:path>
              <a:path w="845" h="819">
                <a:moveTo>
                  <a:pt x="12874" y="16247"/>
                </a:moveTo>
                <a:cubicBezTo>
                  <a:pt x="12850" y="16224"/>
                  <a:pt x="12881" y="16231"/>
                  <a:pt x="12923" y="16197"/>
                </a:cubicBezTo>
                <a:cubicBezTo>
                  <a:pt x="12923" y="16285"/>
                  <a:pt x="12921" y="16381"/>
                  <a:pt x="12849" y="16446"/>
                </a:cubicBezTo>
                <a:cubicBezTo>
                  <a:pt x="12824" y="16446"/>
                  <a:pt x="12816" y="16446"/>
                  <a:pt x="12824" y="16470"/>
                </a:cubicBezTo>
                <a:cubicBezTo>
                  <a:pt x="12908" y="16456"/>
                  <a:pt x="12995" y="16429"/>
                  <a:pt x="13072" y="16396"/>
                </a:cubicBezTo>
              </a:path>
              <a:path w="845" h="819">
                <a:moveTo>
                  <a:pt x="13246" y="16173"/>
                </a:moveTo>
                <a:cubicBezTo>
                  <a:pt x="13209" y="16283"/>
                  <a:pt x="13196" y="16314"/>
                  <a:pt x="13196" y="16421"/>
                </a:cubicBezTo>
                <a:cubicBezTo>
                  <a:pt x="13237" y="16414"/>
                  <a:pt x="13468" y="16344"/>
                  <a:pt x="13370" y="16247"/>
                </a:cubicBezTo>
                <a:cubicBezTo>
                  <a:pt x="13313" y="16247"/>
                  <a:pt x="13292" y="16242"/>
                  <a:pt x="13271" y="16197"/>
                </a:cubicBezTo>
              </a:path>
              <a:path w="845" h="819">
                <a:moveTo>
                  <a:pt x="12898" y="16073"/>
                </a:moveTo>
                <a:cubicBezTo>
                  <a:pt x="12919" y="16012"/>
                  <a:pt x="13105" y="16013"/>
                  <a:pt x="13171" y="16024"/>
                </a:cubicBezTo>
                <a:cubicBezTo>
                  <a:pt x="13194" y="16047"/>
                  <a:pt x="13198" y="16055"/>
                  <a:pt x="13221" y="16049"/>
                </a:cubicBezTo>
              </a:path>
              <a:path w="845" h="819">
                <a:moveTo>
                  <a:pt x="12799" y="15677"/>
                </a:moveTo>
                <a:cubicBezTo>
                  <a:pt x="12833" y="15670"/>
                  <a:pt x="12864" y="15659"/>
                  <a:pt x="12898" y="15652"/>
                </a:cubicBezTo>
                <a:cubicBezTo>
                  <a:pt x="12923" y="15750"/>
                  <a:pt x="12880" y="15754"/>
                  <a:pt x="12799" y="15825"/>
                </a:cubicBezTo>
                <a:cubicBezTo>
                  <a:pt x="12791" y="15833"/>
                  <a:pt x="12782" y="15842"/>
                  <a:pt x="12774" y="15850"/>
                </a:cubicBezTo>
                <a:cubicBezTo>
                  <a:pt x="12840" y="15850"/>
                  <a:pt x="12894" y="15840"/>
                  <a:pt x="12948" y="15825"/>
                </a:cubicBezTo>
                <a:cubicBezTo>
                  <a:pt x="12956" y="15825"/>
                  <a:pt x="12965" y="15825"/>
                  <a:pt x="12973" y="1582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5599080"/>
            <a:ext cx="295200" cy="393840"/>
          </a:xfrm>
          <a:custGeom>
            <a:avLst/>
            <a:gdLst/>
            <a:ahLst/>
            <a:rect l="l" t="t" r="r" b="b"/>
            <a:pathLst>
              <a:path w="820" h="1092">
                <a:moveTo>
                  <a:pt x="13841" y="16321"/>
                </a:moveTo>
                <a:cubicBezTo>
                  <a:pt x="13808" y="16321"/>
                  <a:pt x="13800" y="16313"/>
                  <a:pt x="13816" y="16272"/>
                </a:cubicBezTo>
                <a:cubicBezTo>
                  <a:pt x="13858" y="16369"/>
                  <a:pt x="13840" y="16518"/>
                  <a:pt x="13816" y="16619"/>
                </a:cubicBezTo>
                <a:cubicBezTo>
                  <a:pt x="13808" y="16627"/>
                  <a:pt x="13799" y="16636"/>
                  <a:pt x="13791" y="16644"/>
                </a:cubicBezTo>
              </a:path>
              <a:path w="820" h="1092">
                <a:moveTo>
                  <a:pt x="14064" y="16321"/>
                </a:moveTo>
                <a:cubicBezTo>
                  <a:pt x="14042" y="16430"/>
                  <a:pt x="14039" y="16456"/>
                  <a:pt x="14015" y="16520"/>
                </a:cubicBezTo>
                <a:cubicBezTo>
                  <a:pt x="14118" y="16562"/>
                  <a:pt x="14236" y="16614"/>
                  <a:pt x="14288" y="16470"/>
                </a:cubicBezTo>
                <a:cubicBezTo>
                  <a:pt x="14340" y="16327"/>
                  <a:pt x="14187" y="16346"/>
                  <a:pt x="14114" y="16371"/>
                </a:cubicBezTo>
              </a:path>
              <a:path w="820" h="1092">
                <a:moveTo>
                  <a:pt x="14486" y="16272"/>
                </a:moveTo>
                <a:cubicBezTo>
                  <a:pt x="14439" y="16377"/>
                  <a:pt x="14436" y="16455"/>
                  <a:pt x="14436" y="16570"/>
                </a:cubicBezTo>
                <a:cubicBezTo>
                  <a:pt x="14436" y="16578"/>
                  <a:pt x="14436" y="16586"/>
                  <a:pt x="14436" y="16594"/>
                </a:cubicBezTo>
                <a:cubicBezTo>
                  <a:pt x="14505" y="16583"/>
                  <a:pt x="14698" y="16535"/>
                  <a:pt x="14585" y="16421"/>
                </a:cubicBezTo>
                <a:cubicBezTo>
                  <a:pt x="14520" y="16377"/>
                  <a:pt x="14506" y="16366"/>
                  <a:pt x="14461" y="16346"/>
                </a:cubicBezTo>
              </a:path>
              <a:path w="820" h="1092">
                <a:moveTo>
                  <a:pt x="13866" y="16123"/>
                </a:moveTo>
                <a:cubicBezTo>
                  <a:pt x="14075" y="16176"/>
                  <a:pt x="14271" y="16173"/>
                  <a:pt x="14486" y="16173"/>
                </a:cubicBezTo>
                <a:cubicBezTo>
                  <a:pt x="14543" y="16173"/>
                  <a:pt x="14568" y="16156"/>
                  <a:pt x="14560" y="16197"/>
                </a:cubicBezTo>
              </a:path>
              <a:path w="820" h="1092">
                <a:moveTo>
                  <a:pt x="13816" y="15677"/>
                </a:moveTo>
                <a:cubicBezTo>
                  <a:pt x="13816" y="15652"/>
                  <a:pt x="13816" y="15644"/>
                  <a:pt x="13841" y="15652"/>
                </a:cubicBezTo>
                <a:cubicBezTo>
                  <a:pt x="13841" y="15687"/>
                  <a:pt x="13816" y="15811"/>
                  <a:pt x="13866" y="15825"/>
                </a:cubicBezTo>
                <a:cubicBezTo>
                  <a:pt x="13925" y="15841"/>
                  <a:pt x="13984" y="15810"/>
                  <a:pt x="14039" y="15801"/>
                </a:cubicBezTo>
              </a:path>
              <a:path w="820" h="1092">
                <a:moveTo>
                  <a:pt x="14089" y="15577"/>
                </a:moveTo>
                <a:cubicBezTo>
                  <a:pt x="14089" y="15705"/>
                  <a:pt x="14072" y="15823"/>
                  <a:pt x="14064" y="15949"/>
                </a:cubicBezTo>
                <a:cubicBezTo>
                  <a:pt x="14064" y="15957"/>
                  <a:pt x="14064" y="15966"/>
                  <a:pt x="14064" y="15974"/>
                </a:cubicBezTo>
              </a:path>
              <a:path w="820" h="1092">
                <a:moveTo>
                  <a:pt x="14362" y="15553"/>
                </a:moveTo>
                <a:cubicBezTo>
                  <a:pt x="14258" y="15657"/>
                  <a:pt x="14289" y="15779"/>
                  <a:pt x="14312" y="15925"/>
                </a:cubicBezTo>
                <a:cubicBezTo>
                  <a:pt x="14430" y="15878"/>
                  <a:pt x="14586" y="15747"/>
                  <a:pt x="14461" y="15602"/>
                </a:cubicBezTo>
                <a:cubicBezTo>
                  <a:pt x="14388" y="15577"/>
                  <a:pt x="14364" y="15569"/>
                  <a:pt x="14312" y="1557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5120" y="5626080"/>
            <a:ext cx="795240" cy="285840"/>
          </a:xfrm>
          <a:custGeom>
            <a:avLst/>
            <a:gdLst/>
            <a:ahLst/>
            <a:rect l="l" t="t" r="r" b="b"/>
            <a:pathLst>
              <a:path w="2208" h="795">
                <a:moveTo>
                  <a:pt x="16942" y="15677"/>
                </a:moveTo>
                <a:cubicBezTo>
                  <a:pt x="16974" y="15743"/>
                  <a:pt x="16878" y="15960"/>
                  <a:pt x="16818" y="16049"/>
                </a:cubicBezTo>
                <a:cubicBezTo>
                  <a:pt x="16810" y="16049"/>
                  <a:pt x="16801" y="16049"/>
                  <a:pt x="16793" y="16049"/>
                </a:cubicBezTo>
                <a:cubicBezTo>
                  <a:pt x="16910" y="16036"/>
                  <a:pt x="17019" y="16003"/>
                  <a:pt x="17140" y="15999"/>
                </a:cubicBezTo>
                <a:cubicBezTo>
                  <a:pt x="17257" y="15995"/>
                  <a:pt x="17122" y="16039"/>
                  <a:pt x="17239" y="15999"/>
                </a:cubicBezTo>
              </a:path>
              <a:path w="2208" h="795">
                <a:moveTo>
                  <a:pt x="17239" y="15627"/>
                </a:moveTo>
                <a:cubicBezTo>
                  <a:pt x="17239" y="15840"/>
                  <a:pt x="17236" y="16060"/>
                  <a:pt x="17214" y="16272"/>
                </a:cubicBezTo>
                <a:cubicBezTo>
                  <a:pt x="17196" y="16363"/>
                  <a:pt x="17188" y="16370"/>
                  <a:pt x="17190" y="16421"/>
                </a:cubicBezTo>
              </a:path>
              <a:path w="2208" h="795">
                <a:moveTo>
                  <a:pt x="17661" y="15726"/>
                </a:moveTo>
                <a:cubicBezTo>
                  <a:pt x="17594" y="15896"/>
                  <a:pt x="17439" y="16169"/>
                  <a:pt x="17587" y="16346"/>
                </a:cubicBezTo>
                <a:cubicBezTo>
                  <a:pt x="17620" y="16363"/>
                  <a:pt x="17653" y="16379"/>
                  <a:pt x="17686" y="16396"/>
                </a:cubicBezTo>
                <a:cubicBezTo>
                  <a:pt x="17868" y="16280"/>
                  <a:pt x="18029" y="16080"/>
                  <a:pt x="17934" y="15825"/>
                </a:cubicBezTo>
                <a:cubicBezTo>
                  <a:pt x="17888" y="15703"/>
                  <a:pt x="17738" y="15705"/>
                  <a:pt x="17636" y="15677"/>
                </a:cubicBezTo>
              </a:path>
              <a:path w="2208" h="795">
                <a:moveTo>
                  <a:pt x="18331" y="15627"/>
                </a:moveTo>
                <a:cubicBezTo>
                  <a:pt x="18235" y="15684"/>
                  <a:pt x="18223" y="15790"/>
                  <a:pt x="18207" y="15900"/>
                </a:cubicBezTo>
                <a:cubicBezTo>
                  <a:pt x="18341" y="15909"/>
                  <a:pt x="18509" y="15854"/>
                  <a:pt x="18380" y="15677"/>
                </a:cubicBezTo>
                <a:cubicBezTo>
                  <a:pt x="18355" y="15660"/>
                  <a:pt x="18331" y="15644"/>
                  <a:pt x="18306" y="15627"/>
                </a:cubicBezTo>
                <a:cubicBezTo>
                  <a:pt x="18223" y="15655"/>
                  <a:pt x="18381" y="15719"/>
                  <a:pt x="18405" y="15726"/>
                </a:cubicBezTo>
                <a:cubicBezTo>
                  <a:pt x="18568" y="15771"/>
                  <a:pt x="18615" y="15723"/>
                  <a:pt x="18752" y="15677"/>
                </a:cubicBezTo>
                <a:cubicBezTo>
                  <a:pt x="18703" y="15874"/>
                  <a:pt x="18579" y="16016"/>
                  <a:pt x="18455" y="16173"/>
                </a:cubicBezTo>
                <a:cubicBezTo>
                  <a:pt x="18377" y="16270"/>
                  <a:pt x="18359" y="16280"/>
                  <a:pt x="18331" y="16346"/>
                </a:cubicBezTo>
              </a:path>
              <a:path w="2208" h="795">
                <a:moveTo>
                  <a:pt x="18876" y="15999"/>
                </a:moveTo>
                <a:cubicBezTo>
                  <a:pt x="18806" y="16082"/>
                  <a:pt x="18773" y="16117"/>
                  <a:pt x="18752" y="16222"/>
                </a:cubicBezTo>
                <a:cubicBezTo>
                  <a:pt x="18784" y="16216"/>
                  <a:pt x="19102" y="16099"/>
                  <a:pt x="19000" y="16024"/>
                </a:cubicBezTo>
                <a:cubicBezTo>
                  <a:pt x="18925" y="16024"/>
                  <a:pt x="18899" y="16024"/>
                  <a:pt x="18852" y="1604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47880" y="5705640"/>
            <a:ext cx="716040" cy="241200"/>
          </a:xfrm>
          <a:custGeom>
            <a:avLst/>
            <a:gdLst/>
            <a:ahLst/>
            <a:rect l="l" t="t" r="r" b="b"/>
            <a:pathLst>
              <a:path w="1985" h="671">
                <a:moveTo>
                  <a:pt x="5507" y="15900"/>
                </a:moveTo>
                <a:cubicBezTo>
                  <a:pt x="5507" y="15957"/>
                  <a:pt x="5511" y="15973"/>
                  <a:pt x="5482" y="15999"/>
                </a:cubicBezTo>
                <a:cubicBezTo>
                  <a:pt x="5324" y="16143"/>
                  <a:pt x="5210" y="16300"/>
                  <a:pt x="5135" y="16495"/>
                </a:cubicBezTo>
                <a:cubicBezTo>
                  <a:pt x="5351" y="16523"/>
                  <a:pt x="5458" y="16506"/>
                  <a:pt x="5606" y="16321"/>
                </a:cubicBezTo>
                <a:cubicBezTo>
                  <a:pt x="5716" y="16184"/>
                  <a:pt x="5731" y="16007"/>
                  <a:pt x="5556" y="15974"/>
                </a:cubicBezTo>
                <a:cubicBezTo>
                  <a:pt x="5548" y="15974"/>
                  <a:pt x="5539" y="15974"/>
                  <a:pt x="5531" y="15974"/>
                </a:cubicBezTo>
              </a:path>
              <a:path w="1985" h="671">
                <a:moveTo>
                  <a:pt x="5854" y="16346"/>
                </a:moveTo>
                <a:cubicBezTo>
                  <a:pt x="5833" y="16396"/>
                  <a:pt x="5829" y="16398"/>
                  <a:pt x="5829" y="16446"/>
                </a:cubicBezTo>
              </a:path>
              <a:path w="1985" h="671">
                <a:moveTo>
                  <a:pt x="6201" y="15999"/>
                </a:moveTo>
                <a:cubicBezTo>
                  <a:pt x="6162" y="16081"/>
                  <a:pt x="6122" y="16145"/>
                  <a:pt x="6102" y="16222"/>
                </a:cubicBezTo>
                <a:cubicBezTo>
                  <a:pt x="6225" y="16197"/>
                  <a:pt x="6340" y="16160"/>
                  <a:pt x="6474" y="16173"/>
                </a:cubicBezTo>
                <a:cubicBezTo>
                  <a:pt x="6541" y="16195"/>
                  <a:pt x="6562" y="16209"/>
                  <a:pt x="6573" y="16148"/>
                </a:cubicBezTo>
              </a:path>
              <a:path w="1985" h="671">
                <a:moveTo>
                  <a:pt x="6598" y="15850"/>
                </a:moveTo>
                <a:cubicBezTo>
                  <a:pt x="6541" y="16056"/>
                  <a:pt x="6472" y="16260"/>
                  <a:pt x="6449" y="16470"/>
                </a:cubicBezTo>
              </a:path>
              <a:path w="1985" h="671">
                <a:moveTo>
                  <a:pt x="6945" y="15875"/>
                </a:moveTo>
                <a:cubicBezTo>
                  <a:pt x="6803" y="15975"/>
                  <a:pt x="6680" y="16130"/>
                  <a:pt x="6697" y="16321"/>
                </a:cubicBezTo>
                <a:cubicBezTo>
                  <a:pt x="6714" y="16354"/>
                  <a:pt x="6730" y="16388"/>
                  <a:pt x="6747" y="16421"/>
                </a:cubicBezTo>
                <a:cubicBezTo>
                  <a:pt x="6949" y="16376"/>
                  <a:pt x="7162" y="16236"/>
                  <a:pt x="7119" y="15974"/>
                </a:cubicBezTo>
                <a:cubicBezTo>
                  <a:pt x="7094" y="15825"/>
                  <a:pt x="6961" y="15861"/>
                  <a:pt x="6871" y="15875"/>
                </a:cubicBezTo>
              </a:path>
              <a:path w="1985" h="671">
                <a:moveTo>
                  <a:pt x="5879" y="16346"/>
                </a:moveTo>
                <a:cubicBezTo>
                  <a:pt x="5841" y="16359"/>
                  <a:pt x="5854" y="16376"/>
                  <a:pt x="5854" y="16421"/>
                </a:cubicBezTo>
                <a:cubicBezTo>
                  <a:pt x="5871" y="16409"/>
                  <a:pt x="5914" y="16346"/>
                  <a:pt x="5879" y="16371"/>
                </a:cubicBezTo>
                <a:cubicBezTo>
                  <a:pt x="5871" y="16379"/>
                  <a:pt x="5862" y="16388"/>
                  <a:pt x="5854" y="163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19680" y="305424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0914" y="8483"/>
                </a:moveTo>
                <a:cubicBezTo>
                  <a:pt x="10906" y="8491"/>
                  <a:pt x="10897" y="8500"/>
                  <a:pt x="10889" y="850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3960" y="318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013" y="8855"/>
                </a:moveTo>
                <a:lnTo>
                  <a:pt x="11013" y="8855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1320" y="3027240"/>
            <a:ext cx="17640" cy="115920"/>
          </a:xfrm>
          <a:custGeom>
            <a:avLst/>
            <a:gdLst/>
            <a:ahLst/>
            <a:rect l="l" t="t" r="r" b="b"/>
            <a:pathLst>
              <a:path w="50" h="323">
                <a:moveTo>
                  <a:pt x="11336" y="8409"/>
                </a:moveTo>
                <a:cubicBezTo>
                  <a:pt x="11346" y="8518"/>
                  <a:pt x="11375" y="8623"/>
                  <a:pt x="11385" y="873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27320" y="340200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11212" y="9451"/>
                </a:moveTo>
                <a:cubicBezTo>
                  <a:pt x="11171" y="9451"/>
                  <a:pt x="11162" y="9467"/>
                  <a:pt x="11187" y="952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27320" y="3527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187" y="9798"/>
                </a:moveTo>
                <a:lnTo>
                  <a:pt x="11187" y="9798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4920" y="4232160"/>
            <a:ext cx="27000" cy="98640"/>
          </a:xfrm>
          <a:custGeom>
            <a:avLst/>
            <a:gdLst/>
            <a:ahLst/>
            <a:rect l="l" t="t" r="r" b="b"/>
            <a:pathLst>
              <a:path w="75" h="274">
                <a:moveTo>
                  <a:pt x="13171" y="11757"/>
                </a:moveTo>
                <a:cubicBezTo>
                  <a:pt x="13137" y="11854"/>
                  <a:pt x="13123" y="11934"/>
                  <a:pt x="13097" y="1203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67200" y="4187880"/>
            <a:ext cx="61920" cy="190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3519" y="11683"/>
                </a:moveTo>
                <a:cubicBezTo>
                  <a:pt x="13605" y="11683"/>
                  <a:pt x="13641" y="11677"/>
                  <a:pt x="13692" y="1163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29120" y="41878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692" y="11633"/>
                </a:moveTo>
                <a:lnTo>
                  <a:pt x="13692" y="1163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20960" y="3786120"/>
            <a:ext cx="108000" cy="15264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8037" y="10567"/>
                </a:moveTo>
                <a:cubicBezTo>
                  <a:pt x="8027" y="10538"/>
                  <a:pt x="7996" y="10503"/>
                  <a:pt x="7962" y="10542"/>
                </a:cubicBezTo>
                <a:cubicBezTo>
                  <a:pt x="7857" y="10664"/>
                  <a:pt x="7853" y="10763"/>
                  <a:pt x="7838" y="10914"/>
                </a:cubicBezTo>
                <a:cubicBezTo>
                  <a:pt x="7978" y="10925"/>
                  <a:pt x="8122" y="10870"/>
                  <a:pt x="8136" y="10691"/>
                </a:cubicBezTo>
                <a:cubicBezTo>
                  <a:pt x="8142" y="10612"/>
                  <a:pt x="7987" y="10568"/>
                  <a:pt x="7987" y="105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90880" y="3884760"/>
            <a:ext cx="9360" cy="17280"/>
          </a:xfrm>
          <a:custGeom>
            <a:avLst/>
            <a:gdLst/>
            <a:ahLst/>
            <a:rect l="l" t="t" r="r" b="b"/>
            <a:pathLst>
              <a:path w="25" h="51">
                <a:moveTo>
                  <a:pt x="8310" y="10790"/>
                </a:moveTo>
                <a:cubicBezTo>
                  <a:pt x="8310" y="10818"/>
                  <a:pt x="8312" y="10829"/>
                  <a:pt x="8334" y="1084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62160" y="3768840"/>
            <a:ext cx="73080" cy="142920"/>
          </a:xfrm>
          <a:custGeom>
            <a:avLst/>
            <a:gdLst/>
            <a:ahLst/>
            <a:rect l="l" t="t" r="r" b="b"/>
            <a:pathLst>
              <a:path w="199" h="397">
                <a:moveTo>
                  <a:pt x="8706" y="10542"/>
                </a:moveTo>
                <a:cubicBezTo>
                  <a:pt x="8706" y="10517"/>
                  <a:pt x="8706" y="10493"/>
                  <a:pt x="8706" y="10468"/>
                </a:cubicBezTo>
                <a:cubicBezTo>
                  <a:pt x="8581" y="10468"/>
                  <a:pt x="8541" y="10484"/>
                  <a:pt x="8508" y="10616"/>
                </a:cubicBezTo>
                <a:cubicBezTo>
                  <a:pt x="8508" y="10633"/>
                  <a:pt x="8508" y="10649"/>
                  <a:pt x="8508" y="10666"/>
                </a:cubicBezTo>
                <a:cubicBezTo>
                  <a:pt x="8602" y="10656"/>
                  <a:pt x="8664" y="10637"/>
                  <a:pt x="8706" y="10542"/>
                </a:cubicBezTo>
                <a:cubicBezTo>
                  <a:pt x="8706" y="10534"/>
                  <a:pt x="8706" y="10525"/>
                  <a:pt x="8706" y="10517"/>
                </a:cubicBezTo>
                <a:cubicBezTo>
                  <a:pt x="8706" y="10633"/>
                  <a:pt x="8706" y="10748"/>
                  <a:pt x="8706" y="108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17880" y="3946680"/>
            <a:ext cx="366840" cy="54000"/>
          </a:xfrm>
          <a:custGeom>
            <a:avLst/>
            <a:gdLst/>
            <a:ahLst/>
            <a:rect l="l" t="t" r="r" b="b"/>
            <a:pathLst>
              <a:path w="1018" h="149">
                <a:moveTo>
                  <a:pt x="8384" y="10964"/>
                </a:moveTo>
                <a:cubicBezTo>
                  <a:pt x="8425" y="11064"/>
                  <a:pt x="8494" y="11099"/>
                  <a:pt x="8607" y="11112"/>
                </a:cubicBezTo>
                <a:cubicBezTo>
                  <a:pt x="8644" y="11116"/>
                  <a:pt x="8882" y="11113"/>
                  <a:pt x="8905" y="11063"/>
                </a:cubicBezTo>
                <a:cubicBezTo>
                  <a:pt x="8911" y="11049"/>
                  <a:pt x="8930" y="10954"/>
                  <a:pt x="8930" y="11013"/>
                </a:cubicBezTo>
                <a:cubicBezTo>
                  <a:pt x="8930" y="11123"/>
                  <a:pt x="9021" y="11109"/>
                  <a:pt x="9103" y="11112"/>
                </a:cubicBezTo>
                <a:cubicBezTo>
                  <a:pt x="9208" y="11115"/>
                  <a:pt x="9274" y="11084"/>
                  <a:pt x="9351" y="11013"/>
                </a:cubicBezTo>
                <a:cubicBezTo>
                  <a:pt x="9376" y="10988"/>
                  <a:pt x="9384" y="10980"/>
                  <a:pt x="9401" y="109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1160" y="3821040"/>
            <a:ext cx="71640" cy="10008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9103" y="10641"/>
                </a:moveTo>
                <a:cubicBezTo>
                  <a:pt x="9103" y="10579"/>
                  <a:pt x="9070" y="10705"/>
                  <a:pt x="9054" y="10765"/>
                </a:cubicBezTo>
                <a:cubicBezTo>
                  <a:pt x="9046" y="10798"/>
                  <a:pt x="9037" y="10831"/>
                  <a:pt x="9029" y="10864"/>
                </a:cubicBezTo>
                <a:cubicBezTo>
                  <a:pt x="9134" y="10879"/>
                  <a:pt x="9206" y="10917"/>
                  <a:pt x="9227" y="10790"/>
                </a:cubicBezTo>
                <a:cubicBezTo>
                  <a:pt x="9240" y="10709"/>
                  <a:pt x="9185" y="10723"/>
                  <a:pt x="9128" y="1071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848040"/>
            <a:ext cx="63360" cy="19080"/>
          </a:xfrm>
          <a:custGeom>
            <a:avLst/>
            <a:gdLst/>
            <a:ahLst/>
            <a:rect l="l" t="t" r="r" b="b"/>
            <a:pathLst>
              <a:path w="175" h="50">
                <a:moveTo>
                  <a:pt x="9500" y="10740"/>
                </a:moveTo>
                <a:cubicBezTo>
                  <a:pt x="9557" y="10708"/>
                  <a:pt x="9607" y="10698"/>
                  <a:pt x="9674" y="1069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3884760"/>
            <a:ext cx="7128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9525" y="10815"/>
                </a:moveTo>
                <a:cubicBezTo>
                  <a:pt x="9601" y="10815"/>
                  <a:pt x="9647" y="10805"/>
                  <a:pt x="9723" y="1079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00280" y="3884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723" y="10790"/>
                </a:moveTo>
                <a:lnTo>
                  <a:pt x="9723" y="10790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27280" y="4626000"/>
            <a:ext cx="125640" cy="204840"/>
          </a:xfrm>
          <a:custGeom>
            <a:avLst/>
            <a:gdLst/>
            <a:ahLst/>
            <a:rect l="l" t="t" r="r" b="b"/>
            <a:pathLst>
              <a:path w="348" h="571">
                <a:moveTo>
                  <a:pt x="10120" y="12923"/>
                </a:moveTo>
                <a:cubicBezTo>
                  <a:pt x="10222" y="12856"/>
                  <a:pt x="10043" y="12845"/>
                  <a:pt x="9996" y="12849"/>
                </a:cubicBezTo>
                <a:cubicBezTo>
                  <a:pt x="9830" y="12864"/>
                  <a:pt x="9854" y="12860"/>
                  <a:pt x="9798" y="12973"/>
                </a:cubicBezTo>
                <a:cubicBezTo>
                  <a:pt x="9887" y="13069"/>
                  <a:pt x="10154" y="13175"/>
                  <a:pt x="10145" y="13320"/>
                </a:cubicBezTo>
                <a:cubicBezTo>
                  <a:pt x="10135" y="13486"/>
                  <a:pt x="9875" y="13409"/>
                  <a:pt x="9823" y="13370"/>
                </a:cubicBezTo>
                <a:cubicBezTo>
                  <a:pt x="9859" y="13289"/>
                  <a:pt x="10079" y="13056"/>
                  <a:pt x="10071" y="12998"/>
                </a:cubicBezTo>
                <a:cubicBezTo>
                  <a:pt x="10038" y="12998"/>
                  <a:pt x="10021" y="12998"/>
                  <a:pt x="9996" y="1299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87840" y="4643280"/>
            <a:ext cx="187200" cy="16992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10244" y="13022"/>
                </a:moveTo>
                <a:cubicBezTo>
                  <a:pt x="10311" y="12974"/>
                  <a:pt x="10464" y="12940"/>
                  <a:pt x="10542" y="12923"/>
                </a:cubicBezTo>
                <a:cubicBezTo>
                  <a:pt x="10674" y="12904"/>
                  <a:pt x="10690" y="12896"/>
                  <a:pt x="10765" y="12898"/>
                </a:cubicBezTo>
                <a:cubicBezTo>
                  <a:pt x="10740" y="13050"/>
                  <a:pt x="10674" y="13193"/>
                  <a:pt x="10641" y="13345"/>
                </a:cubicBezTo>
                <a:cubicBezTo>
                  <a:pt x="10641" y="13353"/>
                  <a:pt x="10641" y="13362"/>
                  <a:pt x="10641" y="1337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75000" y="4884840"/>
            <a:ext cx="581040" cy="44280"/>
          </a:xfrm>
          <a:custGeom>
            <a:avLst/>
            <a:gdLst/>
            <a:ahLst/>
            <a:rect l="l" t="t" r="r" b="b"/>
            <a:pathLst>
              <a:path w="1613" h="125">
                <a:moveTo>
                  <a:pt x="9376" y="13692"/>
                </a:moveTo>
                <a:cubicBezTo>
                  <a:pt x="9749" y="13667"/>
                  <a:pt x="10119" y="13589"/>
                  <a:pt x="10492" y="13568"/>
                </a:cubicBezTo>
                <a:cubicBezTo>
                  <a:pt x="10673" y="13558"/>
                  <a:pt x="10757" y="13568"/>
                  <a:pt x="10939" y="1356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00760"/>
            <a:ext cx="36360" cy="187200"/>
          </a:xfrm>
          <a:custGeom>
            <a:avLst/>
            <a:gdLst/>
            <a:ahLst/>
            <a:rect l="l" t="t" r="r" b="b"/>
            <a:pathLst>
              <a:path w="100" h="522">
                <a:moveTo>
                  <a:pt x="9525" y="13891"/>
                </a:moveTo>
                <a:cubicBezTo>
                  <a:pt x="9544" y="14058"/>
                  <a:pt x="9550" y="14218"/>
                  <a:pt x="9550" y="14387"/>
                </a:cubicBezTo>
                <a:cubicBezTo>
                  <a:pt x="9550" y="14439"/>
                  <a:pt x="9569" y="14428"/>
                  <a:pt x="9624" y="1433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37000" y="4983120"/>
            <a:ext cx="169920" cy="160560"/>
          </a:xfrm>
          <a:custGeom>
            <a:avLst/>
            <a:gdLst/>
            <a:ahLst/>
            <a:rect l="l" t="t" r="r" b="b"/>
            <a:pathLst>
              <a:path w="472" h="448">
                <a:moveTo>
                  <a:pt x="10021" y="13841"/>
                </a:moveTo>
                <a:cubicBezTo>
                  <a:pt x="9904" y="14007"/>
                  <a:pt x="9823" y="14099"/>
                  <a:pt x="9872" y="14288"/>
                </a:cubicBezTo>
                <a:cubicBezTo>
                  <a:pt x="10012" y="14275"/>
                  <a:pt x="10402" y="14244"/>
                  <a:pt x="10294" y="13990"/>
                </a:cubicBezTo>
                <a:cubicBezTo>
                  <a:pt x="10237" y="13856"/>
                  <a:pt x="10047" y="13903"/>
                  <a:pt x="9947" y="1391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9120" y="4991040"/>
            <a:ext cx="1350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0666" y="13866"/>
                </a:moveTo>
                <a:cubicBezTo>
                  <a:pt x="10538" y="13884"/>
                  <a:pt x="10500" y="14020"/>
                  <a:pt x="10468" y="14139"/>
                </a:cubicBezTo>
                <a:cubicBezTo>
                  <a:pt x="10448" y="14261"/>
                  <a:pt x="10420" y="14292"/>
                  <a:pt x="10492" y="14337"/>
                </a:cubicBezTo>
                <a:cubicBezTo>
                  <a:pt x="10646" y="14274"/>
                  <a:pt x="10887" y="14167"/>
                  <a:pt x="10765" y="13965"/>
                </a:cubicBezTo>
                <a:cubicBezTo>
                  <a:pt x="10695" y="13918"/>
                  <a:pt x="10675" y="13901"/>
                  <a:pt x="10616" y="1391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October 12, 201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en you put the following numbers in order from least to greatest, what are your eye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TUALL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doing?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536, 547, 548, 53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880" y="2125800"/>
            <a:ext cx="474480" cy="411120"/>
          </a:xfrm>
          <a:custGeom>
            <a:avLst/>
            <a:gdLst/>
            <a:ahLst/>
            <a:rect l="l" t="t" r="r" b="b"/>
            <a:pathLst>
              <a:path w="1315" h="1142">
                <a:moveTo>
                  <a:pt x="2208" y="6995"/>
                </a:moveTo>
                <a:cubicBezTo>
                  <a:pt x="2393" y="6995"/>
                  <a:pt x="2574" y="6997"/>
                  <a:pt x="2753" y="7020"/>
                </a:cubicBezTo>
                <a:cubicBezTo>
                  <a:pt x="2800" y="7026"/>
                  <a:pt x="2854" y="7020"/>
                  <a:pt x="2902" y="7020"/>
                </a:cubicBezTo>
                <a:cubicBezTo>
                  <a:pt x="2803" y="7020"/>
                  <a:pt x="2753" y="7020"/>
                  <a:pt x="2654" y="7020"/>
                </a:cubicBezTo>
                <a:cubicBezTo>
                  <a:pt x="2513" y="7020"/>
                  <a:pt x="2373" y="7020"/>
                  <a:pt x="2232" y="7020"/>
                </a:cubicBezTo>
                <a:cubicBezTo>
                  <a:pt x="2076" y="7020"/>
                  <a:pt x="2158" y="7020"/>
                  <a:pt x="2282" y="7020"/>
                </a:cubicBezTo>
                <a:cubicBezTo>
                  <a:pt x="2504" y="7020"/>
                  <a:pt x="2707" y="6999"/>
                  <a:pt x="2927" y="7020"/>
                </a:cubicBezTo>
                <a:cubicBezTo>
                  <a:pt x="2974" y="7025"/>
                  <a:pt x="3004" y="7055"/>
                  <a:pt x="3051" y="7045"/>
                </a:cubicBezTo>
                <a:cubicBezTo>
                  <a:pt x="3089" y="7037"/>
                  <a:pt x="3148" y="7000"/>
                  <a:pt x="3175" y="6970"/>
                </a:cubicBezTo>
                <a:cubicBezTo>
                  <a:pt x="3230" y="6908"/>
                  <a:pt x="3270" y="6855"/>
                  <a:pt x="3274" y="6772"/>
                </a:cubicBezTo>
                <a:cubicBezTo>
                  <a:pt x="3279" y="6666"/>
                  <a:pt x="3265" y="6573"/>
                  <a:pt x="3249" y="6474"/>
                </a:cubicBezTo>
                <a:cubicBezTo>
                  <a:pt x="3240" y="6417"/>
                  <a:pt x="3221" y="6358"/>
                  <a:pt x="3200" y="6300"/>
                </a:cubicBezTo>
                <a:cubicBezTo>
                  <a:pt x="3182" y="6250"/>
                  <a:pt x="3108" y="6149"/>
                  <a:pt x="3101" y="6127"/>
                </a:cubicBezTo>
                <a:cubicBezTo>
                  <a:pt x="3082" y="6071"/>
                  <a:pt x="3018" y="6015"/>
                  <a:pt x="2952" y="5978"/>
                </a:cubicBezTo>
                <a:cubicBezTo>
                  <a:pt x="2882" y="5939"/>
                  <a:pt x="2735" y="5918"/>
                  <a:pt x="2654" y="5904"/>
                </a:cubicBezTo>
                <a:cubicBezTo>
                  <a:pt x="2574" y="5890"/>
                  <a:pt x="2433" y="5925"/>
                  <a:pt x="2356" y="5953"/>
                </a:cubicBezTo>
                <a:cubicBezTo>
                  <a:pt x="2272" y="5984"/>
                  <a:pt x="2188" y="6057"/>
                  <a:pt x="2133" y="6127"/>
                </a:cubicBezTo>
                <a:cubicBezTo>
                  <a:pt x="2062" y="6218"/>
                  <a:pt x="2031" y="6344"/>
                  <a:pt x="1984" y="6449"/>
                </a:cubicBezTo>
                <a:cubicBezTo>
                  <a:pt x="1948" y="6529"/>
                  <a:pt x="1960" y="6609"/>
                  <a:pt x="1960" y="6697"/>
                </a:cubicBezTo>
                <a:cubicBezTo>
                  <a:pt x="1960" y="6755"/>
                  <a:pt x="1984" y="6815"/>
                  <a:pt x="2009" y="6871"/>
                </a:cubicBezTo>
                <a:cubicBezTo>
                  <a:pt x="2046" y="6954"/>
                  <a:pt x="2105" y="6944"/>
                  <a:pt x="2183" y="6970"/>
                </a:cubicBezTo>
                <a:cubicBezTo>
                  <a:pt x="2291" y="7006"/>
                  <a:pt x="2363" y="7020"/>
                  <a:pt x="2480" y="7020"/>
                </a:cubicBezTo>
                <a:cubicBezTo>
                  <a:pt x="2563" y="7020"/>
                  <a:pt x="2646" y="7020"/>
                  <a:pt x="2729" y="702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11200" y="2170080"/>
            <a:ext cx="615960" cy="276120"/>
          </a:xfrm>
          <a:custGeom>
            <a:avLst/>
            <a:gdLst/>
            <a:ahLst/>
            <a:rect l="l" t="t" r="r" b="b"/>
            <a:pathLst>
              <a:path w="1713" h="769">
                <a:moveTo>
                  <a:pt x="4043" y="6028"/>
                </a:moveTo>
                <a:cubicBezTo>
                  <a:pt x="4006" y="6074"/>
                  <a:pt x="3978" y="6130"/>
                  <a:pt x="3969" y="6226"/>
                </a:cubicBezTo>
                <a:cubicBezTo>
                  <a:pt x="3956" y="6362"/>
                  <a:pt x="3904" y="6548"/>
                  <a:pt x="3944" y="6672"/>
                </a:cubicBezTo>
                <a:cubicBezTo>
                  <a:pt x="3980" y="6785"/>
                  <a:pt x="4047" y="6790"/>
                  <a:pt x="4142" y="6772"/>
                </a:cubicBezTo>
                <a:cubicBezTo>
                  <a:pt x="4287" y="6744"/>
                  <a:pt x="4559" y="6651"/>
                  <a:pt x="4589" y="6474"/>
                </a:cubicBezTo>
                <a:cubicBezTo>
                  <a:pt x="4589" y="6439"/>
                  <a:pt x="4584" y="6422"/>
                  <a:pt x="4564" y="6400"/>
                </a:cubicBezTo>
                <a:cubicBezTo>
                  <a:pt x="4518" y="6383"/>
                  <a:pt x="4441" y="6345"/>
                  <a:pt x="4390" y="6400"/>
                </a:cubicBezTo>
                <a:cubicBezTo>
                  <a:pt x="4303" y="6493"/>
                  <a:pt x="4316" y="6578"/>
                  <a:pt x="4316" y="6697"/>
                </a:cubicBezTo>
                <a:cubicBezTo>
                  <a:pt x="4441" y="6722"/>
                  <a:pt x="4467" y="6728"/>
                  <a:pt x="4589" y="6672"/>
                </a:cubicBezTo>
                <a:cubicBezTo>
                  <a:pt x="4733" y="6607"/>
                  <a:pt x="4710" y="6519"/>
                  <a:pt x="4812" y="6424"/>
                </a:cubicBezTo>
                <a:cubicBezTo>
                  <a:pt x="4854" y="6385"/>
                  <a:pt x="4908" y="6384"/>
                  <a:pt x="4961" y="6400"/>
                </a:cubicBezTo>
                <a:cubicBezTo>
                  <a:pt x="5031" y="6421"/>
                  <a:pt x="5161" y="6527"/>
                  <a:pt x="5110" y="6623"/>
                </a:cubicBezTo>
                <a:cubicBezTo>
                  <a:pt x="5061" y="6715"/>
                  <a:pt x="4929" y="6658"/>
                  <a:pt x="4862" y="6648"/>
                </a:cubicBezTo>
                <a:cubicBezTo>
                  <a:pt x="4837" y="6648"/>
                  <a:pt x="4829" y="6648"/>
                  <a:pt x="4812" y="6648"/>
                </a:cubicBezTo>
                <a:cubicBezTo>
                  <a:pt x="4912" y="6660"/>
                  <a:pt x="5007" y="6681"/>
                  <a:pt x="5110" y="6598"/>
                </a:cubicBezTo>
                <a:cubicBezTo>
                  <a:pt x="5154" y="6563"/>
                  <a:pt x="5179" y="6446"/>
                  <a:pt x="5234" y="6424"/>
                </a:cubicBezTo>
                <a:cubicBezTo>
                  <a:pt x="5319" y="6390"/>
                  <a:pt x="5429" y="6454"/>
                  <a:pt x="5432" y="6548"/>
                </a:cubicBezTo>
                <a:cubicBezTo>
                  <a:pt x="5435" y="6640"/>
                  <a:pt x="5374" y="6700"/>
                  <a:pt x="5283" y="6697"/>
                </a:cubicBezTo>
                <a:cubicBezTo>
                  <a:pt x="5206" y="6678"/>
                  <a:pt x="5189" y="6685"/>
                  <a:pt x="5159" y="6648"/>
                </a:cubicBezTo>
                <a:cubicBezTo>
                  <a:pt x="5266" y="6697"/>
                  <a:pt x="5308" y="6721"/>
                  <a:pt x="5432" y="6648"/>
                </a:cubicBezTo>
                <a:cubicBezTo>
                  <a:pt x="5554" y="6576"/>
                  <a:pt x="5583" y="6468"/>
                  <a:pt x="5631" y="635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2116080"/>
            <a:ext cx="893880" cy="277920"/>
          </a:xfrm>
          <a:custGeom>
            <a:avLst/>
            <a:gdLst/>
            <a:ahLst/>
            <a:rect l="l" t="t" r="r" b="b"/>
            <a:pathLst>
              <a:path w="2482" h="770">
                <a:moveTo>
                  <a:pt x="6722" y="5879"/>
                </a:moveTo>
                <a:cubicBezTo>
                  <a:pt x="6703" y="6071"/>
                  <a:pt x="6621" y="6239"/>
                  <a:pt x="6573" y="6424"/>
                </a:cubicBezTo>
                <a:cubicBezTo>
                  <a:pt x="6530" y="6588"/>
                  <a:pt x="6514" y="6587"/>
                  <a:pt x="6623" y="6648"/>
                </a:cubicBezTo>
                <a:cubicBezTo>
                  <a:pt x="6884" y="6561"/>
                  <a:pt x="7015" y="6456"/>
                  <a:pt x="7094" y="6176"/>
                </a:cubicBezTo>
                <a:cubicBezTo>
                  <a:pt x="7118" y="6037"/>
                  <a:pt x="7126" y="5996"/>
                  <a:pt x="7119" y="5904"/>
                </a:cubicBezTo>
                <a:cubicBezTo>
                  <a:pt x="7051" y="6060"/>
                  <a:pt x="7084" y="6234"/>
                  <a:pt x="7069" y="6400"/>
                </a:cubicBezTo>
                <a:cubicBezTo>
                  <a:pt x="7065" y="6449"/>
                  <a:pt x="7054" y="6607"/>
                  <a:pt x="7020" y="6573"/>
                </a:cubicBezTo>
                <a:cubicBezTo>
                  <a:pt x="7055" y="6432"/>
                  <a:pt x="7077" y="6275"/>
                  <a:pt x="7243" y="6226"/>
                </a:cubicBezTo>
                <a:cubicBezTo>
                  <a:pt x="7276" y="6226"/>
                  <a:pt x="7309" y="6226"/>
                  <a:pt x="7342" y="6226"/>
                </a:cubicBezTo>
                <a:cubicBezTo>
                  <a:pt x="7419" y="6360"/>
                  <a:pt x="7402" y="6481"/>
                  <a:pt x="7342" y="6623"/>
                </a:cubicBezTo>
                <a:cubicBezTo>
                  <a:pt x="7319" y="6646"/>
                  <a:pt x="7311" y="6657"/>
                  <a:pt x="7317" y="6623"/>
                </a:cubicBezTo>
              </a:path>
              <a:path w="2482" h="770">
                <a:moveTo>
                  <a:pt x="7863" y="6424"/>
                </a:moveTo>
                <a:cubicBezTo>
                  <a:pt x="7863" y="6306"/>
                  <a:pt x="7880" y="6251"/>
                  <a:pt x="7813" y="6201"/>
                </a:cubicBezTo>
                <a:cubicBezTo>
                  <a:pt x="7702" y="6119"/>
                  <a:pt x="7652" y="6157"/>
                  <a:pt x="7590" y="6276"/>
                </a:cubicBezTo>
                <a:cubicBezTo>
                  <a:pt x="7560" y="6333"/>
                  <a:pt x="7466" y="6622"/>
                  <a:pt x="7640" y="6573"/>
                </a:cubicBezTo>
                <a:cubicBezTo>
                  <a:pt x="7764" y="6538"/>
                  <a:pt x="7790" y="6453"/>
                  <a:pt x="7838" y="6350"/>
                </a:cubicBezTo>
                <a:cubicBezTo>
                  <a:pt x="7838" y="6342"/>
                  <a:pt x="7838" y="6333"/>
                  <a:pt x="7838" y="6325"/>
                </a:cubicBezTo>
                <a:cubicBezTo>
                  <a:pt x="7838" y="6258"/>
                  <a:pt x="7809" y="6357"/>
                  <a:pt x="7813" y="6424"/>
                </a:cubicBezTo>
                <a:cubicBezTo>
                  <a:pt x="7820" y="6546"/>
                  <a:pt x="7921" y="6618"/>
                  <a:pt x="8037" y="6548"/>
                </a:cubicBezTo>
                <a:cubicBezTo>
                  <a:pt x="8082" y="6521"/>
                  <a:pt x="8225" y="6250"/>
                  <a:pt x="8235" y="6251"/>
                </a:cubicBezTo>
                <a:cubicBezTo>
                  <a:pt x="8259" y="6253"/>
                  <a:pt x="8213" y="6504"/>
                  <a:pt x="8210" y="6524"/>
                </a:cubicBezTo>
                <a:cubicBezTo>
                  <a:pt x="8210" y="6540"/>
                  <a:pt x="8210" y="6557"/>
                  <a:pt x="8210" y="6573"/>
                </a:cubicBezTo>
                <a:cubicBezTo>
                  <a:pt x="8216" y="6459"/>
                  <a:pt x="8207" y="6348"/>
                  <a:pt x="8285" y="6251"/>
                </a:cubicBezTo>
                <a:cubicBezTo>
                  <a:pt x="8321" y="6207"/>
                  <a:pt x="8386" y="6188"/>
                  <a:pt x="8434" y="6176"/>
                </a:cubicBezTo>
                <a:cubicBezTo>
                  <a:pt x="8509" y="6272"/>
                  <a:pt x="8490" y="6309"/>
                  <a:pt x="8483" y="6424"/>
                </a:cubicBezTo>
                <a:cubicBezTo>
                  <a:pt x="8476" y="6538"/>
                  <a:pt x="8490" y="6545"/>
                  <a:pt x="8558" y="6623"/>
                </a:cubicBezTo>
                <a:cubicBezTo>
                  <a:pt x="8708" y="6553"/>
                  <a:pt x="8756" y="6513"/>
                  <a:pt x="8781" y="6350"/>
                </a:cubicBezTo>
              </a:path>
              <a:path w="2482" h="770">
                <a:moveTo>
                  <a:pt x="6300" y="6201"/>
                </a:moveTo>
                <a:cubicBezTo>
                  <a:pt x="6442" y="6201"/>
                  <a:pt x="6579" y="6179"/>
                  <a:pt x="6722" y="6176"/>
                </a:cubicBezTo>
                <a:cubicBezTo>
                  <a:pt x="6846" y="6174"/>
                  <a:pt x="6893" y="6175"/>
                  <a:pt x="6995" y="6201"/>
                </a:cubicBezTo>
                <a:cubicBezTo>
                  <a:pt x="7003" y="6201"/>
                  <a:pt x="7012" y="6201"/>
                  <a:pt x="7020" y="620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240" y="2625840"/>
            <a:ext cx="536760" cy="438120"/>
          </a:xfrm>
          <a:custGeom>
            <a:avLst/>
            <a:gdLst/>
            <a:ahLst/>
            <a:rect l="l" t="t" r="r" b="b"/>
            <a:pathLst>
              <a:path w="1489" h="1216">
                <a:moveTo>
                  <a:pt x="2952" y="7441"/>
                </a:moveTo>
                <a:cubicBezTo>
                  <a:pt x="2915" y="7368"/>
                  <a:pt x="2909" y="7357"/>
                  <a:pt x="2828" y="7317"/>
                </a:cubicBezTo>
                <a:cubicBezTo>
                  <a:pt x="2739" y="7273"/>
                  <a:pt x="2628" y="7293"/>
                  <a:pt x="2530" y="7293"/>
                </a:cubicBezTo>
                <a:cubicBezTo>
                  <a:pt x="2456" y="7293"/>
                  <a:pt x="2322" y="7314"/>
                  <a:pt x="2257" y="7342"/>
                </a:cubicBezTo>
                <a:cubicBezTo>
                  <a:pt x="2206" y="7364"/>
                  <a:pt x="2037" y="7456"/>
                  <a:pt x="2009" y="7491"/>
                </a:cubicBezTo>
                <a:cubicBezTo>
                  <a:pt x="1988" y="7517"/>
                  <a:pt x="1917" y="7643"/>
                  <a:pt x="1910" y="7689"/>
                </a:cubicBezTo>
                <a:cubicBezTo>
                  <a:pt x="1895" y="7793"/>
                  <a:pt x="1905" y="7913"/>
                  <a:pt x="1935" y="8012"/>
                </a:cubicBezTo>
                <a:cubicBezTo>
                  <a:pt x="1959" y="8093"/>
                  <a:pt x="1991" y="8188"/>
                  <a:pt x="2034" y="8260"/>
                </a:cubicBezTo>
                <a:cubicBezTo>
                  <a:pt x="2064" y="8312"/>
                  <a:pt x="2108" y="8372"/>
                  <a:pt x="2158" y="8409"/>
                </a:cubicBezTo>
                <a:cubicBezTo>
                  <a:pt x="2242" y="8471"/>
                  <a:pt x="2372" y="8515"/>
                  <a:pt x="2480" y="8508"/>
                </a:cubicBezTo>
                <a:cubicBezTo>
                  <a:pt x="2615" y="8499"/>
                  <a:pt x="2724" y="8448"/>
                  <a:pt x="2853" y="8409"/>
                </a:cubicBezTo>
                <a:cubicBezTo>
                  <a:pt x="2972" y="8373"/>
                  <a:pt x="3051" y="8318"/>
                  <a:pt x="3150" y="8235"/>
                </a:cubicBezTo>
                <a:cubicBezTo>
                  <a:pt x="3228" y="8170"/>
                  <a:pt x="3305" y="8078"/>
                  <a:pt x="3349" y="7987"/>
                </a:cubicBezTo>
                <a:cubicBezTo>
                  <a:pt x="3383" y="7917"/>
                  <a:pt x="3395" y="7814"/>
                  <a:pt x="3398" y="7739"/>
                </a:cubicBezTo>
                <a:cubicBezTo>
                  <a:pt x="3401" y="7671"/>
                  <a:pt x="3415" y="7575"/>
                  <a:pt x="3373" y="7516"/>
                </a:cubicBezTo>
                <a:cubicBezTo>
                  <a:pt x="3320" y="7441"/>
                  <a:pt x="3276" y="7442"/>
                  <a:pt x="3200" y="7417"/>
                </a:cubicBezTo>
                <a:cubicBezTo>
                  <a:pt x="3140" y="7397"/>
                  <a:pt x="3072" y="7355"/>
                  <a:pt x="3001" y="7342"/>
                </a:cubicBezTo>
                <a:cubicBezTo>
                  <a:pt x="2957" y="7334"/>
                  <a:pt x="2960" y="7360"/>
                  <a:pt x="2927" y="73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57200" y="2670120"/>
            <a:ext cx="1224000" cy="401760"/>
          </a:xfrm>
          <a:custGeom>
            <a:avLst/>
            <a:gdLst/>
            <a:ahLst/>
            <a:rect l="l" t="t" r="r" b="b"/>
            <a:pathLst>
              <a:path w="3400" h="1117">
                <a:moveTo>
                  <a:pt x="4192" y="7789"/>
                </a:moveTo>
                <a:cubicBezTo>
                  <a:pt x="4158" y="7722"/>
                  <a:pt x="4161" y="7728"/>
                  <a:pt x="4118" y="7689"/>
                </a:cubicBezTo>
                <a:cubicBezTo>
                  <a:pt x="4028" y="7607"/>
                  <a:pt x="3893" y="7739"/>
                  <a:pt x="3845" y="7813"/>
                </a:cubicBezTo>
                <a:cubicBezTo>
                  <a:pt x="3799" y="7928"/>
                  <a:pt x="3785" y="7959"/>
                  <a:pt x="3770" y="8037"/>
                </a:cubicBezTo>
                <a:cubicBezTo>
                  <a:pt x="3887" y="8130"/>
                  <a:pt x="3950" y="8025"/>
                  <a:pt x="4043" y="7938"/>
                </a:cubicBezTo>
                <a:cubicBezTo>
                  <a:pt x="4164" y="7825"/>
                  <a:pt x="4089" y="7886"/>
                  <a:pt x="4118" y="7789"/>
                </a:cubicBezTo>
                <a:cubicBezTo>
                  <a:pt x="4118" y="7941"/>
                  <a:pt x="4114" y="8084"/>
                  <a:pt x="4093" y="8235"/>
                </a:cubicBezTo>
                <a:cubicBezTo>
                  <a:pt x="4073" y="8375"/>
                  <a:pt x="4073" y="8514"/>
                  <a:pt x="3919" y="8533"/>
                </a:cubicBezTo>
                <a:cubicBezTo>
                  <a:pt x="3834" y="8426"/>
                  <a:pt x="3920" y="8358"/>
                  <a:pt x="3994" y="8260"/>
                </a:cubicBezTo>
                <a:cubicBezTo>
                  <a:pt x="4087" y="8138"/>
                  <a:pt x="4191" y="7973"/>
                  <a:pt x="4291" y="7863"/>
                </a:cubicBezTo>
                <a:cubicBezTo>
                  <a:pt x="4334" y="7815"/>
                  <a:pt x="4372" y="7769"/>
                  <a:pt x="4415" y="7714"/>
                </a:cubicBezTo>
                <a:cubicBezTo>
                  <a:pt x="4455" y="7741"/>
                  <a:pt x="4426" y="7759"/>
                  <a:pt x="4465" y="7789"/>
                </a:cubicBezTo>
                <a:cubicBezTo>
                  <a:pt x="4557" y="7859"/>
                  <a:pt x="4616" y="7757"/>
                  <a:pt x="4688" y="7739"/>
                </a:cubicBezTo>
                <a:cubicBezTo>
                  <a:pt x="4680" y="7747"/>
                  <a:pt x="4671" y="7756"/>
                  <a:pt x="4663" y="7764"/>
                </a:cubicBezTo>
                <a:cubicBezTo>
                  <a:pt x="4602" y="7864"/>
                  <a:pt x="4552" y="7946"/>
                  <a:pt x="4539" y="8062"/>
                </a:cubicBezTo>
                <a:cubicBezTo>
                  <a:pt x="4652" y="8080"/>
                  <a:pt x="4718" y="8066"/>
                  <a:pt x="4812" y="7987"/>
                </a:cubicBezTo>
                <a:cubicBezTo>
                  <a:pt x="4887" y="7924"/>
                  <a:pt x="4919" y="7873"/>
                  <a:pt x="4961" y="7789"/>
                </a:cubicBezTo>
                <a:cubicBezTo>
                  <a:pt x="4969" y="7772"/>
                  <a:pt x="4978" y="7756"/>
                  <a:pt x="4986" y="7739"/>
                </a:cubicBezTo>
                <a:cubicBezTo>
                  <a:pt x="4926" y="7727"/>
                  <a:pt x="4891" y="7730"/>
                  <a:pt x="4862" y="7838"/>
                </a:cubicBezTo>
                <a:cubicBezTo>
                  <a:pt x="4857" y="7855"/>
                  <a:pt x="4859" y="8008"/>
                  <a:pt x="4887" y="8012"/>
                </a:cubicBezTo>
                <a:cubicBezTo>
                  <a:pt x="4920" y="8004"/>
                  <a:pt x="4953" y="7995"/>
                  <a:pt x="4986" y="7987"/>
                </a:cubicBezTo>
              </a:path>
              <a:path w="3400" h="1117">
                <a:moveTo>
                  <a:pt x="5432" y="7863"/>
                </a:moveTo>
                <a:cubicBezTo>
                  <a:pt x="5447" y="7833"/>
                  <a:pt x="5457" y="7832"/>
                  <a:pt x="5457" y="7764"/>
                </a:cubicBezTo>
                <a:cubicBezTo>
                  <a:pt x="5457" y="7747"/>
                  <a:pt x="5457" y="7731"/>
                  <a:pt x="5457" y="7714"/>
                </a:cubicBezTo>
                <a:cubicBezTo>
                  <a:pt x="5341" y="7724"/>
                  <a:pt x="5312" y="7713"/>
                  <a:pt x="5259" y="7838"/>
                </a:cubicBezTo>
                <a:cubicBezTo>
                  <a:pt x="5212" y="7950"/>
                  <a:pt x="5247" y="7935"/>
                  <a:pt x="5259" y="8012"/>
                </a:cubicBezTo>
                <a:cubicBezTo>
                  <a:pt x="5411" y="7988"/>
                  <a:pt x="5470" y="7960"/>
                  <a:pt x="5507" y="7813"/>
                </a:cubicBezTo>
                <a:cubicBezTo>
                  <a:pt x="5507" y="7789"/>
                  <a:pt x="5507" y="7781"/>
                  <a:pt x="5507" y="7813"/>
                </a:cubicBezTo>
                <a:cubicBezTo>
                  <a:pt x="5513" y="7919"/>
                  <a:pt x="5488" y="7977"/>
                  <a:pt x="5581" y="8037"/>
                </a:cubicBezTo>
                <a:cubicBezTo>
                  <a:pt x="5696" y="8112"/>
                  <a:pt x="5874" y="8001"/>
                  <a:pt x="5953" y="7913"/>
                </a:cubicBezTo>
                <a:cubicBezTo>
                  <a:pt x="6045" y="7811"/>
                  <a:pt x="6003" y="7617"/>
                  <a:pt x="6003" y="7491"/>
                </a:cubicBezTo>
                <a:cubicBezTo>
                  <a:pt x="6003" y="7300"/>
                  <a:pt x="5966" y="7733"/>
                  <a:pt x="5953" y="7789"/>
                </a:cubicBezTo>
                <a:cubicBezTo>
                  <a:pt x="5934" y="7872"/>
                  <a:pt x="5932" y="7928"/>
                  <a:pt x="5928" y="8012"/>
                </a:cubicBezTo>
                <a:cubicBezTo>
                  <a:pt x="5987" y="8025"/>
                  <a:pt x="6007" y="8018"/>
                  <a:pt x="6077" y="8012"/>
                </a:cubicBezTo>
                <a:cubicBezTo>
                  <a:pt x="6126" y="8008"/>
                  <a:pt x="6136" y="8018"/>
                  <a:pt x="6176" y="7987"/>
                </a:cubicBezTo>
                <a:cubicBezTo>
                  <a:pt x="6250" y="7929"/>
                  <a:pt x="6295" y="7880"/>
                  <a:pt x="6300" y="7789"/>
                </a:cubicBezTo>
                <a:cubicBezTo>
                  <a:pt x="6300" y="7747"/>
                  <a:pt x="6300" y="7739"/>
                  <a:pt x="6300" y="7714"/>
                </a:cubicBezTo>
                <a:cubicBezTo>
                  <a:pt x="6279" y="7753"/>
                  <a:pt x="6171" y="7909"/>
                  <a:pt x="6226" y="7962"/>
                </a:cubicBezTo>
                <a:cubicBezTo>
                  <a:pt x="6315" y="8048"/>
                  <a:pt x="6484" y="8011"/>
                  <a:pt x="6573" y="7938"/>
                </a:cubicBezTo>
                <a:cubicBezTo>
                  <a:pt x="6644" y="7880"/>
                  <a:pt x="6629" y="7791"/>
                  <a:pt x="6648" y="7714"/>
                </a:cubicBezTo>
                <a:cubicBezTo>
                  <a:pt x="6665" y="7725"/>
                  <a:pt x="6811" y="7790"/>
                  <a:pt x="6821" y="7813"/>
                </a:cubicBezTo>
                <a:cubicBezTo>
                  <a:pt x="6844" y="7869"/>
                  <a:pt x="6790" y="7962"/>
                  <a:pt x="6772" y="8012"/>
                </a:cubicBezTo>
                <a:cubicBezTo>
                  <a:pt x="6901" y="8051"/>
                  <a:pt x="7023" y="8028"/>
                  <a:pt x="7119" y="7913"/>
                </a:cubicBezTo>
                <a:cubicBezTo>
                  <a:pt x="7216" y="7797"/>
                  <a:pt x="7143" y="7808"/>
                  <a:pt x="7119" y="7714"/>
                </a:cubicBezTo>
              </a:path>
              <a:path w="3400" h="1117">
                <a:moveTo>
                  <a:pt x="5854" y="7640"/>
                </a:moveTo>
                <a:cubicBezTo>
                  <a:pt x="6006" y="7640"/>
                  <a:pt x="6150" y="7625"/>
                  <a:pt x="6300" y="7615"/>
                </a:cubicBezTo>
                <a:cubicBezTo>
                  <a:pt x="6325" y="7615"/>
                  <a:pt x="6350" y="7615"/>
                  <a:pt x="6375" y="761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57680" y="2544840"/>
            <a:ext cx="839520" cy="268200"/>
          </a:xfrm>
          <a:custGeom>
            <a:avLst/>
            <a:gdLst/>
            <a:ahLst/>
            <a:rect l="l" t="t" r="r" b="b"/>
            <a:pathLst>
              <a:path w="2332" h="745">
                <a:moveTo>
                  <a:pt x="8186" y="7218"/>
                </a:moveTo>
                <a:cubicBezTo>
                  <a:pt x="8129" y="7408"/>
                  <a:pt x="8061" y="7569"/>
                  <a:pt x="8086" y="7764"/>
                </a:cubicBezTo>
                <a:cubicBezTo>
                  <a:pt x="8282" y="7775"/>
                  <a:pt x="8482" y="7724"/>
                  <a:pt x="8607" y="7541"/>
                </a:cubicBezTo>
                <a:cubicBezTo>
                  <a:pt x="8700" y="7404"/>
                  <a:pt x="8705" y="7226"/>
                  <a:pt x="8731" y="7069"/>
                </a:cubicBezTo>
                <a:cubicBezTo>
                  <a:pt x="8693" y="7152"/>
                  <a:pt x="8651" y="7367"/>
                  <a:pt x="8632" y="7491"/>
                </a:cubicBezTo>
                <a:cubicBezTo>
                  <a:pt x="8613" y="7625"/>
                  <a:pt x="8623" y="7647"/>
                  <a:pt x="8582" y="7714"/>
                </a:cubicBezTo>
                <a:cubicBezTo>
                  <a:pt x="8606" y="7561"/>
                  <a:pt x="8611" y="7512"/>
                  <a:pt x="8756" y="7417"/>
                </a:cubicBezTo>
                <a:cubicBezTo>
                  <a:pt x="8936" y="7298"/>
                  <a:pt x="8965" y="7456"/>
                  <a:pt x="8930" y="7615"/>
                </a:cubicBezTo>
                <a:cubicBezTo>
                  <a:pt x="8890" y="7713"/>
                  <a:pt x="8874" y="7727"/>
                  <a:pt x="8880" y="7789"/>
                </a:cubicBezTo>
                <a:cubicBezTo>
                  <a:pt x="8924" y="7797"/>
                  <a:pt x="8926" y="7810"/>
                  <a:pt x="9029" y="7789"/>
                </a:cubicBezTo>
              </a:path>
              <a:path w="2332" h="745">
                <a:moveTo>
                  <a:pt x="9376" y="7640"/>
                </a:moveTo>
                <a:cubicBezTo>
                  <a:pt x="9392" y="7561"/>
                  <a:pt x="9419" y="7525"/>
                  <a:pt x="9376" y="7441"/>
                </a:cubicBezTo>
                <a:cubicBezTo>
                  <a:pt x="9311" y="7313"/>
                  <a:pt x="9190" y="7386"/>
                  <a:pt x="9128" y="7466"/>
                </a:cubicBezTo>
                <a:cubicBezTo>
                  <a:pt x="9044" y="7575"/>
                  <a:pt x="9032" y="7643"/>
                  <a:pt x="9054" y="7764"/>
                </a:cubicBezTo>
                <a:cubicBezTo>
                  <a:pt x="9247" y="7748"/>
                  <a:pt x="9235" y="7648"/>
                  <a:pt x="9351" y="7516"/>
                </a:cubicBezTo>
                <a:cubicBezTo>
                  <a:pt x="9384" y="7516"/>
                  <a:pt x="9393" y="7508"/>
                  <a:pt x="9376" y="7466"/>
                </a:cubicBezTo>
                <a:cubicBezTo>
                  <a:pt x="9350" y="7534"/>
                  <a:pt x="9260" y="7605"/>
                  <a:pt x="9327" y="7689"/>
                </a:cubicBezTo>
                <a:cubicBezTo>
                  <a:pt x="9382" y="7759"/>
                  <a:pt x="9530" y="7715"/>
                  <a:pt x="9575" y="7665"/>
                </a:cubicBezTo>
                <a:cubicBezTo>
                  <a:pt x="9591" y="7647"/>
                  <a:pt x="9662" y="7475"/>
                  <a:pt x="9674" y="7491"/>
                </a:cubicBezTo>
                <a:cubicBezTo>
                  <a:pt x="9707" y="7536"/>
                  <a:pt x="9663" y="7644"/>
                  <a:pt x="9649" y="7689"/>
                </a:cubicBezTo>
                <a:cubicBezTo>
                  <a:pt x="9663" y="7580"/>
                  <a:pt x="9668" y="7527"/>
                  <a:pt x="9748" y="7441"/>
                </a:cubicBezTo>
                <a:cubicBezTo>
                  <a:pt x="9823" y="7360"/>
                  <a:pt x="9810" y="7367"/>
                  <a:pt x="9897" y="7367"/>
                </a:cubicBezTo>
                <a:cubicBezTo>
                  <a:pt x="9928" y="7488"/>
                  <a:pt x="9947" y="7589"/>
                  <a:pt x="9947" y="7714"/>
                </a:cubicBezTo>
                <a:cubicBezTo>
                  <a:pt x="10069" y="7680"/>
                  <a:pt x="10284" y="7671"/>
                  <a:pt x="10244" y="7516"/>
                </a:cubicBezTo>
                <a:cubicBezTo>
                  <a:pt x="10236" y="7499"/>
                  <a:pt x="10228" y="7483"/>
                  <a:pt x="10220" y="7466"/>
                </a:cubicBezTo>
              </a:path>
              <a:path w="2332" h="745">
                <a:moveTo>
                  <a:pt x="7938" y="7342"/>
                </a:moveTo>
                <a:cubicBezTo>
                  <a:pt x="8128" y="7342"/>
                  <a:pt x="8318" y="7342"/>
                  <a:pt x="8508" y="734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6960" y="3160800"/>
            <a:ext cx="2473200" cy="428400"/>
          </a:xfrm>
          <a:custGeom>
            <a:avLst/>
            <a:gdLst/>
            <a:ahLst/>
            <a:rect l="l" t="t" r="r" b="b"/>
            <a:pathLst>
              <a:path w="6872" h="1191">
                <a:moveTo>
                  <a:pt x="2158" y="9872"/>
                </a:moveTo>
                <a:cubicBezTo>
                  <a:pt x="2265" y="9930"/>
                  <a:pt x="2326" y="9944"/>
                  <a:pt x="2456" y="9947"/>
                </a:cubicBezTo>
                <a:cubicBezTo>
                  <a:pt x="2607" y="9950"/>
                  <a:pt x="2718" y="9908"/>
                  <a:pt x="2853" y="9847"/>
                </a:cubicBezTo>
                <a:cubicBezTo>
                  <a:pt x="3020" y="9771"/>
                  <a:pt x="3069" y="9713"/>
                  <a:pt x="3175" y="9575"/>
                </a:cubicBezTo>
                <a:cubicBezTo>
                  <a:pt x="3227" y="9506"/>
                  <a:pt x="3290" y="9398"/>
                  <a:pt x="3274" y="9302"/>
                </a:cubicBezTo>
                <a:cubicBezTo>
                  <a:pt x="3265" y="9246"/>
                  <a:pt x="3247" y="9151"/>
                  <a:pt x="3225" y="9103"/>
                </a:cubicBezTo>
                <a:cubicBezTo>
                  <a:pt x="3186" y="9019"/>
                  <a:pt x="3125" y="8997"/>
                  <a:pt x="3051" y="8954"/>
                </a:cubicBezTo>
                <a:cubicBezTo>
                  <a:pt x="2945" y="8893"/>
                  <a:pt x="2829" y="8844"/>
                  <a:pt x="2704" y="8830"/>
                </a:cubicBezTo>
                <a:cubicBezTo>
                  <a:pt x="2588" y="8817"/>
                  <a:pt x="2439" y="8832"/>
                  <a:pt x="2332" y="8880"/>
                </a:cubicBezTo>
                <a:cubicBezTo>
                  <a:pt x="2205" y="8938"/>
                  <a:pt x="2114" y="9015"/>
                  <a:pt x="2034" y="9128"/>
                </a:cubicBezTo>
                <a:cubicBezTo>
                  <a:pt x="1954" y="9241"/>
                  <a:pt x="1939" y="9389"/>
                  <a:pt x="1935" y="9525"/>
                </a:cubicBezTo>
                <a:cubicBezTo>
                  <a:pt x="1932" y="9638"/>
                  <a:pt x="1978" y="9685"/>
                  <a:pt x="2034" y="9773"/>
                </a:cubicBezTo>
                <a:cubicBezTo>
                  <a:pt x="2074" y="9835"/>
                  <a:pt x="2142" y="9889"/>
                  <a:pt x="2208" y="9922"/>
                </a:cubicBezTo>
                <a:cubicBezTo>
                  <a:pt x="2262" y="9949"/>
                  <a:pt x="2354" y="9960"/>
                  <a:pt x="2406" y="9971"/>
                </a:cubicBezTo>
                <a:cubicBezTo>
                  <a:pt x="2414" y="9971"/>
                  <a:pt x="2423" y="9971"/>
                  <a:pt x="2431" y="9971"/>
                </a:cubicBezTo>
              </a:path>
              <a:path w="6872" h="1191">
                <a:moveTo>
                  <a:pt x="4043" y="9401"/>
                </a:moveTo>
                <a:cubicBezTo>
                  <a:pt x="4209" y="9381"/>
                  <a:pt x="4412" y="9331"/>
                  <a:pt x="4564" y="9252"/>
                </a:cubicBezTo>
                <a:cubicBezTo>
                  <a:pt x="4642" y="9211"/>
                  <a:pt x="4815" y="9089"/>
                  <a:pt x="4787" y="8979"/>
                </a:cubicBezTo>
                <a:cubicBezTo>
                  <a:pt x="4773" y="8923"/>
                  <a:pt x="4704" y="8835"/>
                  <a:pt x="4638" y="8855"/>
                </a:cubicBezTo>
                <a:cubicBezTo>
                  <a:pt x="4520" y="8891"/>
                  <a:pt x="4378" y="9107"/>
                  <a:pt x="4415" y="9227"/>
                </a:cubicBezTo>
                <a:cubicBezTo>
                  <a:pt x="4491" y="9473"/>
                  <a:pt x="4701" y="9348"/>
                  <a:pt x="4837" y="9277"/>
                </a:cubicBezTo>
              </a:path>
              <a:path w="6872" h="1191">
                <a:moveTo>
                  <a:pt x="5110" y="9128"/>
                </a:moveTo>
                <a:cubicBezTo>
                  <a:pt x="5099" y="9052"/>
                  <a:pt x="5117" y="8973"/>
                  <a:pt x="5011" y="8954"/>
                </a:cubicBezTo>
                <a:cubicBezTo>
                  <a:pt x="4807" y="8917"/>
                  <a:pt x="4779" y="9133"/>
                  <a:pt x="4762" y="9277"/>
                </a:cubicBezTo>
                <a:cubicBezTo>
                  <a:pt x="4918" y="9259"/>
                  <a:pt x="5054" y="9248"/>
                  <a:pt x="5085" y="9079"/>
                </a:cubicBezTo>
                <a:cubicBezTo>
                  <a:pt x="5085" y="9062"/>
                  <a:pt x="5085" y="9046"/>
                  <a:pt x="5085" y="9029"/>
                </a:cubicBezTo>
                <a:cubicBezTo>
                  <a:pt x="5031" y="9264"/>
                  <a:pt x="4945" y="9405"/>
                  <a:pt x="4837" y="9624"/>
                </a:cubicBezTo>
                <a:cubicBezTo>
                  <a:pt x="4781" y="9738"/>
                  <a:pt x="4753" y="9827"/>
                  <a:pt x="4713" y="9947"/>
                </a:cubicBezTo>
                <a:cubicBezTo>
                  <a:pt x="4850" y="9864"/>
                  <a:pt x="5033" y="9738"/>
                  <a:pt x="5085" y="9575"/>
                </a:cubicBezTo>
                <a:cubicBezTo>
                  <a:pt x="5144" y="9390"/>
                  <a:pt x="5034" y="9367"/>
                  <a:pt x="4911" y="9302"/>
                </a:cubicBezTo>
                <a:cubicBezTo>
                  <a:pt x="4724" y="9254"/>
                  <a:pt x="5075" y="9342"/>
                  <a:pt x="5159" y="9327"/>
                </a:cubicBezTo>
                <a:cubicBezTo>
                  <a:pt x="5340" y="9294"/>
                  <a:pt x="5438" y="9208"/>
                  <a:pt x="5556" y="9103"/>
                </a:cubicBezTo>
                <a:cubicBezTo>
                  <a:pt x="5529" y="9190"/>
                  <a:pt x="5435" y="9342"/>
                  <a:pt x="5581" y="9327"/>
                </a:cubicBezTo>
                <a:cubicBezTo>
                  <a:pt x="5762" y="9308"/>
                  <a:pt x="5768" y="9222"/>
                  <a:pt x="5854" y="9103"/>
                </a:cubicBezTo>
                <a:cubicBezTo>
                  <a:pt x="5899" y="9040"/>
                  <a:pt x="5806" y="9200"/>
                  <a:pt x="5804" y="9277"/>
                </a:cubicBezTo>
                <a:cubicBezTo>
                  <a:pt x="5827" y="9344"/>
                  <a:pt x="5828" y="9365"/>
                  <a:pt x="5879" y="9376"/>
                </a:cubicBezTo>
              </a:path>
              <a:path w="6872" h="1191">
                <a:moveTo>
                  <a:pt x="6449" y="9227"/>
                </a:moveTo>
                <a:cubicBezTo>
                  <a:pt x="6449" y="9177"/>
                  <a:pt x="6483" y="9022"/>
                  <a:pt x="6375" y="9054"/>
                </a:cubicBezTo>
                <a:cubicBezTo>
                  <a:pt x="6204" y="9104"/>
                  <a:pt x="6176" y="9236"/>
                  <a:pt x="6127" y="9376"/>
                </a:cubicBezTo>
                <a:cubicBezTo>
                  <a:pt x="6307" y="9376"/>
                  <a:pt x="6406" y="9325"/>
                  <a:pt x="6524" y="9178"/>
                </a:cubicBezTo>
                <a:cubicBezTo>
                  <a:pt x="6446" y="9229"/>
                  <a:pt x="6583" y="9314"/>
                  <a:pt x="6648" y="9327"/>
                </a:cubicBezTo>
                <a:cubicBezTo>
                  <a:pt x="6825" y="9363"/>
                  <a:pt x="7043" y="9178"/>
                  <a:pt x="7069" y="9004"/>
                </a:cubicBezTo>
                <a:cubicBezTo>
                  <a:pt x="7080" y="8930"/>
                  <a:pt x="6988" y="8828"/>
                  <a:pt x="6921" y="8806"/>
                </a:cubicBezTo>
                <a:cubicBezTo>
                  <a:pt x="6888" y="8806"/>
                  <a:pt x="6871" y="8806"/>
                  <a:pt x="6846" y="8806"/>
                </a:cubicBezTo>
                <a:cubicBezTo>
                  <a:pt x="6776" y="8946"/>
                  <a:pt x="6643" y="9254"/>
                  <a:pt x="6846" y="9376"/>
                </a:cubicBezTo>
                <a:cubicBezTo>
                  <a:pt x="6982" y="9399"/>
                  <a:pt x="7020" y="9413"/>
                  <a:pt x="7094" y="9351"/>
                </a:cubicBezTo>
              </a:path>
              <a:path w="6872" h="1191">
                <a:moveTo>
                  <a:pt x="8086" y="8781"/>
                </a:moveTo>
                <a:cubicBezTo>
                  <a:pt x="8074" y="8930"/>
                  <a:pt x="7943" y="9117"/>
                  <a:pt x="7962" y="9252"/>
                </a:cubicBezTo>
                <a:cubicBezTo>
                  <a:pt x="7993" y="9478"/>
                  <a:pt x="8323" y="9265"/>
                  <a:pt x="8384" y="9227"/>
                </a:cubicBezTo>
              </a:path>
              <a:path w="6872" h="1191">
                <a:moveTo>
                  <a:pt x="7888" y="9054"/>
                </a:moveTo>
                <a:cubicBezTo>
                  <a:pt x="8072" y="9034"/>
                  <a:pt x="8248" y="9029"/>
                  <a:pt x="8434" y="9029"/>
                </a:cubicBezTo>
                <a:cubicBezTo>
                  <a:pt x="8532" y="9029"/>
                  <a:pt x="8481" y="9111"/>
                  <a:pt x="8508" y="9178"/>
                </a:cubicBezTo>
                <a:cubicBezTo>
                  <a:pt x="8552" y="9286"/>
                  <a:pt x="8710" y="9274"/>
                  <a:pt x="8781" y="9203"/>
                </a:cubicBezTo>
                <a:cubicBezTo>
                  <a:pt x="8912" y="9072"/>
                  <a:pt x="8719" y="9021"/>
                  <a:pt x="8632" y="9004"/>
                </a:cubicBezTo>
                <a:cubicBezTo>
                  <a:pt x="8607" y="9004"/>
                  <a:pt x="8599" y="9004"/>
                  <a:pt x="8582" y="900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48120" y="6259680"/>
            <a:ext cx="1903680" cy="142560"/>
          </a:xfrm>
          <a:custGeom>
            <a:avLst/>
            <a:gdLst/>
            <a:ahLst/>
            <a:rect l="l" t="t" r="r" b="b"/>
            <a:pathLst>
              <a:path w="5284" h="398">
                <a:moveTo>
                  <a:pt x="13469" y="17587"/>
                </a:moveTo>
                <a:cubicBezTo>
                  <a:pt x="13494" y="17686"/>
                  <a:pt x="13502" y="17719"/>
                  <a:pt x="13519" y="17785"/>
                </a:cubicBezTo>
              </a:path>
              <a:path w="5284" h="398">
                <a:moveTo>
                  <a:pt x="18752" y="17388"/>
                </a:moveTo>
                <a:cubicBezTo>
                  <a:pt x="18736" y="17461"/>
                  <a:pt x="18715" y="17538"/>
                  <a:pt x="18703" y="1761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49800" y="6116760"/>
            <a:ext cx="474480" cy="330120"/>
          </a:xfrm>
          <a:custGeom>
            <a:avLst/>
            <a:gdLst/>
            <a:ahLst/>
            <a:rect l="l" t="t" r="r" b="b"/>
            <a:pathLst>
              <a:path w="1316" h="919">
                <a:moveTo>
                  <a:pt x="12154" y="17066"/>
                </a:moveTo>
                <a:cubicBezTo>
                  <a:pt x="12074" y="17171"/>
                  <a:pt x="11969" y="17194"/>
                  <a:pt x="11857" y="17264"/>
                </a:cubicBezTo>
                <a:cubicBezTo>
                  <a:pt x="11815" y="17290"/>
                  <a:pt x="11857" y="17476"/>
                  <a:pt x="11857" y="17537"/>
                </a:cubicBezTo>
                <a:cubicBezTo>
                  <a:pt x="11857" y="17545"/>
                  <a:pt x="11857" y="17554"/>
                  <a:pt x="11857" y="17562"/>
                </a:cubicBezTo>
                <a:cubicBezTo>
                  <a:pt x="12016" y="17537"/>
                  <a:pt x="12135" y="17494"/>
                  <a:pt x="12303" y="17512"/>
                </a:cubicBezTo>
                <a:cubicBezTo>
                  <a:pt x="12318" y="17763"/>
                  <a:pt x="12172" y="17878"/>
                  <a:pt x="11906" y="17909"/>
                </a:cubicBezTo>
                <a:cubicBezTo>
                  <a:pt x="11873" y="17901"/>
                  <a:pt x="11840" y="17892"/>
                  <a:pt x="11807" y="17884"/>
                </a:cubicBezTo>
              </a:path>
              <a:path w="1316" h="919">
                <a:moveTo>
                  <a:pt x="12477" y="17190"/>
                </a:moveTo>
                <a:cubicBezTo>
                  <a:pt x="12411" y="17157"/>
                  <a:pt x="12644" y="17094"/>
                  <a:pt x="12700" y="17115"/>
                </a:cubicBezTo>
                <a:cubicBezTo>
                  <a:pt x="12811" y="17156"/>
                  <a:pt x="12645" y="17356"/>
                  <a:pt x="12626" y="17388"/>
                </a:cubicBezTo>
                <a:cubicBezTo>
                  <a:pt x="12618" y="17396"/>
                  <a:pt x="12609" y="17405"/>
                  <a:pt x="12601" y="17413"/>
                </a:cubicBezTo>
                <a:cubicBezTo>
                  <a:pt x="12676" y="17388"/>
                  <a:pt x="12845" y="17276"/>
                  <a:pt x="12874" y="17438"/>
                </a:cubicBezTo>
                <a:cubicBezTo>
                  <a:pt x="12895" y="17555"/>
                  <a:pt x="12675" y="17806"/>
                  <a:pt x="12551" y="17735"/>
                </a:cubicBezTo>
                <a:cubicBezTo>
                  <a:pt x="12551" y="17719"/>
                  <a:pt x="12551" y="17702"/>
                  <a:pt x="12551" y="17686"/>
                </a:cubicBezTo>
              </a:path>
              <a:path w="1316" h="919">
                <a:moveTo>
                  <a:pt x="12998" y="16991"/>
                </a:moveTo>
                <a:cubicBezTo>
                  <a:pt x="13064" y="17161"/>
                  <a:pt x="13069" y="17355"/>
                  <a:pt x="13097" y="17537"/>
                </a:cubicBezTo>
                <a:cubicBezTo>
                  <a:pt x="13105" y="17570"/>
                  <a:pt x="13114" y="17603"/>
                  <a:pt x="13122" y="1763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00760" y="6062760"/>
            <a:ext cx="822240" cy="339480"/>
          </a:xfrm>
          <a:custGeom>
            <a:avLst/>
            <a:gdLst/>
            <a:ahLst/>
            <a:rect l="l" t="t" r="r" b="b"/>
            <a:pathLst>
              <a:path w="2283" h="944">
                <a:moveTo>
                  <a:pt x="13940" y="17115"/>
                </a:moveTo>
                <a:cubicBezTo>
                  <a:pt x="14007" y="17115"/>
                  <a:pt x="14104" y="17070"/>
                  <a:pt x="14163" y="17041"/>
                </a:cubicBezTo>
                <a:cubicBezTo>
                  <a:pt x="14216" y="17014"/>
                  <a:pt x="14189" y="17032"/>
                  <a:pt x="14163" y="17041"/>
                </a:cubicBezTo>
                <a:cubicBezTo>
                  <a:pt x="14111" y="17045"/>
                  <a:pt x="13959" y="17039"/>
                  <a:pt x="13915" y="17066"/>
                </a:cubicBezTo>
                <a:cubicBezTo>
                  <a:pt x="13897" y="17077"/>
                  <a:pt x="13891" y="17107"/>
                  <a:pt x="13891" y="17140"/>
                </a:cubicBezTo>
                <a:cubicBezTo>
                  <a:pt x="13891" y="17226"/>
                  <a:pt x="13874" y="17317"/>
                  <a:pt x="13915" y="17388"/>
                </a:cubicBezTo>
                <a:cubicBezTo>
                  <a:pt x="14048" y="17299"/>
                  <a:pt x="14159" y="17212"/>
                  <a:pt x="14337" y="17289"/>
                </a:cubicBezTo>
                <a:cubicBezTo>
                  <a:pt x="14581" y="17395"/>
                  <a:pt x="14241" y="17630"/>
                  <a:pt x="14139" y="17661"/>
                </a:cubicBezTo>
                <a:cubicBezTo>
                  <a:pt x="14048" y="17661"/>
                  <a:pt x="14014" y="17670"/>
                  <a:pt x="14039" y="17587"/>
                </a:cubicBezTo>
              </a:path>
              <a:path w="2283" h="944">
                <a:moveTo>
                  <a:pt x="14635" y="17115"/>
                </a:moveTo>
                <a:cubicBezTo>
                  <a:pt x="14614" y="17179"/>
                  <a:pt x="14635" y="17116"/>
                  <a:pt x="14635" y="17115"/>
                </a:cubicBezTo>
                <a:cubicBezTo>
                  <a:pt x="14668" y="16998"/>
                  <a:pt x="14735" y="16910"/>
                  <a:pt x="14883" y="16942"/>
                </a:cubicBezTo>
                <a:cubicBezTo>
                  <a:pt x="15063" y="16982"/>
                  <a:pt x="15025" y="17162"/>
                  <a:pt x="14908" y="17239"/>
                </a:cubicBezTo>
                <a:cubicBezTo>
                  <a:pt x="14880" y="17239"/>
                  <a:pt x="14874" y="17237"/>
                  <a:pt x="14908" y="17214"/>
                </a:cubicBezTo>
                <a:cubicBezTo>
                  <a:pt x="14995" y="17182"/>
                  <a:pt x="15078" y="17192"/>
                  <a:pt x="15156" y="17264"/>
                </a:cubicBezTo>
                <a:cubicBezTo>
                  <a:pt x="15318" y="17413"/>
                  <a:pt x="15032" y="17576"/>
                  <a:pt x="14908" y="17587"/>
                </a:cubicBezTo>
                <a:cubicBezTo>
                  <a:pt x="14800" y="17565"/>
                  <a:pt x="14773" y="17562"/>
                  <a:pt x="14709" y="17537"/>
                </a:cubicBezTo>
              </a:path>
              <a:path w="2283" h="944">
                <a:moveTo>
                  <a:pt x="15379" y="16842"/>
                </a:moveTo>
                <a:cubicBezTo>
                  <a:pt x="15379" y="16951"/>
                  <a:pt x="15356" y="17054"/>
                  <a:pt x="15354" y="17165"/>
                </a:cubicBezTo>
                <a:cubicBezTo>
                  <a:pt x="15351" y="17305"/>
                  <a:pt x="15307" y="17513"/>
                  <a:pt x="15528" y="17487"/>
                </a:cubicBezTo>
                <a:cubicBezTo>
                  <a:pt x="15705" y="17466"/>
                  <a:pt x="15808" y="17334"/>
                  <a:pt x="15875" y="17190"/>
                </a:cubicBezTo>
                <a:cubicBezTo>
                  <a:pt x="15810" y="17138"/>
                  <a:pt x="15704" y="17102"/>
                  <a:pt x="15627" y="17165"/>
                </a:cubicBezTo>
                <a:cubicBezTo>
                  <a:pt x="15555" y="17224"/>
                  <a:pt x="15444" y="17396"/>
                  <a:pt x="15528" y="17487"/>
                </a:cubicBezTo>
                <a:cubicBezTo>
                  <a:pt x="15544" y="17495"/>
                  <a:pt x="15561" y="17504"/>
                  <a:pt x="15577" y="17512"/>
                </a:cubicBezTo>
              </a:path>
              <a:path w="2283" h="944">
                <a:moveTo>
                  <a:pt x="16173" y="17537"/>
                </a:moveTo>
                <a:cubicBezTo>
                  <a:pt x="16153" y="17642"/>
                  <a:pt x="16148" y="17701"/>
                  <a:pt x="16098" y="1778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0840" y="5991120"/>
            <a:ext cx="615960" cy="304920"/>
          </a:xfrm>
          <a:custGeom>
            <a:avLst/>
            <a:gdLst/>
            <a:ahLst/>
            <a:rect l="l" t="t" r="r" b="b"/>
            <a:pathLst>
              <a:path w="1712" h="844">
                <a:moveTo>
                  <a:pt x="16892" y="16892"/>
                </a:moveTo>
                <a:cubicBezTo>
                  <a:pt x="16863" y="16897"/>
                  <a:pt x="16673" y="16932"/>
                  <a:pt x="16669" y="16942"/>
                </a:cubicBezTo>
                <a:cubicBezTo>
                  <a:pt x="16642" y="17003"/>
                  <a:pt x="16669" y="17120"/>
                  <a:pt x="16669" y="17190"/>
                </a:cubicBezTo>
                <a:cubicBezTo>
                  <a:pt x="16775" y="17142"/>
                  <a:pt x="16941" y="17086"/>
                  <a:pt x="17041" y="17190"/>
                </a:cubicBezTo>
                <a:cubicBezTo>
                  <a:pt x="17177" y="17331"/>
                  <a:pt x="16992" y="17469"/>
                  <a:pt x="16867" y="17487"/>
                </a:cubicBezTo>
                <a:cubicBezTo>
                  <a:pt x="16776" y="17487"/>
                  <a:pt x="16768" y="17487"/>
                  <a:pt x="16718" y="17487"/>
                </a:cubicBezTo>
              </a:path>
              <a:path w="1712" h="844">
                <a:moveTo>
                  <a:pt x="17363" y="16842"/>
                </a:moveTo>
                <a:cubicBezTo>
                  <a:pt x="17403" y="16943"/>
                  <a:pt x="17408" y="17041"/>
                  <a:pt x="17438" y="17140"/>
                </a:cubicBezTo>
                <a:cubicBezTo>
                  <a:pt x="17593" y="17119"/>
                  <a:pt x="17704" y="17107"/>
                  <a:pt x="17785" y="16991"/>
                </a:cubicBezTo>
              </a:path>
              <a:path w="1712" h="844">
                <a:moveTo>
                  <a:pt x="17587" y="16644"/>
                </a:moveTo>
                <a:cubicBezTo>
                  <a:pt x="17644" y="16847"/>
                  <a:pt x="17668" y="17076"/>
                  <a:pt x="17686" y="17289"/>
                </a:cubicBezTo>
                <a:cubicBezTo>
                  <a:pt x="17686" y="17363"/>
                  <a:pt x="17661" y="17396"/>
                  <a:pt x="17711" y="17388"/>
                </a:cubicBezTo>
              </a:path>
              <a:path w="1712" h="844">
                <a:moveTo>
                  <a:pt x="17934" y="16743"/>
                </a:moveTo>
                <a:cubicBezTo>
                  <a:pt x="18096" y="16761"/>
                  <a:pt x="18219" y="16766"/>
                  <a:pt x="18380" y="16743"/>
                </a:cubicBezTo>
                <a:cubicBezTo>
                  <a:pt x="18380" y="16887"/>
                  <a:pt x="18351" y="17048"/>
                  <a:pt x="18331" y="17190"/>
                </a:cubicBezTo>
                <a:cubicBezTo>
                  <a:pt x="18312" y="17305"/>
                  <a:pt x="18303" y="17321"/>
                  <a:pt x="18306" y="1738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29280" y="5965920"/>
            <a:ext cx="652680" cy="303120"/>
          </a:xfrm>
          <a:custGeom>
            <a:avLst/>
            <a:gdLst/>
            <a:ahLst/>
            <a:rect l="l" t="t" r="r" b="b"/>
            <a:pathLst>
              <a:path w="1812" h="844">
                <a:moveTo>
                  <a:pt x="19571" y="16768"/>
                </a:moveTo>
                <a:cubicBezTo>
                  <a:pt x="19487" y="16768"/>
                  <a:pt x="19429" y="16807"/>
                  <a:pt x="19348" y="16818"/>
                </a:cubicBezTo>
                <a:cubicBezTo>
                  <a:pt x="19298" y="16825"/>
                  <a:pt x="19290" y="17012"/>
                  <a:pt x="19298" y="17066"/>
                </a:cubicBezTo>
                <a:cubicBezTo>
                  <a:pt x="19306" y="17082"/>
                  <a:pt x="19315" y="17099"/>
                  <a:pt x="19323" y="17115"/>
                </a:cubicBezTo>
                <a:cubicBezTo>
                  <a:pt x="19434" y="17024"/>
                  <a:pt x="19622" y="16878"/>
                  <a:pt x="19720" y="17090"/>
                </a:cubicBezTo>
                <a:cubicBezTo>
                  <a:pt x="19842" y="17354"/>
                  <a:pt x="19502" y="17403"/>
                  <a:pt x="19348" y="17413"/>
                </a:cubicBezTo>
                <a:cubicBezTo>
                  <a:pt x="19270" y="17413"/>
                  <a:pt x="19221" y="17428"/>
                  <a:pt x="19273" y="17388"/>
                </a:cubicBezTo>
              </a:path>
              <a:path w="1812" h="844">
                <a:moveTo>
                  <a:pt x="20042" y="16793"/>
                </a:moveTo>
                <a:cubicBezTo>
                  <a:pt x="20042" y="16886"/>
                  <a:pt x="20025" y="16974"/>
                  <a:pt x="20017" y="17066"/>
                </a:cubicBezTo>
                <a:cubicBezTo>
                  <a:pt x="20138" y="17116"/>
                  <a:pt x="20270" y="17053"/>
                  <a:pt x="20389" y="16991"/>
                </a:cubicBezTo>
                <a:cubicBezTo>
                  <a:pt x="20397" y="16983"/>
                  <a:pt x="20406" y="16974"/>
                  <a:pt x="20414" y="16966"/>
                </a:cubicBezTo>
              </a:path>
              <a:path w="1812" h="844">
                <a:moveTo>
                  <a:pt x="20265" y="16594"/>
                </a:moveTo>
                <a:cubicBezTo>
                  <a:pt x="20280" y="16802"/>
                  <a:pt x="20311" y="17005"/>
                  <a:pt x="20315" y="17214"/>
                </a:cubicBezTo>
                <a:cubicBezTo>
                  <a:pt x="20315" y="17289"/>
                  <a:pt x="20315" y="17297"/>
                  <a:pt x="20315" y="17338"/>
                </a:cubicBezTo>
              </a:path>
              <a:path w="1812" h="844">
                <a:moveTo>
                  <a:pt x="21010" y="16570"/>
                </a:moveTo>
                <a:cubicBezTo>
                  <a:pt x="20923" y="16605"/>
                  <a:pt x="20586" y="16762"/>
                  <a:pt x="20662" y="16917"/>
                </a:cubicBezTo>
                <a:cubicBezTo>
                  <a:pt x="20723" y="17042"/>
                  <a:pt x="20955" y="17017"/>
                  <a:pt x="21034" y="17190"/>
                </a:cubicBezTo>
                <a:cubicBezTo>
                  <a:pt x="20919" y="17272"/>
                  <a:pt x="20903" y="17284"/>
                  <a:pt x="20762" y="17264"/>
                </a:cubicBezTo>
                <a:cubicBezTo>
                  <a:pt x="20800" y="17053"/>
                  <a:pt x="20907" y="16827"/>
                  <a:pt x="21034" y="16644"/>
                </a:cubicBezTo>
                <a:cubicBezTo>
                  <a:pt x="21045" y="16628"/>
                  <a:pt x="21048" y="16641"/>
                  <a:pt x="20985" y="1666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29240" y="1919160"/>
            <a:ext cx="108000" cy="2189160"/>
          </a:xfrm>
          <a:custGeom>
            <a:avLst/>
            <a:gdLst/>
            <a:ahLst/>
            <a:rect l="l" t="t" r="r" b="b"/>
            <a:pathLst>
              <a:path w="299" h="6078">
                <a:moveTo>
                  <a:pt x="17859" y="5358"/>
                </a:moveTo>
                <a:cubicBezTo>
                  <a:pt x="17867" y="5350"/>
                  <a:pt x="17876" y="5341"/>
                  <a:pt x="17884" y="5333"/>
                </a:cubicBezTo>
                <a:cubicBezTo>
                  <a:pt x="17884" y="5338"/>
                  <a:pt x="17884" y="5355"/>
                  <a:pt x="17884" y="5383"/>
                </a:cubicBezTo>
                <a:cubicBezTo>
                  <a:pt x="17884" y="5475"/>
                  <a:pt x="17903" y="5579"/>
                  <a:pt x="17909" y="5655"/>
                </a:cubicBezTo>
                <a:cubicBezTo>
                  <a:pt x="17931" y="5917"/>
                  <a:pt x="17914" y="6193"/>
                  <a:pt x="17934" y="6449"/>
                </a:cubicBezTo>
                <a:cubicBezTo>
                  <a:pt x="17957" y="6742"/>
                  <a:pt x="17940" y="7063"/>
                  <a:pt x="17959" y="7342"/>
                </a:cubicBezTo>
                <a:cubicBezTo>
                  <a:pt x="17962" y="7392"/>
                  <a:pt x="17980" y="7454"/>
                  <a:pt x="17983" y="7491"/>
                </a:cubicBezTo>
                <a:cubicBezTo>
                  <a:pt x="17992" y="7599"/>
                  <a:pt x="17991" y="7706"/>
                  <a:pt x="18008" y="7813"/>
                </a:cubicBezTo>
                <a:cubicBezTo>
                  <a:pt x="18020" y="7890"/>
                  <a:pt x="18031" y="7955"/>
                  <a:pt x="18033" y="8037"/>
                </a:cubicBezTo>
                <a:cubicBezTo>
                  <a:pt x="18037" y="8195"/>
                  <a:pt x="18048" y="8358"/>
                  <a:pt x="18058" y="8508"/>
                </a:cubicBezTo>
                <a:cubicBezTo>
                  <a:pt x="18063" y="8589"/>
                  <a:pt x="18067" y="8654"/>
                  <a:pt x="18083" y="8731"/>
                </a:cubicBezTo>
                <a:cubicBezTo>
                  <a:pt x="18092" y="8772"/>
                  <a:pt x="18103" y="8819"/>
                  <a:pt x="18107" y="8855"/>
                </a:cubicBezTo>
                <a:cubicBezTo>
                  <a:pt x="18112" y="8910"/>
                  <a:pt x="18128" y="8987"/>
                  <a:pt x="18132" y="9029"/>
                </a:cubicBezTo>
                <a:cubicBezTo>
                  <a:pt x="18157" y="9331"/>
                  <a:pt x="18139" y="9651"/>
                  <a:pt x="18157" y="9947"/>
                </a:cubicBezTo>
                <a:cubicBezTo>
                  <a:pt x="18166" y="10091"/>
                  <a:pt x="18140" y="10234"/>
                  <a:pt x="18132" y="10368"/>
                </a:cubicBezTo>
                <a:cubicBezTo>
                  <a:pt x="18127" y="10451"/>
                  <a:pt x="18113" y="10539"/>
                  <a:pt x="18107" y="10616"/>
                </a:cubicBezTo>
                <a:cubicBezTo>
                  <a:pt x="18094" y="10775"/>
                  <a:pt x="18120" y="10946"/>
                  <a:pt x="18132" y="11088"/>
                </a:cubicBezTo>
                <a:cubicBezTo>
                  <a:pt x="18141" y="11199"/>
                  <a:pt x="18138" y="11312"/>
                  <a:pt x="18157" y="1141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48240" y="2152800"/>
            <a:ext cx="920880" cy="401400"/>
          </a:xfrm>
          <a:custGeom>
            <a:avLst/>
            <a:gdLst/>
            <a:ahLst/>
            <a:rect l="l" t="t" r="r" b="b"/>
            <a:pathLst>
              <a:path w="2556" h="1117">
                <a:moveTo>
                  <a:pt x="18231" y="6028"/>
                </a:moveTo>
                <a:cubicBezTo>
                  <a:pt x="18167" y="6030"/>
                  <a:pt x="17764" y="6019"/>
                  <a:pt x="17735" y="6077"/>
                </a:cubicBezTo>
                <a:cubicBezTo>
                  <a:pt x="17671" y="6203"/>
                  <a:pt x="17711" y="6439"/>
                  <a:pt x="17735" y="6573"/>
                </a:cubicBezTo>
                <a:cubicBezTo>
                  <a:pt x="17743" y="6590"/>
                  <a:pt x="17752" y="6606"/>
                  <a:pt x="17760" y="6623"/>
                </a:cubicBezTo>
                <a:cubicBezTo>
                  <a:pt x="17892" y="6510"/>
                  <a:pt x="18066" y="6467"/>
                  <a:pt x="18231" y="6573"/>
                </a:cubicBezTo>
                <a:cubicBezTo>
                  <a:pt x="18536" y="6769"/>
                  <a:pt x="18100" y="7020"/>
                  <a:pt x="17934" y="7069"/>
                </a:cubicBezTo>
                <a:cubicBezTo>
                  <a:pt x="17756" y="7089"/>
                  <a:pt x="17719" y="7122"/>
                  <a:pt x="17636" y="7045"/>
                </a:cubicBezTo>
              </a:path>
              <a:path w="2556" h="1117">
                <a:moveTo>
                  <a:pt x="18604" y="6251"/>
                </a:moveTo>
                <a:cubicBezTo>
                  <a:pt x="18667" y="6175"/>
                  <a:pt x="18879" y="6063"/>
                  <a:pt x="18976" y="6201"/>
                </a:cubicBezTo>
                <a:cubicBezTo>
                  <a:pt x="19101" y="6380"/>
                  <a:pt x="18791" y="6439"/>
                  <a:pt x="18703" y="6449"/>
                </a:cubicBezTo>
                <a:cubicBezTo>
                  <a:pt x="18833" y="6449"/>
                  <a:pt x="19092" y="6422"/>
                  <a:pt x="19124" y="6598"/>
                </a:cubicBezTo>
                <a:cubicBezTo>
                  <a:pt x="19179" y="6902"/>
                  <a:pt x="18680" y="6818"/>
                  <a:pt x="18554" y="6796"/>
                </a:cubicBezTo>
              </a:path>
              <a:path w="2556" h="1117">
                <a:moveTo>
                  <a:pt x="19472" y="5978"/>
                </a:moveTo>
                <a:cubicBezTo>
                  <a:pt x="19472" y="6131"/>
                  <a:pt x="19397" y="6270"/>
                  <a:pt x="19397" y="6424"/>
                </a:cubicBezTo>
                <a:cubicBezTo>
                  <a:pt x="19397" y="6676"/>
                  <a:pt x="19573" y="6835"/>
                  <a:pt x="19819" y="6722"/>
                </a:cubicBezTo>
                <a:cubicBezTo>
                  <a:pt x="20029" y="6626"/>
                  <a:pt x="20128" y="6513"/>
                  <a:pt x="20191" y="6325"/>
                </a:cubicBezTo>
                <a:cubicBezTo>
                  <a:pt x="19962" y="6313"/>
                  <a:pt x="19775" y="6417"/>
                  <a:pt x="19769" y="6697"/>
                </a:cubicBezTo>
                <a:cubicBezTo>
                  <a:pt x="19786" y="6722"/>
                  <a:pt x="19802" y="6747"/>
                  <a:pt x="19819" y="677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92880" y="2616120"/>
            <a:ext cx="858960" cy="411120"/>
          </a:xfrm>
          <a:custGeom>
            <a:avLst/>
            <a:gdLst/>
            <a:ahLst/>
            <a:rect l="l" t="t" r="r" b="b"/>
            <a:pathLst>
              <a:path w="2382" h="1142">
                <a:moveTo>
                  <a:pt x="18355" y="7417"/>
                </a:moveTo>
                <a:cubicBezTo>
                  <a:pt x="18186" y="7473"/>
                  <a:pt x="18006" y="7514"/>
                  <a:pt x="17835" y="7565"/>
                </a:cubicBezTo>
                <a:cubicBezTo>
                  <a:pt x="17761" y="7587"/>
                  <a:pt x="17849" y="7660"/>
                  <a:pt x="17859" y="7764"/>
                </a:cubicBezTo>
                <a:cubicBezTo>
                  <a:pt x="17859" y="7888"/>
                  <a:pt x="17859" y="7929"/>
                  <a:pt x="17859" y="8012"/>
                </a:cubicBezTo>
                <a:cubicBezTo>
                  <a:pt x="17859" y="8020"/>
                  <a:pt x="17859" y="8029"/>
                  <a:pt x="17859" y="8037"/>
                </a:cubicBezTo>
                <a:cubicBezTo>
                  <a:pt x="18011" y="7981"/>
                  <a:pt x="18182" y="7894"/>
                  <a:pt x="18355" y="7938"/>
                </a:cubicBezTo>
                <a:cubicBezTo>
                  <a:pt x="18388" y="7963"/>
                  <a:pt x="18422" y="7987"/>
                  <a:pt x="18455" y="8012"/>
                </a:cubicBezTo>
                <a:cubicBezTo>
                  <a:pt x="18392" y="8218"/>
                  <a:pt x="18081" y="8533"/>
                  <a:pt x="17785" y="8409"/>
                </a:cubicBezTo>
                <a:cubicBezTo>
                  <a:pt x="17777" y="8368"/>
                  <a:pt x="17768" y="8326"/>
                  <a:pt x="17760" y="8285"/>
                </a:cubicBezTo>
              </a:path>
              <a:path w="2382" h="1142">
                <a:moveTo>
                  <a:pt x="18852" y="7466"/>
                </a:moveTo>
                <a:cubicBezTo>
                  <a:pt x="18840" y="7555"/>
                  <a:pt x="18720" y="7828"/>
                  <a:pt x="18852" y="7888"/>
                </a:cubicBezTo>
                <a:cubicBezTo>
                  <a:pt x="18973" y="7943"/>
                  <a:pt x="19161" y="7849"/>
                  <a:pt x="19273" y="7813"/>
                </a:cubicBezTo>
              </a:path>
              <a:path w="2382" h="1142">
                <a:moveTo>
                  <a:pt x="19199" y="7392"/>
                </a:moveTo>
                <a:cubicBezTo>
                  <a:pt x="19214" y="7597"/>
                  <a:pt x="19210" y="7810"/>
                  <a:pt x="19248" y="8012"/>
                </a:cubicBezTo>
                <a:cubicBezTo>
                  <a:pt x="19276" y="8160"/>
                  <a:pt x="19294" y="8006"/>
                  <a:pt x="19323" y="7938"/>
                </a:cubicBezTo>
              </a:path>
              <a:path w="2382" h="1142">
                <a:moveTo>
                  <a:pt x="19571" y="7342"/>
                </a:moveTo>
                <a:cubicBezTo>
                  <a:pt x="19757" y="7332"/>
                  <a:pt x="19933" y="7296"/>
                  <a:pt x="20117" y="7268"/>
                </a:cubicBezTo>
                <a:cubicBezTo>
                  <a:pt x="20125" y="7268"/>
                  <a:pt x="20133" y="7268"/>
                  <a:pt x="20141" y="7268"/>
                </a:cubicBezTo>
                <a:cubicBezTo>
                  <a:pt x="20128" y="7494"/>
                  <a:pt x="20079" y="7712"/>
                  <a:pt x="20067" y="7938"/>
                </a:cubicBezTo>
                <a:cubicBezTo>
                  <a:pt x="20067" y="7954"/>
                  <a:pt x="20067" y="7971"/>
                  <a:pt x="20067" y="798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02240" y="3106800"/>
            <a:ext cx="866880" cy="376200"/>
          </a:xfrm>
          <a:custGeom>
            <a:avLst/>
            <a:gdLst/>
            <a:ahLst/>
            <a:rect l="l" t="t" r="r" b="b"/>
            <a:pathLst>
              <a:path w="2407" h="1043">
                <a:moveTo>
                  <a:pt x="18355" y="8756"/>
                </a:moveTo>
                <a:cubicBezTo>
                  <a:pt x="18252" y="8756"/>
                  <a:pt x="17900" y="8698"/>
                  <a:pt x="17835" y="8731"/>
                </a:cubicBezTo>
                <a:cubicBezTo>
                  <a:pt x="17789" y="8754"/>
                  <a:pt x="17867" y="9095"/>
                  <a:pt x="17859" y="9153"/>
                </a:cubicBezTo>
                <a:cubicBezTo>
                  <a:pt x="17851" y="9161"/>
                  <a:pt x="17843" y="9170"/>
                  <a:pt x="17835" y="9178"/>
                </a:cubicBezTo>
                <a:cubicBezTo>
                  <a:pt x="17893" y="9208"/>
                  <a:pt x="18083" y="9095"/>
                  <a:pt x="18182" y="9103"/>
                </a:cubicBezTo>
                <a:cubicBezTo>
                  <a:pt x="18602" y="9137"/>
                  <a:pt x="18365" y="9512"/>
                  <a:pt x="18132" y="9624"/>
                </a:cubicBezTo>
                <a:cubicBezTo>
                  <a:pt x="17936" y="9668"/>
                  <a:pt x="17886" y="9699"/>
                  <a:pt x="17785" y="9599"/>
                </a:cubicBezTo>
              </a:path>
              <a:path w="2407" h="1043">
                <a:moveTo>
                  <a:pt x="18976" y="8781"/>
                </a:moveTo>
                <a:cubicBezTo>
                  <a:pt x="18962" y="8906"/>
                  <a:pt x="18935" y="9028"/>
                  <a:pt x="18926" y="9153"/>
                </a:cubicBezTo>
                <a:cubicBezTo>
                  <a:pt x="19113" y="9153"/>
                  <a:pt x="19288" y="9132"/>
                  <a:pt x="19472" y="9103"/>
                </a:cubicBezTo>
              </a:path>
              <a:path w="2407" h="1043">
                <a:moveTo>
                  <a:pt x="19273" y="8657"/>
                </a:moveTo>
                <a:cubicBezTo>
                  <a:pt x="19287" y="8928"/>
                  <a:pt x="19382" y="9212"/>
                  <a:pt x="19348" y="9475"/>
                </a:cubicBezTo>
              </a:path>
              <a:path w="2407" h="1043">
                <a:moveTo>
                  <a:pt x="20166" y="8632"/>
                </a:moveTo>
                <a:cubicBezTo>
                  <a:pt x="20027" y="8665"/>
                  <a:pt x="19762" y="8774"/>
                  <a:pt x="19794" y="8979"/>
                </a:cubicBezTo>
                <a:cubicBezTo>
                  <a:pt x="19832" y="9217"/>
                  <a:pt x="20063" y="9193"/>
                  <a:pt x="20017" y="9451"/>
                </a:cubicBezTo>
                <a:cubicBezTo>
                  <a:pt x="19679" y="9379"/>
                  <a:pt x="19809" y="9235"/>
                  <a:pt x="19993" y="9004"/>
                </a:cubicBezTo>
                <a:cubicBezTo>
                  <a:pt x="20090" y="8883"/>
                  <a:pt x="20299" y="8746"/>
                  <a:pt x="20067" y="8731"/>
                </a:cubicBezTo>
                <a:cubicBezTo>
                  <a:pt x="20059" y="8731"/>
                  <a:pt x="20050" y="8731"/>
                  <a:pt x="20042" y="873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5240" y="3589200"/>
            <a:ext cx="849600" cy="349560"/>
          </a:xfrm>
          <a:custGeom>
            <a:avLst/>
            <a:gdLst/>
            <a:ahLst/>
            <a:rect l="l" t="t" r="r" b="b"/>
            <a:pathLst>
              <a:path w="2357" h="969">
                <a:moveTo>
                  <a:pt x="18331" y="10096"/>
                </a:moveTo>
                <a:cubicBezTo>
                  <a:pt x="18203" y="10114"/>
                  <a:pt x="18073" y="10160"/>
                  <a:pt x="17934" y="10170"/>
                </a:cubicBezTo>
                <a:cubicBezTo>
                  <a:pt x="17875" y="10174"/>
                  <a:pt x="17909" y="10407"/>
                  <a:pt x="17909" y="10443"/>
                </a:cubicBezTo>
                <a:cubicBezTo>
                  <a:pt x="17909" y="10476"/>
                  <a:pt x="17909" y="10509"/>
                  <a:pt x="17909" y="10542"/>
                </a:cubicBezTo>
                <a:cubicBezTo>
                  <a:pt x="18042" y="10497"/>
                  <a:pt x="18119" y="10365"/>
                  <a:pt x="18281" y="10368"/>
                </a:cubicBezTo>
                <a:cubicBezTo>
                  <a:pt x="18714" y="10376"/>
                  <a:pt x="18379" y="10756"/>
                  <a:pt x="18207" y="10840"/>
                </a:cubicBezTo>
                <a:cubicBezTo>
                  <a:pt x="18002" y="10941"/>
                  <a:pt x="17883" y="10946"/>
                  <a:pt x="17711" y="10864"/>
                </a:cubicBezTo>
              </a:path>
              <a:path w="2357" h="969">
                <a:moveTo>
                  <a:pt x="19000" y="10145"/>
                </a:moveTo>
                <a:cubicBezTo>
                  <a:pt x="19088" y="10057"/>
                  <a:pt x="19314" y="9965"/>
                  <a:pt x="19447" y="10071"/>
                </a:cubicBezTo>
                <a:cubicBezTo>
                  <a:pt x="19588" y="10183"/>
                  <a:pt x="19267" y="10337"/>
                  <a:pt x="19224" y="10368"/>
                </a:cubicBezTo>
                <a:cubicBezTo>
                  <a:pt x="19207" y="10376"/>
                  <a:pt x="19191" y="10385"/>
                  <a:pt x="19174" y="10393"/>
                </a:cubicBezTo>
                <a:cubicBezTo>
                  <a:pt x="19316" y="10373"/>
                  <a:pt x="19475" y="10340"/>
                  <a:pt x="19571" y="10492"/>
                </a:cubicBezTo>
                <a:cubicBezTo>
                  <a:pt x="19737" y="10754"/>
                  <a:pt x="19080" y="10793"/>
                  <a:pt x="19000" y="10790"/>
                </a:cubicBezTo>
                <a:cubicBezTo>
                  <a:pt x="18893" y="10768"/>
                  <a:pt x="18852" y="10778"/>
                  <a:pt x="18876" y="10691"/>
                </a:cubicBezTo>
              </a:path>
              <a:path w="2357" h="969">
                <a:moveTo>
                  <a:pt x="20017" y="9971"/>
                </a:moveTo>
                <a:cubicBezTo>
                  <a:pt x="20033" y="10204"/>
                  <a:pt x="20062" y="10433"/>
                  <a:pt x="20067" y="10666"/>
                </a:cubicBezTo>
                <a:cubicBezTo>
                  <a:pt x="20067" y="10724"/>
                  <a:pt x="20067" y="10732"/>
                  <a:pt x="20067" y="1076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05160" y="5813280"/>
            <a:ext cx="3029040" cy="81000"/>
          </a:xfrm>
          <a:custGeom>
            <a:avLst/>
            <a:gdLst/>
            <a:ahLst/>
            <a:rect l="l" t="t" r="r" b="b"/>
            <a:pathLst>
              <a:path w="8410" h="224">
                <a:moveTo>
                  <a:pt x="11683" y="16371"/>
                </a:moveTo>
                <a:cubicBezTo>
                  <a:pt x="11836" y="16371"/>
                  <a:pt x="11983" y="16367"/>
                  <a:pt x="12129" y="16346"/>
                </a:cubicBezTo>
                <a:cubicBezTo>
                  <a:pt x="12262" y="16327"/>
                  <a:pt x="12391" y="16305"/>
                  <a:pt x="12526" y="16297"/>
                </a:cubicBezTo>
                <a:cubicBezTo>
                  <a:pt x="12593" y="16293"/>
                  <a:pt x="12701" y="16270"/>
                  <a:pt x="12750" y="16272"/>
                </a:cubicBezTo>
                <a:cubicBezTo>
                  <a:pt x="12846" y="16275"/>
                  <a:pt x="12904" y="16274"/>
                  <a:pt x="12998" y="16272"/>
                </a:cubicBezTo>
                <a:cubicBezTo>
                  <a:pt x="13189" y="16269"/>
                  <a:pt x="13382" y="16256"/>
                  <a:pt x="13568" y="16247"/>
                </a:cubicBezTo>
                <a:cubicBezTo>
                  <a:pt x="13869" y="16232"/>
                  <a:pt x="14166" y="16252"/>
                  <a:pt x="14461" y="16222"/>
                </a:cubicBezTo>
                <a:cubicBezTo>
                  <a:pt x="14543" y="16214"/>
                  <a:pt x="14596" y="16220"/>
                  <a:pt x="14660" y="16222"/>
                </a:cubicBezTo>
                <a:cubicBezTo>
                  <a:pt x="14763" y="16226"/>
                  <a:pt x="14856" y="16241"/>
                  <a:pt x="14957" y="16247"/>
                </a:cubicBezTo>
                <a:cubicBezTo>
                  <a:pt x="15151" y="16258"/>
                  <a:pt x="15336" y="16225"/>
                  <a:pt x="15528" y="16222"/>
                </a:cubicBezTo>
                <a:cubicBezTo>
                  <a:pt x="15696" y="16219"/>
                  <a:pt x="15862" y="16238"/>
                  <a:pt x="16024" y="16247"/>
                </a:cubicBezTo>
                <a:cubicBezTo>
                  <a:pt x="16182" y="16256"/>
                  <a:pt x="16340" y="16264"/>
                  <a:pt x="16495" y="16272"/>
                </a:cubicBezTo>
                <a:cubicBezTo>
                  <a:pt x="16594" y="16277"/>
                  <a:pt x="16702" y="16292"/>
                  <a:pt x="16793" y="16297"/>
                </a:cubicBezTo>
                <a:cubicBezTo>
                  <a:pt x="16900" y="16303"/>
                  <a:pt x="17012" y="16316"/>
                  <a:pt x="17115" y="16321"/>
                </a:cubicBezTo>
                <a:cubicBezTo>
                  <a:pt x="17241" y="16327"/>
                  <a:pt x="17392" y="16349"/>
                  <a:pt x="17512" y="16346"/>
                </a:cubicBezTo>
                <a:cubicBezTo>
                  <a:pt x="17682" y="16342"/>
                  <a:pt x="17864" y="16314"/>
                  <a:pt x="18033" y="16297"/>
                </a:cubicBezTo>
                <a:cubicBezTo>
                  <a:pt x="18164" y="16283"/>
                  <a:pt x="18300" y="16267"/>
                  <a:pt x="18430" y="16247"/>
                </a:cubicBezTo>
                <a:cubicBezTo>
                  <a:pt x="18577" y="16225"/>
                  <a:pt x="18726" y="16204"/>
                  <a:pt x="18876" y="16197"/>
                </a:cubicBezTo>
                <a:cubicBezTo>
                  <a:pt x="19008" y="16191"/>
                  <a:pt x="19145" y="16179"/>
                  <a:pt x="19273" y="16173"/>
                </a:cubicBezTo>
                <a:cubicBezTo>
                  <a:pt x="19534" y="16161"/>
                  <a:pt x="19881" y="16173"/>
                  <a:pt x="20092" y="1617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85960" y="5348160"/>
            <a:ext cx="2527200" cy="108000"/>
          </a:xfrm>
          <a:custGeom>
            <a:avLst/>
            <a:gdLst/>
            <a:ahLst/>
            <a:rect l="l" t="t" r="r" b="b"/>
            <a:pathLst>
              <a:path w="7021" h="299">
                <a:moveTo>
                  <a:pt x="4961" y="15056"/>
                </a:moveTo>
                <a:cubicBezTo>
                  <a:pt x="5081" y="15060"/>
                  <a:pt x="5189" y="15078"/>
                  <a:pt x="5308" y="15081"/>
                </a:cubicBezTo>
                <a:cubicBezTo>
                  <a:pt x="5396" y="15083"/>
                  <a:pt x="5477" y="15061"/>
                  <a:pt x="5556" y="15056"/>
                </a:cubicBezTo>
                <a:cubicBezTo>
                  <a:pt x="5659" y="15049"/>
                  <a:pt x="5789" y="15037"/>
                  <a:pt x="5879" y="15032"/>
                </a:cubicBezTo>
                <a:cubicBezTo>
                  <a:pt x="5989" y="15026"/>
                  <a:pt x="6092" y="15021"/>
                  <a:pt x="6201" y="15007"/>
                </a:cubicBezTo>
                <a:cubicBezTo>
                  <a:pt x="6263" y="14999"/>
                  <a:pt x="6362" y="15011"/>
                  <a:pt x="6400" y="15007"/>
                </a:cubicBezTo>
                <a:cubicBezTo>
                  <a:pt x="6449" y="15002"/>
                  <a:pt x="6519" y="14988"/>
                  <a:pt x="6573" y="14982"/>
                </a:cubicBezTo>
                <a:cubicBezTo>
                  <a:pt x="6675" y="14971"/>
                  <a:pt x="6768" y="14959"/>
                  <a:pt x="6871" y="14957"/>
                </a:cubicBezTo>
                <a:cubicBezTo>
                  <a:pt x="7048" y="14954"/>
                  <a:pt x="7218" y="14939"/>
                  <a:pt x="7392" y="14932"/>
                </a:cubicBezTo>
                <a:cubicBezTo>
                  <a:pt x="7561" y="14925"/>
                  <a:pt x="7724" y="14950"/>
                  <a:pt x="7888" y="14957"/>
                </a:cubicBezTo>
                <a:cubicBezTo>
                  <a:pt x="8007" y="14962"/>
                  <a:pt x="8118" y="14967"/>
                  <a:pt x="8235" y="14982"/>
                </a:cubicBezTo>
                <a:cubicBezTo>
                  <a:pt x="8354" y="14997"/>
                  <a:pt x="8489" y="15009"/>
                  <a:pt x="8607" y="15032"/>
                </a:cubicBezTo>
                <a:cubicBezTo>
                  <a:pt x="8724" y="15055"/>
                  <a:pt x="8838" y="15087"/>
                  <a:pt x="8954" y="15106"/>
                </a:cubicBezTo>
                <a:cubicBezTo>
                  <a:pt x="9073" y="15126"/>
                  <a:pt x="9207" y="15147"/>
                  <a:pt x="9327" y="15156"/>
                </a:cubicBezTo>
                <a:cubicBezTo>
                  <a:pt x="9556" y="15172"/>
                  <a:pt x="9795" y="15161"/>
                  <a:pt x="10021" y="15131"/>
                </a:cubicBezTo>
                <a:cubicBezTo>
                  <a:pt x="10123" y="15117"/>
                  <a:pt x="10219" y="15100"/>
                  <a:pt x="10319" y="15081"/>
                </a:cubicBezTo>
                <a:cubicBezTo>
                  <a:pt x="10395" y="15066"/>
                  <a:pt x="10467" y="15047"/>
                  <a:pt x="10542" y="15032"/>
                </a:cubicBezTo>
                <a:cubicBezTo>
                  <a:pt x="10622" y="15016"/>
                  <a:pt x="10709" y="15019"/>
                  <a:pt x="10790" y="15007"/>
                </a:cubicBezTo>
                <a:cubicBezTo>
                  <a:pt x="10881" y="14993"/>
                  <a:pt x="10973" y="14964"/>
                  <a:pt x="11063" y="14957"/>
                </a:cubicBezTo>
                <a:cubicBezTo>
                  <a:pt x="11189" y="14947"/>
                  <a:pt x="11310" y="14949"/>
                  <a:pt x="11435" y="14932"/>
                </a:cubicBezTo>
                <a:cubicBezTo>
                  <a:pt x="11517" y="14920"/>
                  <a:pt x="11601" y="14920"/>
                  <a:pt x="11683" y="14908"/>
                </a:cubicBezTo>
                <a:cubicBezTo>
                  <a:pt x="11733" y="14901"/>
                  <a:pt x="11781" y="14891"/>
                  <a:pt x="11832" y="14883"/>
                </a:cubicBezTo>
                <a:cubicBezTo>
                  <a:pt x="11870" y="14877"/>
                  <a:pt x="11889" y="14864"/>
                  <a:pt x="11931" y="14858"/>
                </a:cubicBezTo>
                <a:cubicBezTo>
                  <a:pt x="11948" y="14858"/>
                  <a:pt x="11964" y="14858"/>
                  <a:pt x="11981" y="1485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05320" y="4038480"/>
            <a:ext cx="0" cy="167652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en we order numbers, our eyes move from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left to right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as we go from the  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argest place values to the smallest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. How will this change with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cimals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66"/>
                </a:solidFill>
                <a:uFillTx/>
                <a:latin typeface="Arial"/>
              </a:rPr>
              <a:t>Exampl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rder from least to greatest: 0.416, 0.92, 0.4, 2.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16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1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0880" y="1571760"/>
            <a:ext cx="1590480" cy="81000"/>
          </a:xfrm>
          <a:custGeom>
            <a:avLst/>
            <a:gdLst/>
            <a:ahLst/>
            <a:rect l="l" t="t" r="r" b="b"/>
            <a:pathLst>
              <a:path w="4416" h="224">
                <a:moveTo>
                  <a:pt x="5060" y="4589"/>
                </a:moveTo>
                <a:cubicBezTo>
                  <a:pt x="5112" y="4563"/>
                  <a:pt x="5043" y="4547"/>
                  <a:pt x="5135" y="4539"/>
                </a:cubicBezTo>
                <a:cubicBezTo>
                  <a:pt x="5344" y="4520"/>
                  <a:pt x="5583" y="4530"/>
                  <a:pt x="5779" y="4514"/>
                </a:cubicBezTo>
                <a:cubicBezTo>
                  <a:pt x="5903" y="4504"/>
                  <a:pt x="6030" y="4501"/>
                  <a:pt x="6152" y="4490"/>
                </a:cubicBezTo>
                <a:cubicBezTo>
                  <a:pt x="6256" y="4481"/>
                  <a:pt x="6372" y="4484"/>
                  <a:pt x="6474" y="4465"/>
                </a:cubicBezTo>
                <a:cubicBezTo>
                  <a:pt x="6566" y="4448"/>
                  <a:pt x="6619" y="4461"/>
                  <a:pt x="6697" y="4465"/>
                </a:cubicBezTo>
                <a:cubicBezTo>
                  <a:pt x="6840" y="4473"/>
                  <a:pt x="6976" y="4444"/>
                  <a:pt x="7119" y="4440"/>
                </a:cubicBezTo>
                <a:cubicBezTo>
                  <a:pt x="7230" y="4437"/>
                  <a:pt x="7364" y="4472"/>
                  <a:pt x="7466" y="4465"/>
                </a:cubicBezTo>
                <a:cubicBezTo>
                  <a:pt x="7556" y="4459"/>
                  <a:pt x="7644" y="4440"/>
                  <a:pt x="7739" y="4440"/>
                </a:cubicBezTo>
                <a:cubicBezTo>
                  <a:pt x="7837" y="4440"/>
                  <a:pt x="7919" y="4425"/>
                  <a:pt x="8012" y="4415"/>
                </a:cubicBezTo>
                <a:cubicBezTo>
                  <a:pt x="8118" y="4404"/>
                  <a:pt x="8229" y="4399"/>
                  <a:pt x="8334" y="4390"/>
                </a:cubicBezTo>
                <a:cubicBezTo>
                  <a:pt x="8434" y="4381"/>
                  <a:pt x="8535" y="4374"/>
                  <a:pt x="8632" y="4366"/>
                </a:cubicBezTo>
                <a:cubicBezTo>
                  <a:pt x="8761" y="4356"/>
                  <a:pt x="8880" y="4377"/>
                  <a:pt x="9004" y="4390"/>
                </a:cubicBezTo>
                <a:cubicBezTo>
                  <a:pt x="9101" y="4400"/>
                  <a:pt x="9202" y="4366"/>
                  <a:pt x="9302" y="4366"/>
                </a:cubicBezTo>
                <a:cubicBezTo>
                  <a:pt x="9360" y="4366"/>
                  <a:pt x="9417" y="4366"/>
                  <a:pt x="9475" y="436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0000" y="3724200"/>
            <a:ext cx="2759040" cy="61920"/>
          </a:xfrm>
          <a:custGeom>
            <a:avLst/>
            <a:gdLst/>
            <a:ahLst/>
            <a:rect l="l" t="t" r="r" b="b"/>
            <a:pathLst>
              <a:path w="7665" h="174">
                <a:moveTo>
                  <a:pt x="12998" y="10468"/>
                </a:moveTo>
                <a:cubicBezTo>
                  <a:pt x="13080" y="10475"/>
                  <a:pt x="13140" y="10468"/>
                  <a:pt x="13221" y="10468"/>
                </a:cubicBezTo>
                <a:cubicBezTo>
                  <a:pt x="13382" y="10468"/>
                  <a:pt x="13536" y="10452"/>
                  <a:pt x="13692" y="10443"/>
                </a:cubicBezTo>
                <a:cubicBezTo>
                  <a:pt x="13806" y="10436"/>
                  <a:pt x="13911" y="10463"/>
                  <a:pt x="14015" y="10468"/>
                </a:cubicBezTo>
                <a:cubicBezTo>
                  <a:pt x="14156" y="10475"/>
                  <a:pt x="14296" y="10473"/>
                  <a:pt x="14436" y="10492"/>
                </a:cubicBezTo>
                <a:cubicBezTo>
                  <a:pt x="14530" y="10504"/>
                  <a:pt x="14587" y="10515"/>
                  <a:pt x="14684" y="10517"/>
                </a:cubicBezTo>
                <a:cubicBezTo>
                  <a:pt x="15055" y="10524"/>
                  <a:pt x="15412" y="10490"/>
                  <a:pt x="15776" y="10468"/>
                </a:cubicBezTo>
                <a:cubicBezTo>
                  <a:pt x="15932" y="10458"/>
                  <a:pt x="16093" y="10450"/>
                  <a:pt x="16247" y="10443"/>
                </a:cubicBezTo>
                <a:cubicBezTo>
                  <a:pt x="16486" y="10432"/>
                  <a:pt x="16728" y="10423"/>
                  <a:pt x="16966" y="10418"/>
                </a:cubicBezTo>
                <a:cubicBezTo>
                  <a:pt x="17130" y="10415"/>
                  <a:pt x="17298" y="10405"/>
                  <a:pt x="17462" y="10393"/>
                </a:cubicBezTo>
                <a:cubicBezTo>
                  <a:pt x="17595" y="10383"/>
                  <a:pt x="17724" y="10370"/>
                  <a:pt x="17859" y="10368"/>
                </a:cubicBezTo>
                <a:cubicBezTo>
                  <a:pt x="18125" y="10363"/>
                  <a:pt x="18390" y="10371"/>
                  <a:pt x="18653" y="10393"/>
                </a:cubicBezTo>
                <a:cubicBezTo>
                  <a:pt x="18794" y="10405"/>
                  <a:pt x="18931" y="10418"/>
                  <a:pt x="19075" y="10418"/>
                </a:cubicBezTo>
                <a:cubicBezTo>
                  <a:pt x="19268" y="10418"/>
                  <a:pt x="19454" y="10406"/>
                  <a:pt x="19645" y="10393"/>
                </a:cubicBezTo>
                <a:cubicBezTo>
                  <a:pt x="19794" y="10383"/>
                  <a:pt x="19942" y="10380"/>
                  <a:pt x="20092" y="10368"/>
                </a:cubicBezTo>
                <a:cubicBezTo>
                  <a:pt x="20207" y="10359"/>
                  <a:pt x="20320" y="10346"/>
                  <a:pt x="20439" y="10344"/>
                </a:cubicBezTo>
                <a:cubicBezTo>
                  <a:pt x="20513" y="10343"/>
                  <a:pt x="20588" y="10344"/>
                  <a:pt x="20662" y="1034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24160" y="5054760"/>
            <a:ext cx="982800" cy="115560"/>
          </a:xfrm>
          <a:custGeom>
            <a:avLst/>
            <a:gdLst/>
            <a:ahLst/>
            <a:rect l="l" t="t" r="r" b="b"/>
            <a:pathLst>
              <a:path w="2730" h="324">
                <a:moveTo>
                  <a:pt x="8954" y="14362"/>
                </a:moveTo>
                <a:cubicBezTo>
                  <a:pt x="9500" y="14247"/>
                  <a:pt x="10061" y="14197"/>
                  <a:pt x="10616" y="14139"/>
                </a:cubicBezTo>
                <a:cubicBezTo>
                  <a:pt x="10971" y="14102"/>
                  <a:pt x="11329" y="14080"/>
                  <a:pt x="11683" y="1403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75160" y="4286160"/>
            <a:ext cx="642960" cy="339840"/>
          </a:xfrm>
          <a:custGeom>
            <a:avLst/>
            <a:gdLst/>
            <a:ahLst/>
            <a:rect l="l" t="t" r="r" b="b"/>
            <a:pathLst>
              <a:path w="1787" h="944">
                <a:moveTo>
                  <a:pt x="15056" y="12229"/>
                </a:moveTo>
                <a:cubicBezTo>
                  <a:pt x="15013" y="12336"/>
                  <a:pt x="14971" y="12443"/>
                  <a:pt x="14932" y="12551"/>
                </a:cubicBezTo>
                <a:cubicBezTo>
                  <a:pt x="15104" y="12541"/>
                  <a:pt x="15241" y="12489"/>
                  <a:pt x="15404" y="12452"/>
                </a:cubicBezTo>
              </a:path>
              <a:path w="1787" h="944">
                <a:moveTo>
                  <a:pt x="15304" y="11956"/>
                </a:moveTo>
                <a:cubicBezTo>
                  <a:pt x="15304" y="12214"/>
                  <a:pt x="15296" y="12469"/>
                  <a:pt x="15280" y="12725"/>
                </a:cubicBezTo>
                <a:cubicBezTo>
                  <a:pt x="15280" y="12799"/>
                  <a:pt x="15280" y="12808"/>
                  <a:pt x="15280" y="12849"/>
                </a:cubicBezTo>
              </a:path>
              <a:path w="1787" h="944">
                <a:moveTo>
                  <a:pt x="15900" y="12055"/>
                </a:moveTo>
                <a:cubicBezTo>
                  <a:pt x="15900" y="11928"/>
                  <a:pt x="15811" y="12231"/>
                  <a:pt x="15776" y="12353"/>
                </a:cubicBezTo>
                <a:cubicBezTo>
                  <a:pt x="15711" y="12610"/>
                  <a:pt x="15675" y="12668"/>
                  <a:pt x="15751" y="12824"/>
                </a:cubicBezTo>
                <a:cubicBezTo>
                  <a:pt x="16011" y="12800"/>
                  <a:pt x="16182" y="12615"/>
                  <a:pt x="16123" y="12303"/>
                </a:cubicBezTo>
                <a:cubicBezTo>
                  <a:pt x="16091" y="12133"/>
                  <a:pt x="15952" y="12144"/>
                  <a:pt x="15825" y="12129"/>
                </a:cubicBezTo>
              </a:path>
              <a:path w="1787" h="944">
                <a:moveTo>
                  <a:pt x="16446" y="11906"/>
                </a:moveTo>
                <a:cubicBezTo>
                  <a:pt x="16351" y="12190"/>
                  <a:pt x="16266" y="12390"/>
                  <a:pt x="16421" y="12650"/>
                </a:cubicBezTo>
                <a:cubicBezTo>
                  <a:pt x="16700" y="12453"/>
                  <a:pt x="16824" y="12346"/>
                  <a:pt x="16570" y="1210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9240" y="4572000"/>
            <a:ext cx="9720" cy="442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14635" y="12700"/>
                </a:moveTo>
                <a:cubicBezTo>
                  <a:pt x="14607" y="12757"/>
                  <a:pt x="14601" y="12780"/>
                  <a:pt x="14635" y="1282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52840" y="2455920"/>
            <a:ext cx="347400" cy="938160"/>
          </a:xfrm>
          <a:custGeom>
            <a:avLst/>
            <a:gdLst/>
            <a:ahLst/>
            <a:rect l="l" t="t" r="r" b="b"/>
            <a:pathLst>
              <a:path w="968" h="2606">
                <a:moveTo>
                  <a:pt x="8086" y="6821"/>
                </a:moveTo>
                <a:cubicBezTo>
                  <a:pt x="7918" y="6870"/>
                  <a:pt x="7739" y="6938"/>
                  <a:pt x="7565" y="6970"/>
                </a:cubicBezTo>
                <a:cubicBezTo>
                  <a:pt x="7447" y="6992"/>
                  <a:pt x="7477" y="7071"/>
                  <a:pt x="7491" y="7218"/>
                </a:cubicBezTo>
                <a:cubicBezTo>
                  <a:pt x="7511" y="7418"/>
                  <a:pt x="7516" y="7611"/>
                  <a:pt x="7516" y="7813"/>
                </a:cubicBezTo>
                <a:cubicBezTo>
                  <a:pt x="7516" y="8023"/>
                  <a:pt x="7481" y="8227"/>
                  <a:pt x="7466" y="8434"/>
                </a:cubicBezTo>
                <a:cubicBezTo>
                  <a:pt x="7456" y="8576"/>
                  <a:pt x="7458" y="8720"/>
                  <a:pt x="7441" y="8855"/>
                </a:cubicBezTo>
                <a:cubicBezTo>
                  <a:pt x="7425" y="8983"/>
                  <a:pt x="7417" y="9126"/>
                  <a:pt x="7392" y="9252"/>
                </a:cubicBezTo>
                <a:cubicBezTo>
                  <a:pt x="7380" y="9314"/>
                  <a:pt x="7372" y="9342"/>
                  <a:pt x="7367" y="9401"/>
                </a:cubicBezTo>
                <a:cubicBezTo>
                  <a:pt x="7460" y="9408"/>
                  <a:pt x="7546" y="9424"/>
                  <a:pt x="7640" y="9426"/>
                </a:cubicBezTo>
                <a:cubicBezTo>
                  <a:pt x="7825" y="9430"/>
                  <a:pt x="8210" y="9426"/>
                  <a:pt x="8310" y="942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52880" y="4017960"/>
            <a:ext cx="973080" cy="1751040"/>
          </a:xfrm>
          <a:custGeom>
            <a:avLst/>
            <a:gdLst/>
            <a:ahLst/>
            <a:rect l="l" t="t" r="r" b="b"/>
            <a:pathLst>
              <a:path w="2705" h="4863">
                <a:moveTo>
                  <a:pt x="8806" y="12154"/>
                </a:moveTo>
                <a:cubicBezTo>
                  <a:pt x="8879" y="12126"/>
                  <a:pt x="9103" y="12134"/>
                  <a:pt x="9203" y="12129"/>
                </a:cubicBezTo>
                <a:cubicBezTo>
                  <a:pt x="9799" y="12100"/>
                  <a:pt x="10394" y="12078"/>
                  <a:pt x="10988" y="12030"/>
                </a:cubicBezTo>
                <a:cubicBezTo>
                  <a:pt x="11148" y="12017"/>
                  <a:pt x="11302" y="11995"/>
                  <a:pt x="11460" y="11981"/>
                </a:cubicBezTo>
              </a:path>
              <a:path w="2705" h="4863">
                <a:moveTo>
                  <a:pt x="8954" y="13345"/>
                </a:moveTo>
                <a:cubicBezTo>
                  <a:pt x="9175" y="13191"/>
                  <a:pt x="9706" y="13301"/>
                  <a:pt x="9971" y="13295"/>
                </a:cubicBezTo>
                <a:cubicBezTo>
                  <a:pt x="10377" y="13286"/>
                  <a:pt x="10781" y="13271"/>
                  <a:pt x="11187" y="13271"/>
                </a:cubicBezTo>
                <a:cubicBezTo>
                  <a:pt x="11179" y="13271"/>
                  <a:pt x="11170" y="13271"/>
                  <a:pt x="11162" y="13271"/>
                </a:cubicBezTo>
              </a:path>
              <a:path w="2705" h="4863">
                <a:moveTo>
                  <a:pt x="9029" y="15503"/>
                </a:moveTo>
                <a:cubicBezTo>
                  <a:pt x="9519" y="15431"/>
                  <a:pt x="9997" y="15347"/>
                  <a:pt x="10492" y="15304"/>
                </a:cubicBezTo>
                <a:cubicBezTo>
                  <a:pt x="10573" y="15297"/>
                  <a:pt x="10849" y="15300"/>
                  <a:pt x="10914" y="15304"/>
                </a:cubicBezTo>
              </a:path>
              <a:path w="2705" h="4863">
                <a:moveTo>
                  <a:pt x="9327" y="11162"/>
                </a:moveTo>
                <a:cubicBezTo>
                  <a:pt x="9327" y="11251"/>
                  <a:pt x="9343" y="11328"/>
                  <a:pt x="9351" y="11410"/>
                </a:cubicBezTo>
                <a:cubicBezTo>
                  <a:pt x="9356" y="11460"/>
                  <a:pt x="9372" y="11514"/>
                  <a:pt x="9376" y="11559"/>
                </a:cubicBezTo>
                <a:cubicBezTo>
                  <a:pt x="9380" y="11603"/>
                  <a:pt x="9396" y="11651"/>
                  <a:pt x="9401" y="11683"/>
                </a:cubicBezTo>
                <a:cubicBezTo>
                  <a:pt x="9406" y="11719"/>
                  <a:pt x="9422" y="11756"/>
                  <a:pt x="9426" y="11782"/>
                </a:cubicBezTo>
                <a:cubicBezTo>
                  <a:pt x="9477" y="12084"/>
                  <a:pt x="9437" y="12488"/>
                  <a:pt x="9401" y="12774"/>
                </a:cubicBezTo>
                <a:cubicBezTo>
                  <a:pt x="9390" y="12861"/>
                  <a:pt x="9384" y="12971"/>
                  <a:pt x="9376" y="13047"/>
                </a:cubicBezTo>
                <a:cubicBezTo>
                  <a:pt x="9357" y="13221"/>
                  <a:pt x="9383" y="13403"/>
                  <a:pt x="9401" y="13568"/>
                </a:cubicBezTo>
                <a:cubicBezTo>
                  <a:pt x="9417" y="13714"/>
                  <a:pt x="9412" y="13874"/>
                  <a:pt x="9426" y="14015"/>
                </a:cubicBezTo>
                <a:cubicBezTo>
                  <a:pt x="9450" y="14260"/>
                  <a:pt x="9375" y="14558"/>
                  <a:pt x="9451" y="14784"/>
                </a:cubicBezTo>
              </a:path>
              <a:path w="2705" h="4863">
                <a:moveTo>
                  <a:pt x="10244" y="15007"/>
                </a:moveTo>
                <a:cubicBezTo>
                  <a:pt x="10159" y="15020"/>
                  <a:pt x="10084" y="15030"/>
                  <a:pt x="9996" y="15032"/>
                </a:cubicBezTo>
                <a:cubicBezTo>
                  <a:pt x="9900" y="15034"/>
                  <a:pt x="9813" y="15046"/>
                  <a:pt x="9723" y="15056"/>
                </a:cubicBezTo>
                <a:cubicBezTo>
                  <a:pt x="9634" y="15066"/>
                  <a:pt x="9561" y="15052"/>
                  <a:pt x="9475" y="15081"/>
                </a:cubicBezTo>
                <a:cubicBezTo>
                  <a:pt x="9394" y="15108"/>
                  <a:pt x="9301" y="15156"/>
                  <a:pt x="9227" y="15205"/>
                </a:cubicBezTo>
                <a:cubicBezTo>
                  <a:pt x="9133" y="15267"/>
                  <a:pt x="9029" y="15318"/>
                  <a:pt x="8954" y="15404"/>
                </a:cubicBezTo>
                <a:cubicBezTo>
                  <a:pt x="8887" y="15480"/>
                  <a:pt x="8829" y="15544"/>
                  <a:pt x="8781" y="15627"/>
                </a:cubicBezTo>
                <a:cubicBezTo>
                  <a:pt x="8729" y="15717"/>
                  <a:pt x="8771" y="15798"/>
                  <a:pt x="8830" y="15875"/>
                </a:cubicBezTo>
                <a:cubicBezTo>
                  <a:pt x="8909" y="15977"/>
                  <a:pt x="9102" y="16037"/>
                  <a:pt x="9227" y="16024"/>
                </a:cubicBezTo>
                <a:cubicBezTo>
                  <a:pt x="9374" y="16009"/>
                  <a:pt x="9528" y="16017"/>
                  <a:pt x="9674" y="15999"/>
                </a:cubicBezTo>
                <a:cubicBezTo>
                  <a:pt x="9839" y="15979"/>
                  <a:pt x="10003" y="15953"/>
                  <a:pt x="10170" y="15949"/>
                </a:cubicBezTo>
                <a:cubicBezTo>
                  <a:pt x="10302" y="15946"/>
                  <a:pt x="10461" y="15947"/>
                  <a:pt x="10592" y="15925"/>
                </a:cubicBezTo>
                <a:cubicBezTo>
                  <a:pt x="10688" y="15909"/>
                  <a:pt x="10794" y="15896"/>
                  <a:pt x="10889" y="15875"/>
                </a:cubicBezTo>
                <a:cubicBezTo>
                  <a:pt x="10986" y="15853"/>
                  <a:pt x="11076" y="15789"/>
                  <a:pt x="11162" y="15751"/>
                </a:cubicBezTo>
                <a:cubicBezTo>
                  <a:pt x="11240" y="15717"/>
                  <a:pt x="11289" y="15708"/>
                  <a:pt x="11336" y="15627"/>
                </a:cubicBezTo>
                <a:cubicBezTo>
                  <a:pt x="11389" y="15537"/>
                  <a:pt x="11355" y="15375"/>
                  <a:pt x="11336" y="15280"/>
                </a:cubicBezTo>
                <a:cubicBezTo>
                  <a:pt x="11309" y="15146"/>
                  <a:pt x="11314" y="15171"/>
                  <a:pt x="11212" y="15106"/>
                </a:cubicBezTo>
                <a:cubicBezTo>
                  <a:pt x="11118" y="15046"/>
                  <a:pt x="11002" y="14995"/>
                  <a:pt x="10889" y="14982"/>
                </a:cubicBezTo>
                <a:cubicBezTo>
                  <a:pt x="10799" y="14972"/>
                  <a:pt x="10731" y="14960"/>
                  <a:pt x="10641" y="14957"/>
                </a:cubicBezTo>
                <a:cubicBezTo>
                  <a:pt x="10527" y="14953"/>
                  <a:pt x="10404" y="14964"/>
                  <a:pt x="10294" y="14982"/>
                </a:cubicBezTo>
                <a:cubicBezTo>
                  <a:pt x="10249" y="14989"/>
                  <a:pt x="9957" y="15093"/>
                  <a:pt x="9971" y="15106"/>
                </a:cubicBezTo>
                <a:cubicBezTo>
                  <a:pt x="10012" y="15147"/>
                  <a:pt x="10038" y="15102"/>
                  <a:pt x="10096" y="1510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6120" y="4375080"/>
            <a:ext cx="214200" cy="312840"/>
          </a:xfrm>
          <a:custGeom>
            <a:avLst/>
            <a:gdLst/>
            <a:ahLst/>
            <a:rect l="l" t="t" r="r" b="b"/>
            <a:pathLst>
              <a:path w="596" h="869">
                <a:moveTo>
                  <a:pt x="14188" y="12179"/>
                </a:moveTo>
                <a:cubicBezTo>
                  <a:pt x="14168" y="12119"/>
                  <a:pt x="14080" y="12163"/>
                  <a:pt x="14039" y="12204"/>
                </a:cubicBezTo>
                <a:cubicBezTo>
                  <a:pt x="13873" y="12370"/>
                  <a:pt x="13705" y="12738"/>
                  <a:pt x="13791" y="12973"/>
                </a:cubicBezTo>
                <a:cubicBezTo>
                  <a:pt x="13816" y="12989"/>
                  <a:pt x="13841" y="13006"/>
                  <a:pt x="13866" y="13022"/>
                </a:cubicBezTo>
                <a:cubicBezTo>
                  <a:pt x="14170" y="12914"/>
                  <a:pt x="14341" y="12753"/>
                  <a:pt x="14362" y="12402"/>
                </a:cubicBezTo>
                <a:cubicBezTo>
                  <a:pt x="14374" y="12208"/>
                  <a:pt x="14245" y="12170"/>
                  <a:pt x="14089" y="1215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28960" y="2482920"/>
            <a:ext cx="849240" cy="347760"/>
          </a:xfrm>
          <a:custGeom>
            <a:avLst/>
            <a:gdLst/>
            <a:ahLst/>
            <a:rect l="l" t="t" r="r" b="b"/>
            <a:pathLst>
              <a:path w="2357" h="968">
                <a:moveTo>
                  <a:pt x="8607" y="7045"/>
                </a:moveTo>
                <a:cubicBezTo>
                  <a:pt x="8607" y="7008"/>
                  <a:pt x="8600" y="6972"/>
                  <a:pt x="8582" y="6945"/>
                </a:cubicBezTo>
                <a:cubicBezTo>
                  <a:pt x="8519" y="6849"/>
                  <a:pt x="8415" y="6903"/>
                  <a:pt x="8334" y="6945"/>
                </a:cubicBezTo>
                <a:cubicBezTo>
                  <a:pt x="8269" y="6989"/>
                  <a:pt x="8250" y="6995"/>
                  <a:pt x="8235" y="7045"/>
                </a:cubicBezTo>
                <a:cubicBezTo>
                  <a:pt x="8322" y="7142"/>
                  <a:pt x="8505" y="7188"/>
                  <a:pt x="8558" y="7317"/>
                </a:cubicBezTo>
                <a:cubicBezTo>
                  <a:pt x="8644" y="7527"/>
                  <a:pt x="8284" y="7456"/>
                  <a:pt x="8210" y="7441"/>
                </a:cubicBezTo>
                <a:cubicBezTo>
                  <a:pt x="8185" y="7433"/>
                  <a:pt x="8161" y="7425"/>
                  <a:pt x="8136" y="7417"/>
                </a:cubicBezTo>
              </a:path>
              <a:path w="2357" h="968">
                <a:moveTo>
                  <a:pt x="8930" y="6945"/>
                </a:moveTo>
                <a:cubicBezTo>
                  <a:pt x="8947" y="7117"/>
                  <a:pt x="8949" y="7248"/>
                  <a:pt x="8930" y="7417"/>
                </a:cubicBezTo>
                <a:cubicBezTo>
                  <a:pt x="8930" y="7425"/>
                  <a:pt x="8930" y="7433"/>
                  <a:pt x="8930" y="7441"/>
                </a:cubicBezTo>
              </a:path>
              <a:path w="2357" h="968">
                <a:moveTo>
                  <a:pt x="8781" y="7243"/>
                </a:moveTo>
                <a:cubicBezTo>
                  <a:pt x="8943" y="7250"/>
                  <a:pt x="9074" y="7287"/>
                  <a:pt x="9227" y="7317"/>
                </a:cubicBezTo>
                <a:cubicBezTo>
                  <a:pt x="9295" y="7330"/>
                  <a:pt x="9268" y="7303"/>
                  <a:pt x="9302" y="7243"/>
                </a:cubicBezTo>
                <a:cubicBezTo>
                  <a:pt x="9259" y="7183"/>
                  <a:pt x="9170" y="7109"/>
                  <a:pt x="9103" y="7218"/>
                </a:cubicBezTo>
                <a:cubicBezTo>
                  <a:pt x="9036" y="7328"/>
                  <a:pt x="9126" y="7534"/>
                  <a:pt x="9277" y="7491"/>
                </a:cubicBezTo>
                <a:cubicBezTo>
                  <a:pt x="9388" y="7460"/>
                  <a:pt x="9436" y="7223"/>
                  <a:pt x="9451" y="7392"/>
                </a:cubicBezTo>
                <a:cubicBezTo>
                  <a:pt x="9466" y="7552"/>
                  <a:pt x="9442" y="7707"/>
                  <a:pt x="9426" y="7863"/>
                </a:cubicBezTo>
                <a:cubicBezTo>
                  <a:pt x="9398" y="7668"/>
                  <a:pt x="9353" y="7490"/>
                  <a:pt x="9426" y="7293"/>
                </a:cubicBezTo>
                <a:cubicBezTo>
                  <a:pt x="9496" y="7106"/>
                  <a:pt x="9721" y="7052"/>
                  <a:pt x="9773" y="7293"/>
                </a:cubicBezTo>
                <a:cubicBezTo>
                  <a:pt x="9765" y="7326"/>
                  <a:pt x="9756" y="7359"/>
                  <a:pt x="9748" y="7392"/>
                </a:cubicBezTo>
                <a:cubicBezTo>
                  <a:pt x="9605" y="7439"/>
                  <a:pt x="9520" y="7407"/>
                  <a:pt x="9401" y="7367"/>
                </a:cubicBezTo>
              </a:path>
              <a:path w="2357" h="968">
                <a:moveTo>
                  <a:pt x="10046" y="7119"/>
                </a:moveTo>
                <a:cubicBezTo>
                  <a:pt x="9970" y="7132"/>
                  <a:pt x="9900" y="7160"/>
                  <a:pt x="9823" y="7169"/>
                </a:cubicBezTo>
                <a:cubicBezTo>
                  <a:pt x="9916" y="7184"/>
                  <a:pt x="10087" y="7183"/>
                  <a:pt x="10145" y="7268"/>
                </a:cubicBezTo>
                <a:cubicBezTo>
                  <a:pt x="10145" y="7293"/>
                  <a:pt x="10145" y="7317"/>
                  <a:pt x="10145" y="7342"/>
                </a:cubicBezTo>
                <a:cubicBezTo>
                  <a:pt x="10093" y="7394"/>
                  <a:pt x="9914" y="7485"/>
                  <a:pt x="9872" y="7342"/>
                </a:cubicBezTo>
                <a:cubicBezTo>
                  <a:pt x="9880" y="7326"/>
                  <a:pt x="9889" y="7309"/>
                  <a:pt x="9897" y="7293"/>
                </a:cubicBezTo>
              </a:path>
              <a:path w="2357" h="968">
                <a:moveTo>
                  <a:pt x="10492" y="7020"/>
                </a:moveTo>
                <a:cubicBezTo>
                  <a:pt x="10492" y="7061"/>
                  <a:pt x="10492" y="7086"/>
                  <a:pt x="10492" y="711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70200" y="2608200"/>
            <a:ext cx="2295720" cy="320760"/>
          </a:xfrm>
          <a:custGeom>
            <a:avLst/>
            <a:gdLst/>
            <a:ahLst/>
            <a:rect l="l" t="t" r="r" b="b"/>
            <a:pathLst>
              <a:path w="6376" h="894">
                <a:moveTo>
                  <a:pt x="10468" y="7243"/>
                </a:moveTo>
                <a:lnTo>
                  <a:pt x="10468" y="7243"/>
                </a:lnTo>
                <a:lnTo>
                  <a:pt x="10468" y="7243"/>
                </a:lnTo>
              </a:path>
              <a:path w="6376" h="894">
                <a:moveTo>
                  <a:pt x="10468" y="7243"/>
                </a:moveTo>
                <a:lnTo>
                  <a:pt x="10468" y="7243"/>
                </a:lnTo>
              </a:path>
              <a:path w="6376" h="894">
                <a:moveTo>
                  <a:pt x="10220" y="7987"/>
                </a:moveTo>
                <a:cubicBezTo>
                  <a:pt x="10242" y="8037"/>
                  <a:pt x="10260" y="8082"/>
                  <a:pt x="10269" y="8136"/>
                </a:cubicBezTo>
              </a:path>
              <a:path w="6376" h="894">
                <a:moveTo>
                  <a:pt x="10195" y="7838"/>
                </a:moveTo>
                <a:lnTo>
                  <a:pt x="10195" y="7838"/>
                </a:lnTo>
                <a:lnTo>
                  <a:pt x="10195" y="7838"/>
                </a:lnTo>
              </a:path>
              <a:path w="6376" h="894">
                <a:moveTo>
                  <a:pt x="10195" y="7838"/>
                </a:moveTo>
                <a:lnTo>
                  <a:pt x="10195" y="7838"/>
                </a:lnTo>
              </a:path>
              <a:path w="6376" h="894">
                <a:moveTo>
                  <a:pt x="13345" y="7541"/>
                </a:moveTo>
                <a:cubicBezTo>
                  <a:pt x="13362" y="7724"/>
                  <a:pt x="13372" y="7905"/>
                  <a:pt x="13395" y="8086"/>
                </a:cubicBezTo>
              </a:path>
              <a:path w="6376" h="894">
                <a:moveTo>
                  <a:pt x="16570" y="7441"/>
                </a:moveTo>
                <a:lnTo>
                  <a:pt x="16570" y="7441"/>
                </a:lnTo>
                <a:lnTo>
                  <a:pt x="16570" y="7441"/>
                </a:lnTo>
              </a:path>
              <a:path w="6376" h="894">
                <a:moveTo>
                  <a:pt x="16570" y="7441"/>
                </a:moveTo>
                <a:lnTo>
                  <a:pt x="16570" y="7441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90880" y="2697120"/>
            <a:ext cx="2152800" cy="312840"/>
          </a:xfrm>
          <a:custGeom>
            <a:avLst/>
            <a:gdLst/>
            <a:ahLst/>
            <a:rect l="l" t="t" r="r" b="b"/>
            <a:pathLst>
              <a:path w="5979" h="869">
                <a:moveTo>
                  <a:pt x="8310" y="7565"/>
                </a:moveTo>
                <a:cubicBezTo>
                  <a:pt x="8443" y="7530"/>
                  <a:pt x="8634" y="7535"/>
                  <a:pt x="8781" y="7541"/>
                </a:cubicBezTo>
                <a:cubicBezTo>
                  <a:pt x="9229" y="7560"/>
                  <a:pt x="9671" y="7590"/>
                  <a:pt x="10120" y="7590"/>
                </a:cubicBezTo>
                <a:cubicBezTo>
                  <a:pt x="10145" y="7590"/>
                  <a:pt x="10153" y="7590"/>
                  <a:pt x="10170" y="7590"/>
                </a:cubicBezTo>
              </a:path>
              <a:path w="5979" h="869">
                <a:moveTo>
                  <a:pt x="8880" y="7789"/>
                </a:moveTo>
                <a:cubicBezTo>
                  <a:pt x="8880" y="7910"/>
                  <a:pt x="8900" y="8056"/>
                  <a:pt x="8855" y="8161"/>
                </a:cubicBezTo>
              </a:path>
              <a:path w="5979" h="869">
                <a:moveTo>
                  <a:pt x="8657" y="8111"/>
                </a:moveTo>
                <a:cubicBezTo>
                  <a:pt x="8783" y="8211"/>
                  <a:pt x="8928" y="8295"/>
                  <a:pt x="9103" y="8260"/>
                </a:cubicBezTo>
                <a:cubicBezTo>
                  <a:pt x="9250" y="8230"/>
                  <a:pt x="9427" y="8103"/>
                  <a:pt x="9401" y="7938"/>
                </a:cubicBezTo>
                <a:cubicBezTo>
                  <a:pt x="9368" y="7726"/>
                  <a:pt x="9208" y="7592"/>
                  <a:pt x="9004" y="7565"/>
                </a:cubicBezTo>
                <a:cubicBezTo>
                  <a:pt x="8861" y="7546"/>
                  <a:pt x="8710" y="7614"/>
                  <a:pt x="8632" y="7739"/>
                </a:cubicBezTo>
                <a:cubicBezTo>
                  <a:pt x="8553" y="7866"/>
                  <a:pt x="8530" y="8149"/>
                  <a:pt x="8706" y="8210"/>
                </a:cubicBezTo>
                <a:cubicBezTo>
                  <a:pt x="8756" y="8210"/>
                  <a:pt x="8805" y="8210"/>
                  <a:pt x="8855" y="8210"/>
                </a:cubicBezTo>
              </a:path>
              <a:path w="5979" h="869">
                <a:moveTo>
                  <a:pt x="9872" y="7789"/>
                </a:moveTo>
                <a:cubicBezTo>
                  <a:pt x="9872" y="7764"/>
                  <a:pt x="9872" y="7756"/>
                  <a:pt x="9872" y="7739"/>
                </a:cubicBezTo>
                <a:cubicBezTo>
                  <a:pt x="9872" y="7856"/>
                  <a:pt x="9894" y="7969"/>
                  <a:pt x="9897" y="8086"/>
                </a:cubicBezTo>
                <a:cubicBezTo>
                  <a:pt x="9897" y="8161"/>
                  <a:pt x="9897" y="8169"/>
                  <a:pt x="9897" y="8210"/>
                </a:cubicBezTo>
              </a:path>
              <a:path w="5979" h="869">
                <a:moveTo>
                  <a:pt x="10468" y="8086"/>
                </a:moveTo>
                <a:cubicBezTo>
                  <a:pt x="10433" y="8122"/>
                  <a:pt x="10422" y="7994"/>
                  <a:pt x="10468" y="7962"/>
                </a:cubicBezTo>
                <a:cubicBezTo>
                  <a:pt x="10591" y="7877"/>
                  <a:pt x="10728" y="7943"/>
                  <a:pt x="10765" y="8086"/>
                </a:cubicBezTo>
                <a:cubicBezTo>
                  <a:pt x="10765" y="8111"/>
                  <a:pt x="10765" y="8136"/>
                  <a:pt x="10765" y="8161"/>
                </a:cubicBezTo>
              </a:path>
              <a:path w="5979" h="869">
                <a:moveTo>
                  <a:pt x="10864" y="7987"/>
                </a:moveTo>
                <a:cubicBezTo>
                  <a:pt x="10940" y="8002"/>
                  <a:pt x="11006" y="8012"/>
                  <a:pt x="11088" y="8012"/>
                </a:cubicBezTo>
                <a:cubicBezTo>
                  <a:pt x="11079" y="7974"/>
                  <a:pt x="11054" y="7881"/>
                  <a:pt x="11013" y="7863"/>
                </a:cubicBezTo>
                <a:cubicBezTo>
                  <a:pt x="10904" y="7816"/>
                  <a:pt x="10800" y="7926"/>
                  <a:pt x="10815" y="8037"/>
                </a:cubicBezTo>
                <a:cubicBezTo>
                  <a:pt x="10838" y="8205"/>
                  <a:pt x="11004" y="8188"/>
                  <a:pt x="11112" y="8136"/>
                </a:cubicBezTo>
                <a:cubicBezTo>
                  <a:pt x="11154" y="8111"/>
                  <a:pt x="11195" y="8087"/>
                  <a:pt x="11237" y="8062"/>
                </a:cubicBezTo>
              </a:path>
              <a:path w="5979" h="869">
                <a:moveTo>
                  <a:pt x="11807" y="7888"/>
                </a:moveTo>
                <a:cubicBezTo>
                  <a:pt x="11793" y="7958"/>
                  <a:pt x="11732" y="8086"/>
                  <a:pt x="11832" y="8136"/>
                </a:cubicBezTo>
                <a:cubicBezTo>
                  <a:pt x="11957" y="8198"/>
                  <a:pt x="12046" y="8030"/>
                  <a:pt x="12105" y="7962"/>
                </a:cubicBezTo>
                <a:cubicBezTo>
                  <a:pt x="12105" y="7909"/>
                  <a:pt x="12066" y="8079"/>
                  <a:pt x="12154" y="8086"/>
                </a:cubicBezTo>
                <a:cubicBezTo>
                  <a:pt x="12324" y="8100"/>
                  <a:pt x="12304" y="7960"/>
                  <a:pt x="12353" y="7863"/>
                </a:cubicBezTo>
                <a:cubicBezTo>
                  <a:pt x="12353" y="7871"/>
                  <a:pt x="12353" y="7880"/>
                  <a:pt x="12353" y="7888"/>
                </a:cubicBezTo>
                <a:cubicBezTo>
                  <a:pt x="12418" y="8048"/>
                  <a:pt x="12483" y="8186"/>
                  <a:pt x="12502" y="8359"/>
                </a:cubicBezTo>
                <a:cubicBezTo>
                  <a:pt x="12418" y="8087"/>
                  <a:pt x="12414" y="7970"/>
                  <a:pt x="12576" y="7739"/>
                </a:cubicBezTo>
                <a:cubicBezTo>
                  <a:pt x="12683" y="7782"/>
                  <a:pt x="12893" y="8018"/>
                  <a:pt x="12626" y="8037"/>
                </a:cubicBezTo>
                <a:cubicBezTo>
                  <a:pt x="12503" y="8016"/>
                  <a:pt x="12473" y="8027"/>
                  <a:pt x="12427" y="7962"/>
                </a:cubicBezTo>
              </a:path>
              <a:path w="5979" h="869">
                <a:moveTo>
                  <a:pt x="13072" y="7789"/>
                </a:moveTo>
                <a:cubicBezTo>
                  <a:pt x="13219" y="7843"/>
                  <a:pt x="13475" y="7943"/>
                  <a:pt x="13593" y="7764"/>
                </a:cubicBezTo>
                <a:cubicBezTo>
                  <a:pt x="13660" y="7662"/>
                  <a:pt x="13589" y="7586"/>
                  <a:pt x="13568" y="7491"/>
                </a:cubicBezTo>
                <a:cubicBezTo>
                  <a:pt x="13592" y="7680"/>
                  <a:pt x="13617" y="7852"/>
                  <a:pt x="13667" y="8037"/>
                </a:cubicBezTo>
                <a:cubicBezTo>
                  <a:pt x="13675" y="7924"/>
                  <a:pt x="13652" y="7808"/>
                  <a:pt x="13767" y="7739"/>
                </a:cubicBezTo>
                <a:cubicBezTo>
                  <a:pt x="13906" y="7656"/>
                  <a:pt x="13974" y="7966"/>
                  <a:pt x="13990" y="8037"/>
                </a:cubicBezTo>
                <a:cubicBezTo>
                  <a:pt x="13990" y="8045"/>
                  <a:pt x="13990" y="8054"/>
                  <a:pt x="13990" y="8062"/>
                </a:cubicBezTo>
                <a:cubicBezTo>
                  <a:pt x="14130" y="8053"/>
                  <a:pt x="14251" y="8053"/>
                  <a:pt x="14288" y="7888"/>
                </a:cubicBezTo>
                <a:cubicBezTo>
                  <a:pt x="14288" y="7863"/>
                  <a:pt x="14288" y="7838"/>
                  <a:pt x="14288" y="7813"/>
                </a:cubicBezTo>
                <a:cubicBezTo>
                  <a:pt x="14189" y="7862"/>
                  <a:pt x="14165" y="7925"/>
                  <a:pt x="14213" y="803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2800" y="2633760"/>
            <a:ext cx="1359000" cy="277560"/>
          </a:xfrm>
          <a:custGeom>
            <a:avLst/>
            <a:gdLst/>
            <a:ahLst/>
            <a:rect l="l" t="t" r="r" b="b"/>
            <a:pathLst>
              <a:path w="3771" h="770">
                <a:moveTo>
                  <a:pt x="15304" y="7863"/>
                </a:moveTo>
                <a:cubicBezTo>
                  <a:pt x="15265" y="7724"/>
                  <a:pt x="15168" y="7673"/>
                  <a:pt x="15056" y="7813"/>
                </a:cubicBezTo>
                <a:cubicBezTo>
                  <a:pt x="14992" y="7942"/>
                  <a:pt x="14967" y="7970"/>
                  <a:pt x="14982" y="8062"/>
                </a:cubicBezTo>
                <a:cubicBezTo>
                  <a:pt x="15204" y="8061"/>
                  <a:pt x="15374" y="7995"/>
                  <a:pt x="15354" y="7714"/>
                </a:cubicBezTo>
                <a:cubicBezTo>
                  <a:pt x="15309" y="7580"/>
                  <a:pt x="15299" y="7544"/>
                  <a:pt x="15255" y="7466"/>
                </a:cubicBezTo>
                <a:cubicBezTo>
                  <a:pt x="15255" y="7336"/>
                  <a:pt x="15313" y="7666"/>
                  <a:pt x="15354" y="7789"/>
                </a:cubicBezTo>
                <a:cubicBezTo>
                  <a:pt x="15403" y="7934"/>
                  <a:pt x="15493" y="8091"/>
                  <a:pt x="15677" y="7987"/>
                </a:cubicBezTo>
                <a:cubicBezTo>
                  <a:pt x="15788" y="7924"/>
                  <a:pt x="15805" y="7823"/>
                  <a:pt x="15825" y="7714"/>
                </a:cubicBezTo>
                <a:cubicBezTo>
                  <a:pt x="15685" y="7698"/>
                  <a:pt x="15588" y="7867"/>
                  <a:pt x="15677" y="8012"/>
                </a:cubicBezTo>
                <a:cubicBezTo>
                  <a:pt x="15784" y="8048"/>
                  <a:pt x="15841" y="8047"/>
                  <a:pt x="15925" y="7987"/>
                </a:cubicBezTo>
              </a:path>
              <a:path w="3771" h="770">
                <a:moveTo>
                  <a:pt x="16321" y="7689"/>
                </a:moveTo>
                <a:cubicBezTo>
                  <a:pt x="16305" y="7633"/>
                  <a:pt x="16294" y="7635"/>
                  <a:pt x="16272" y="7590"/>
                </a:cubicBezTo>
                <a:cubicBezTo>
                  <a:pt x="16158" y="7714"/>
                  <a:pt x="16162" y="7764"/>
                  <a:pt x="16148" y="7938"/>
                </a:cubicBezTo>
                <a:cubicBezTo>
                  <a:pt x="16333" y="7999"/>
                  <a:pt x="16520" y="7970"/>
                  <a:pt x="16619" y="7764"/>
                </a:cubicBezTo>
                <a:cubicBezTo>
                  <a:pt x="16619" y="7739"/>
                  <a:pt x="16619" y="7714"/>
                  <a:pt x="16619" y="7689"/>
                </a:cubicBezTo>
                <a:cubicBezTo>
                  <a:pt x="16603" y="7784"/>
                  <a:pt x="16585" y="7848"/>
                  <a:pt x="16619" y="7938"/>
                </a:cubicBezTo>
              </a:path>
              <a:path w="3771" h="770">
                <a:moveTo>
                  <a:pt x="16793" y="7640"/>
                </a:moveTo>
                <a:cubicBezTo>
                  <a:pt x="16823" y="7743"/>
                  <a:pt x="16836" y="7831"/>
                  <a:pt x="16842" y="7938"/>
                </a:cubicBezTo>
                <a:cubicBezTo>
                  <a:pt x="16842" y="7849"/>
                  <a:pt x="16856" y="7748"/>
                  <a:pt x="16892" y="7665"/>
                </a:cubicBezTo>
                <a:cubicBezTo>
                  <a:pt x="16961" y="7506"/>
                  <a:pt x="17083" y="7891"/>
                  <a:pt x="17090" y="7913"/>
                </a:cubicBezTo>
                <a:cubicBezTo>
                  <a:pt x="17090" y="7974"/>
                  <a:pt x="17109" y="7777"/>
                  <a:pt x="17115" y="7764"/>
                </a:cubicBezTo>
                <a:cubicBezTo>
                  <a:pt x="17177" y="7627"/>
                  <a:pt x="17283" y="7656"/>
                  <a:pt x="17363" y="7764"/>
                </a:cubicBezTo>
                <a:cubicBezTo>
                  <a:pt x="17406" y="7822"/>
                  <a:pt x="17426" y="7893"/>
                  <a:pt x="17438" y="7962"/>
                </a:cubicBezTo>
              </a:path>
              <a:path w="3771" h="770">
                <a:moveTo>
                  <a:pt x="17884" y="7689"/>
                </a:moveTo>
                <a:cubicBezTo>
                  <a:pt x="17884" y="7645"/>
                  <a:pt x="17887" y="7631"/>
                  <a:pt x="17859" y="7615"/>
                </a:cubicBezTo>
                <a:cubicBezTo>
                  <a:pt x="17738" y="7603"/>
                  <a:pt x="17564" y="7693"/>
                  <a:pt x="17611" y="7863"/>
                </a:cubicBezTo>
                <a:cubicBezTo>
                  <a:pt x="17648" y="7998"/>
                  <a:pt x="17852" y="7794"/>
                  <a:pt x="17859" y="7789"/>
                </a:cubicBezTo>
                <a:cubicBezTo>
                  <a:pt x="17867" y="7781"/>
                  <a:pt x="17876" y="7772"/>
                  <a:pt x="17884" y="7764"/>
                </a:cubicBezTo>
                <a:cubicBezTo>
                  <a:pt x="17884" y="7855"/>
                  <a:pt x="17911" y="7951"/>
                  <a:pt x="18033" y="7938"/>
                </a:cubicBezTo>
                <a:cubicBezTo>
                  <a:pt x="18074" y="7921"/>
                  <a:pt x="18116" y="7905"/>
                  <a:pt x="18157" y="7888"/>
                </a:cubicBezTo>
              </a:path>
              <a:path w="3771" h="770">
                <a:moveTo>
                  <a:pt x="18182" y="7317"/>
                </a:moveTo>
                <a:cubicBezTo>
                  <a:pt x="18199" y="7473"/>
                  <a:pt x="18219" y="7636"/>
                  <a:pt x="18256" y="7789"/>
                </a:cubicBezTo>
                <a:cubicBezTo>
                  <a:pt x="18301" y="7971"/>
                  <a:pt x="18448" y="7845"/>
                  <a:pt x="18554" y="7789"/>
                </a:cubicBezTo>
              </a:path>
              <a:path w="3771" h="770">
                <a:moveTo>
                  <a:pt x="18728" y="7541"/>
                </a:moveTo>
                <a:cubicBezTo>
                  <a:pt x="18682" y="7550"/>
                  <a:pt x="18647" y="7568"/>
                  <a:pt x="18604" y="7590"/>
                </a:cubicBezTo>
                <a:cubicBezTo>
                  <a:pt x="18663" y="7665"/>
                  <a:pt x="18766" y="7679"/>
                  <a:pt x="18752" y="7813"/>
                </a:cubicBezTo>
                <a:cubicBezTo>
                  <a:pt x="18738" y="7945"/>
                  <a:pt x="18630" y="7881"/>
                  <a:pt x="18554" y="783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14840" y="3044880"/>
            <a:ext cx="3125520" cy="214200"/>
          </a:xfrm>
          <a:custGeom>
            <a:avLst/>
            <a:gdLst/>
            <a:ahLst/>
            <a:rect l="l" t="t" r="r" b="b"/>
            <a:pathLst>
              <a:path w="8682" h="597">
                <a:moveTo>
                  <a:pt x="10319" y="8682"/>
                </a:moveTo>
                <a:cubicBezTo>
                  <a:pt x="10327" y="8690"/>
                  <a:pt x="10336" y="8698"/>
                  <a:pt x="10344" y="8706"/>
                </a:cubicBezTo>
              </a:path>
              <a:path w="8682" h="597">
                <a:moveTo>
                  <a:pt x="10344" y="8706"/>
                </a:moveTo>
                <a:lnTo>
                  <a:pt x="10344" y="8706"/>
                </a:lnTo>
              </a:path>
              <a:path w="8682" h="597">
                <a:moveTo>
                  <a:pt x="10443" y="8632"/>
                </a:moveTo>
                <a:cubicBezTo>
                  <a:pt x="10506" y="8774"/>
                  <a:pt x="10553" y="8899"/>
                  <a:pt x="10567" y="9054"/>
                </a:cubicBezTo>
              </a:path>
              <a:path w="8682" h="597">
                <a:moveTo>
                  <a:pt x="11361" y="8533"/>
                </a:moveTo>
                <a:lnTo>
                  <a:pt x="11361" y="8533"/>
                </a:lnTo>
              </a:path>
              <a:path w="8682" h="597">
                <a:moveTo>
                  <a:pt x="15577" y="8458"/>
                </a:moveTo>
                <a:cubicBezTo>
                  <a:pt x="15585" y="8458"/>
                  <a:pt x="15594" y="8458"/>
                  <a:pt x="15602" y="8458"/>
                </a:cubicBezTo>
              </a:path>
              <a:path w="8682" h="597">
                <a:moveTo>
                  <a:pt x="15602" y="8458"/>
                </a:moveTo>
                <a:lnTo>
                  <a:pt x="15602" y="8458"/>
                </a:lnTo>
              </a:path>
              <a:path w="8682" h="597">
                <a:moveTo>
                  <a:pt x="18827" y="8508"/>
                </a:moveTo>
                <a:cubicBezTo>
                  <a:pt x="18727" y="8596"/>
                  <a:pt x="18665" y="8681"/>
                  <a:pt x="18678" y="8806"/>
                </a:cubicBezTo>
                <a:cubicBezTo>
                  <a:pt x="18773" y="8811"/>
                  <a:pt x="19132" y="8784"/>
                  <a:pt x="18976" y="8582"/>
                </a:cubicBezTo>
                <a:cubicBezTo>
                  <a:pt x="18886" y="8538"/>
                  <a:pt x="18863" y="8525"/>
                  <a:pt x="18802" y="850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17880" y="3062160"/>
            <a:ext cx="866880" cy="331920"/>
          </a:xfrm>
          <a:custGeom>
            <a:avLst/>
            <a:gdLst/>
            <a:ahLst/>
            <a:rect l="l" t="t" r="r" b="b"/>
            <a:pathLst>
              <a:path w="2407" h="919">
                <a:moveTo>
                  <a:pt x="8830" y="8632"/>
                </a:moveTo>
                <a:cubicBezTo>
                  <a:pt x="8881" y="8649"/>
                  <a:pt x="8840" y="8637"/>
                  <a:pt x="8905" y="8632"/>
                </a:cubicBezTo>
                <a:cubicBezTo>
                  <a:pt x="9131" y="8616"/>
                  <a:pt x="9010" y="8952"/>
                  <a:pt x="8930" y="9029"/>
                </a:cubicBezTo>
                <a:cubicBezTo>
                  <a:pt x="8831" y="9125"/>
                  <a:pt x="8737" y="9133"/>
                  <a:pt x="8682" y="9079"/>
                </a:cubicBezTo>
                <a:cubicBezTo>
                  <a:pt x="8802" y="8968"/>
                  <a:pt x="8901" y="8938"/>
                  <a:pt x="9029" y="9079"/>
                </a:cubicBezTo>
                <a:cubicBezTo>
                  <a:pt x="9037" y="9095"/>
                  <a:pt x="9046" y="9112"/>
                  <a:pt x="9054" y="9128"/>
                </a:cubicBezTo>
              </a:path>
              <a:path w="2407" h="919">
                <a:moveTo>
                  <a:pt x="8508" y="9302"/>
                </a:moveTo>
                <a:cubicBezTo>
                  <a:pt x="8691" y="9456"/>
                  <a:pt x="8897" y="9432"/>
                  <a:pt x="9128" y="9327"/>
                </a:cubicBezTo>
                <a:cubicBezTo>
                  <a:pt x="9326" y="9237"/>
                  <a:pt x="9511" y="8981"/>
                  <a:pt x="9401" y="8756"/>
                </a:cubicBezTo>
                <a:cubicBezTo>
                  <a:pt x="9275" y="8499"/>
                  <a:pt x="8799" y="8507"/>
                  <a:pt x="8582" y="8607"/>
                </a:cubicBezTo>
                <a:cubicBezTo>
                  <a:pt x="8322" y="8727"/>
                  <a:pt x="8315" y="9167"/>
                  <a:pt x="8508" y="9351"/>
                </a:cubicBezTo>
                <a:cubicBezTo>
                  <a:pt x="8689" y="9412"/>
                  <a:pt x="8771" y="9419"/>
                  <a:pt x="8905" y="9327"/>
                </a:cubicBezTo>
              </a:path>
              <a:path w="2407" h="919">
                <a:moveTo>
                  <a:pt x="9699" y="8756"/>
                </a:moveTo>
                <a:cubicBezTo>
                  <a:pt x="9759" y="8839"/>
                  <a:pt x="9796" y="8950"/>
                  <a:pt x="9823" y="9054"/>
                </a:cubicBezTo>
                <a:cubicBezTo>
                  <a:pt x="9823" y="9062"/>
                  <a:pt x="9823" y="9071"/>
                  <a:pt x="9823" y="9079"/>
                </a:cubicBezTo>
                <a:cubicBezTo>
                  <a:pt x="9768" y="8941"/>
                  <a:pt x="9753" y="8806"/>
                  <a:pt x="9748" y="8657"/>
                </a:cubicBezTo>
                <a:cubicBezTo>
                  <a:pt x="9745" y="8564"/>
                  <a:pt x="9921" y="8564"/>
                  <a:pt x="9996" y="8558"/>
                </a:cubicBezTo>
                <a:cubicBezTo>
                  <a:pt x="10098" y="8549"/>
                  <a:pt x="10144" y="8541"/>
                  <a:pt x="10195" y="8558"/>
                </a:cubicBezTo>
              </a:path>
              <a:path w="2407" h="919">
                <a:moveTo>
                  <a:pt x="9798" y="8905"/>
                </a:moveTo>
                <a:cubicBezTo>
                  <a:pt x="9909" y="8889"/>
                  <a:pt x="10164" y="8824"/>
                  <a:pt x="10269" y="8880"/>
                </a:cubicBezTo>
                <a:cubicBezTo>
                  <a:pt x="10311" y="8902"/>
                  <a:pt x="10334" y="8990"/>
                  <a:pt x="10344" y="9029"/>
                </a:cubicBezTo>
              </a:path>
              <a:path w="2407" h="919">
                <a:moveTo>
                  <a:pt x="10666" y="8508"/>
                </a:moveTo>
                <a:cubicBezTo>
                  <a:pt x="10716" y="8664"/>
                  <a:pt x="10708" y="8893"/>
                  <a:pt x="10765" y="9029"/>
                </a:cubicBezTo>
                <a:cubicBezTo>
                  <a:pt x="10773" y="9029"/>
                  <a:pt x="10782" y="9029"/>
                  <a:pt x="10790" y="902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54320" y="3133800"/>
            <a:ext cx="204840" cy="117360"/>
          </a:xfrm>
          <a:custGeom>
            <a:avLst/>
            <a:gdLst/>
            <a:ahLst/>
            <a:rect l="l" t="t" r="r" b="b"/>
            <a:pathLst>
              <a:path w="572" h="324">
                <a:moveTo>
                  <a:pt x="11261" y="8781"/>
                </a:moveTo>
                <a:cubicBezTo>
                  <a:pt x="11261" y="8846"/>
                  <a:pt x="11255" y="8959"/>
                  <a:pt x="11311" y="9004"/>
                </a:cubicBezTo>
                <a:cubicBezTo>
                  <a:pt x="11336" y="9012"/>
                  <a:pt x="11360" y="9021"/>
                  <a:pt x="11385" y="9029"/>
                </a:cubicBezTo>
                <a:cubicBezTo>
                  <a:pt x="11457" y="8949"/>
                  <a:pt x="11507" y="8702"/>
                  <a:pt x="11534" y="8806"/>
                </a:cubicBezTo>
                <a:cubicBezTo>
                  <a:pt x="11547" y="8855"/>
                  <a:pt x="11553" y="8904"/>
                  <a:pt x="11559" y="8954"/>
                </a:cubicBezTo>
                <a:cubicBezTo>
                  <a:pt x="11550" y="8902"/>
                  <a:pt x="11509" y="8767"/>
                  <a:pt x="11584" y="8731"/>
                </a:cubicBezTo>
                <a:cubicBezTo>
                  <a:pt x="11763" y="8644"/>
                  <a:pt x="11858" y="8883"/>
                  <a:pt x="11832" y="9029"/>
                </a:cubicBezTo>
                <a:cubicBezTo>
                  <a:pt x="11824" y="9029"/>
                  <a:pt x="11815" y="9029"/>
                  <a:pt x="11807" y="902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46720" y="3017880"/>
            <a:ext cx="1509480" cy="295200"/>
          </a:xfrm>
          <a:custGeom>
            <a:avLst/>
            <a:gdLst/>
            <a:ahLst/>
            <a:rect l="l" t="t" r="r" b="b"/>
            <a:pathLst>
              <a:path w="4193" h="820">
                <a:moveTo>
                  <a:pt x="12576" y="8682"/>
                </a:moveTo>
                <a:cubicBezTo>
                  <a:pt x="12473" y="8613"/>
                  <a:pt x="12447" y="8638"/>
                  <a:pt x="12378" y="8731"/>
                </a:cubicBezTo>
                <a:cubicBezTo>
                  <a:pt x="12476" y="8819"/>
                  <a:pt x="12591" y="8814"/>
                  <a:pt x="12675" y="8930"/>
                </a:cubicBezTo>
                <a:cubicBezTo>
                  <a:pt x="12647" y="8950"/>
                  <a:pt x="12282" y="9087"/>
                  <a:pt x="12353" y="8979"/>
                </a:cubicBezTo>
                <a:cubicBezTo>
                  <a:pt x="12394" y="8946"/>
                  <a:pt x="12436" y="8913"/>
                  <a:pt x="12477" y="8880"/>
                </a:cubicBezTo>
              </a:path>
              <a:path w="4193" h="820">
                <a:moveTo>
                  <a:pt x="12849" y="8830"/>
                </a:moveTo>
                <a:cubicBezTo>
                  <a:pt x="12867" y="8893"/>
                  <a:pt x="13001" y="9204"/>
                  <a:pt x="12923" y="9178"/>
                </a:cubicBezTo>
                <a:cubicBezTo>
                  <a:pt x="12853" y="8945"/>
                  <a:pt x="12814" y="8819"/>
                  <a:pt x="12973" y="8632"/>
                </a:cubicBezTo>
                <a:cubicBezTo>
                  <a:pt x="13105" y="8747"/>
                  <a:pt x="13221" y="8905"/>
                  <a:pt x="12923" y="8905"/>
                </a:cubicBezTo>
                <a:cubicBezTo>
                  <a:pt x="12824" y="8885"/>
                  <a:pt x="12783" y="8902"/>
                  <a:pt x="12799" y="8830"/>
                </a:cubicBezTo>
              </a:path>
              <a:path w="4193" h="820">
                <a:moveTo>
                  <a:pt x="13395" y="8731"/>
                </a:moveTo>
                <a:cubicBezTo>
                  <a:pt x="13395" y="8691"/>
                  <a:pt x="13384" y="8672"/>
                  <a:pt x="13345" y="8657"/>
                </a:cubicBezTo>
                <a:cubicBezTo>
                  <a:pt x="13312" y="8679"/>
                  <a:pt x="13096" y="8954"/>
                  <a:pt x="13246" y="8930"/>
                </a:cubicBezTo>
                <a:cubicBezTo>
                  <a:pt x="13353" y="8913"/>
                  <a:pt x="13356" y="8784"/>
                  <a:pt x="13370" y="8706"/>
                </a:cubicBezTo>
                <a:cubicBezTo>
                  <a:pt x="13410" y="8847"/>
                  <a:pt x="13422" y="8880"/>
                  <a:pt x="13543" y="8880"/>
                </a:cubicBezTo>
              </a:path>
              <a:path w="4193" h="820">
                <a:moveTo>
                  <a:pt x="13692" y="8706"/>
                </a:moveTo>
                <a:cubicBezTo>
                  <a:pt x="13692" y="8723"/>
                  <a:pt x="13692" y="8739"/>
                  <a:pt x="13692" y="8756"/>
                </a:cubicBezTo>
                <a:cubicBezTo>
                  <a:pt x="13692" y="8732"/>
                  <a:pt x="13678" y="8586"/>
                  <a:pt x="13643" y="8632"/>
                </a:cubicBezTo>
                <a:cubicBezTo>
                  <a:pt x="13575" y="8722"/>
                  <a:pt x="13595" y="8934"/>
                  <a:pt x="13742" y="8905"/>
                </a:cubicBezTo>
                <a:cubicBezTo>
                  <a:pt x="13783" y="8888"/>
                  <a:pt x="13825" y="8872"/>
                  <a:pt x="13866" y="8855"/>
                </a:cubicBezTo>
              </a:path>
              <a:path w="4193" h="820">
                <a:moveTo>
                  <a:pt x="14039" y="8731"/>
                </a:moveTo>
                <a:cubicBezTo>
                  <a:pt x="14099" y="8716"/>
                  <a:pt x="14142" y="8653"/>
                  <a:pt x="14188" y="8607"/>
                </a:cubicBezTo>
                <a:cubicBezTo>
                  <a:pt x="14167" y="8545"/>
                  <a:pt x="14019" y="8605"/>
                  <a:pt x="13990" y="8657"/>
                </a:cubicBezTo>
                <a:cubicBezTo>
                  <a:pt x="13864" y="8882"/>
                  <a:pt x="14063" y="8865"/>
                  <a:pt x="14188" y="8830"/>
                </a:cubicBezTo>
              </a:path>
              <a:path w="4193" h="820">
                <a:moveTo>
                  <a:pt x="14511" y="8558"/>
                </a:moveTo>
                <a:cubicBezTo>
                  <a:pt x="14431" y="8558"/>
                  <a:pt x="14403" y="8561"/>
                  <a:pt x="14362" y="8607"/>
                </a:cubicBezTo>
                <a:cubicBezTo>
                  <a:pt x="14384" y="8673"/>
                  <a:pt x="14557" y="8694"/>
                  <a:pt x="14585" y="8756"/>
                </a:cubicBezTo>
                <a:cubicBezTo>
                  <a:pt x="14652" y="8902"/>
                  <a:pt x="14369" y="8900"/>
                  <a:pt x="14337" y="8905"/>
                </a:cubicBezTo>
              </a:path>
              <a:path w="4193" h="820">
                <a:moveTo>
                  <a:pt x="15007" y="8682"/>
                </a:moveTo>
                <a:cubicBezTo>
                  <a:pt x="15007" y="8740"/>
                  <a:pt x="14979" y="8867"/>
                  <a:pt x="15032" y="8905"/>
                </a:cubicBezTo>
                <a:cubicBezTo>
                  <a:pt x="15113" y="8964"/>
                  <a:pt x="15189" y="8802"/>
                  <a:pt x="15230" y="8756"/>
                </a:cubicBezTo>
                <a:cubicBezTo>
                  <a:pt x="15230" y="8829"/>
                  <a:pt x="15235" y="8972"/>
                  <a:pt x="15354" y="8954"/>
                </a:cubicBezTo>
                <a:cubicBezTo>
                  <a:pt x="15500" y="8932"/>
                  <a:pt x="15431" y="8726"/>
                  <a:pt x="15354" y="8682"/>
                </a:cubicBezTo>
                <a:cubicBezTo>
                  <a:pt x="15346" y="8682"/>
                  <a:pt x="15337" y="8682"/>
                  <a:pt x="15329" y="8682"/>
                </a:cubicBezTo>
              </a:path>
              <a:path w="4193" h="820">
                <a:moveTo>
                  <a:pt x="15627" y="8706"/>
                </a:moveTo>
                <a:cubicBezTo>
                  <a:pt x="15633" y="8800"/>
                  <a:pt x="15664" y="8873"/>
                  <a:pt x="15627" y="8855"/>
                </a:cubicBezTo>
              </a:path>
              <a:path w="4193" h="820">
                <a:moveTo>
                  <a:pt x="15900" y="8384"/>
                </a:moveTo>
                <a:cubicBezTo>
                  <a:pt x="15975" y="8526"/>
                  <a:pt x="16045" y="8673"/>
                  <a:pt x="16073" y="8830"/>
                </a:cubicBezTo>
              </a:path>
              <a:path w="4193" h="820">
                <a:moveTo>
                  <a:pt x="15726" y="8607"/>
                </a:moveTo>
                <a:cubicBezTo>
                  <a:pt x="15858" y="8690"/>
                  <a:pt x="16105" y="8783"/>
                  <a:pt x="16222" y="8582"/>
                </a:cubicBezTo>
                <a:cubicBezTo>
                  <a:pt x="16247" y="8539"/>
                  <a:pt x="16222" y="8433"/>
                  <a:pt x="16222" y="8483"/>
                </a:cubicBezTo>
                <a:cubicBezTo>
                  <a:pt x="16244" y="8592"/>
                  <a:pt x="16272" y="8840"/>
                  <a:pt x="16272" y="8855"/>
                </a:cubicBezTo>
                <a:cubicBezTo>
                  <a:pt x="16289" y="8708"/>
                  <a:pt x="16305" y="8701"/>
                  <a:pt x="16371" y="8582"/>
                </a:cubicBezTo>
                <a:cubicBezTo>
                  <a:pt x="16413" y="8603"/>
                  <a:pt x="16681" y="8803"/>
                  <a:pt x="16520" y="8880"/>
                </a:cubicBezTo>
                <a:cubicBezTo>
                  <a:pt x="16520" y="8863"/>
                  <a:pt x="16520" y="8847"/>
                  <a:pt x="16520" y="883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34040" y="3062160"/>
            <a:ext cx="573120" cy="135000"/>
          </a:xfrm>
          <a:custGeom>
            <a:avLst/>
            <a:gdLst/>
            <a:ahLst/>
            <a:rect l="l" t="t" r="r" b="b"/>
            <a:pathLst>
              <a:path w="1588" h="373">
                <a:moveTo>
                  <a:pt x="17041" y="8582"/>
                </a:moveTo>
                <a:cubicBezTo>
                  <a:pt x="17183" y="8567"/>
                  <a:pt x="17300" y="8540"/>
                  <a:pt x="17438" y="8558"/>
                </a:cubicBezTo>
                <a:cubicBezTo>
                  <a:pt x="17396" y="8711"/>
                  <a:pt x="17312" y="8786"/>
                  <a:pt x="17165" y="8855"/>
                </a:cubicBezTo>
                <a:cubicBezTo>
                  <a:pt x="17140" y="8855"/>
                  <a:pt x="17132" y="8855"/>
                  <a:pt x="17165" y="8855"/>
                </a:cubicBezTo>
                <a:cubicBezTo>
                  <a:pt x="17289" y="8872"/>
                  <a:pt x="17407" y="8855"/>
                  <a:pt x="17537" y="8855"/>
                </a:cubicBezTo>
              </a:path>
              <a:path w="1588" h="373">
                <a:moveTo>
                  <a:pt x="17735" y="8657"/>
                </a:moveTo>
                <a:cubicBezTo>
                  <a:pt x="17818" y="8657"/>
                  <a:pt x="17900" y="8657"/>
                  <a:pt x="17983" y="8657"/>
                </a:cubicBezTo>
                <a:cubicBezTo>
                  <a:pt x="17970" y="8573"/>
                  <a:pt x="17932" y="8454"/>
                  <a:pt x="17810" y="8508"/>
                </a:cubicBezTo>
                <a:cubicBezTo>
                  <a:pt x="17658" y="8575"/>
                  <a:pt x="17689" y="8814"/>
                  <a:pt x="17859" y="8830"/>
                </a:cubicBezTo>
                <a:cubicBezTo>
                  <a:pt x="18005" y="8844"/>
                  <a:pt x="18163" y="8517"/>
                  <a:pt x="18207" y="8657"/>
                </a:cubicBezTo>
                <a:cubicBezTo>
                  <a:pt x="18226" y="8756"/>
                  <a:pt x="18234" y="8771"/>
                  <a:pt x="18231" y="8830"/>
                </a:cubicBezTo>
                <a:cubicBezTo>
                  <a:pt x="18231" y="8717"/>
                  <a:pt x="18208" y="8663"/>
                  <a:pt x="18306" y="8582"/>
                </a:cubicBezTo>
                <a:cubicBezTo>
                  <a:pt x="18417" y="8491"/>
                  <a:pt x="18499" y="8521"/>
                  <a:pt x="18628" y="853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2920" y="3027240"/>
            <a:ext cx="9036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19273" y="8409"/>
                </a:moveTo>
                <a:cubicBezTo>
                  <a:pt x="19230" y="8434"/>
                  <a:pt x="19209" y="8449"/>
                  <a:pt x="19174" y="8483"/>
                </a:cubicBezTo>
                <a:cubicBezTo>
                  <a:pt x="19255" y="8531"/>
                  <a:pt x="19435" y="8609"/>
                  <a:pt x="19397" y="8731"/>
                </a:cubicBezTo>
                <a:cubicBezTo>
                  <a:pt x="19357" y="8859"/>
                  <a:pt x="19211" y="8758"/>
                  <a:pt x="19149" y="873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8080" y="4106880"/>
            <a:ext cx="7920" cy="73080"/>
          </a:xfrm>
          <a:custGeom>
            <a:avLst/>
            <a:gdLst/>
            <a:ahLst/>
            <a:rect l="l" t="t" r="r" b="b"/>
            <a:pathLst>
              <a:path w="26" h="200">
                <a:moveTo>
                  <a:pt x="3101" y="11410"/>
                </a:moveTo>
                <a:cubicBezTo>
                  <a:pt x="3085" y="11472"/>
                  <a:pt x="3076" y="11508"/>
                  <a:pt x="3076" y="11584"/>
                </a:cubicBezTo>
                <a:cubicBezTo>
                  <a:pt x="3076" y="11592"/>
                  <a:pt x="3076" y="11601"/>
                  <a:pt x="3076" y="1160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81080" y="4340160"/>
            <a:ext cx="61920" cy="1438200"/>
          </a:xfrm>
          <a:custGeom>
            <a:avLst/>
            <a:gdLst/>
            <a:ahLst/>
            <a:rect l="l" t="t" r="r" b="b"/>
            <a:pathLst>
              <a:path w="175" h="3995">
                <a:moveTo>
                  <a:pt x="3001" y="12055"/>
                </a:moveTo>
                <a:cubicBezTo>
                  <a:pt x="3009" y="12055"/>
                  <a:pt x="3018" y="12055"/>
                  <a:pt x="3026" y="12055"/>
                </a:cubicBezTo>
              </a:path>
              <a:path w="175" h="3995">
                <a:moveTo>
                  <a:pt x="3051" y="12402"/>
                </a:moveTo>
                <a:cubicBezTo>
                  <a:pt x="3062" y="12455"/>
                  <a:pt x="3079" y="12501"/>
                  <a:pt x="3101" y="12551"/>
                </a:cubicBezTo>
              </a:path>
              <a:path w="175" h="3995">
                <a:moveTo>
                  <a:pt x="3051" y="13395"/>
                </a:moveTo>
                <a:cubicBezTo>
                  <a:pt x="3051" y="13476"/>
                  <a:pt x="3059" y="13418"/>
                  <a:pt x="3076" y="13469"/>
                </a:cubicBezTo>
              </a:path>
              <a:path w="175" h="3995">
                <a:moveTo>
                  <a:pt x="3101" y="14039"/>
                </a:moveTo>
                <a:cubicBezTo>
                  <a:pt x="3101" y="14047"/>
                  <a:pt x="3101" y="14056"/>
                  <a:pt x="3101" y="14064"/>
                </a:cubicBezTo>
              </a:path>
              <a:path w="175" h="3995">
                <a:moveTo>
                  <a:pt x="3076" y="14660"/>
                </a:moveTo>
                <a:cubicBezTo>
                  <a:pt x="3076" y="14668"/>
                  <a:pt x="3076" y="14676"/>
                  <a:pt x="3076" y="14684"/>
                </a:cubicBezTo>
              </a:path>
              <a:path w="175" h="3995">
                <a:moveTo>
                  <a:pt x="3051" y="14957"/>
                </a:moveTo>
                <a:lnTo>
                  <a:pt x="3051" y="14957"/>
                </a:lnTo>
              </a:path>
              <a:path w="175" h="3995">
                <a:moveTo>
                  <a:pt x="3101" y="15577"/>
                </a:moveTo>
                <a:cubicBezTo>
                  <a:pt x="3101" y="15612"/>
                  <a:pt x="3105" y="15630"/>
                  <a:pt x="3125" y="15652"/>
                </a:cubicBezTo>
              </a:path>
              <a:path w="175" h="3995">
                <a:moveTo>
                  <a:pt x="3150" y="15875"/>
                </a:moveTo>
                <a:lnTo>
                  <a:pt x="3150" y="15875"/>
                </a:lnTo>
                <a:lnTo>
                  <a:pt x="3150" y="15875"/>
                </a:lnTo>
              </a:path>
              <a:path w="175" h="3995">
                <a:moveTo>
                  <a:pt x="3175" y="16049"/>
                </a:moveTo>
                <a:lnTo>
                  <a:pt x="3175" y="16049"/>
                </a:lnTo>
                <a:lnTo>
                  <a:pt x="3175" y="16049"/>
                </a:lnTo>
                <a:lnTo>
                  <a:pt x="3175" y="16049"/>
                </a:lnTo>
              </a:path>
              <a:path w="175" h="3995">
                <a:moveTo>
                  <a:pt x="3175" y="16049"/>
                </a:moveTo>
                <a:lnTo>
                  <a:pt x="3175" y="16049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08080" y="4340160"/>
            <a:ext cx="79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3101" y="12055"/>
                </a:moveTo>
                <a:cubicBezTo>
                  <a:pt x="3059" y="12055"/>
                  <a:pt x="3076" y="12090"/>
                  <a:pt x="3076" y="1212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08080" y="4599000"/>
            <a:ext cx="7920" cy="1602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3076" y="12774"/>
                </a:moveTo>
                <a:cubicBezTo>
                  <a:pt x="3076" y="12809"/>
                  <a:pt x="3081" y="12827"/>
                  <a:pt x="3101" y="12849"/>
                </a:cubicBezTo>
                <a:cubicBezTo>
                  <a:pt x="3059" y="12863"/>
                  <a:pt x="3073" y="12862"/>
                  <a:pt x="3101" y="12898"/>
                </a:cubicBezTo>
              </a:path>
              <a:path w="26" h="448">
                <a:moveTo>
                  <a:pt x="3076" y="13122"/>
                </a:moveTo>
                <a:cubicBezTo>
                  <a:pt x="3076" y="13155"/>
                  <a:pt x="3076" y="13188"/>
                  <a:pt x="3076" y="132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08080" y="4929120"/>
            <a:ext cx="792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3076" y="13692"/>
                </a:moveTo>
                <a:cubicBezTo>
                  <a:pt x="3084" y="13749"/>
                  <a:pt x="3101" y="13779"/>
                  <a:pt x="3101" y="1384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08080" y="5170320"/>
            <a:ext cx="7920" cy="63720"/>
          </a:xfrm>
          <a:custGeom>
            <a:avLst/>
            <a:gdLst/>
            <a:ahLst/>
            <a:rect l="l" t="t" r="r" b="b"/>
            <a:pathLst>
              <a:path w="26" h="175">
                <a:moveTo>
                  <a:pt x="3101" y="14362"/>
                </a:moveTo>
                <a:cubicBezTo>
                  <a:pt x="3082" y="14410"/>
                  <a:pt x="3101" y="14468"/>
                  <a:pt x="3101" y="1453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98720" y="5419800"/>
            <a:ext cx="26640" cy="117360"/>
          </a:xfrm>
          <a:custGeom>
            <a:avLst/>
            <a:gdLst/>
            <a:ahLst/>
            <a:rect l="l" t="t" r="r" b="b"/>
            <a:pathLst>
              <a:path w="75" h="324">
                <a:moveTo>
                  <a:pt x="3051" y="15056"/>
                </a:moveTo>
                <a:cubicBezTo>
                  <a:pt x="3051" y="15104"/>
                  <a:pt x="3053" y="15118"/>
                  <a:pt x="3076" y="15156"/>
                </a:cubicBezTo>
              </a:path>
              <a:path w="75" h="324">
                <a:moveTo>
                  <a:pt x="3101" y="15304"/>
                </a:moveTo>
                <a:cubicBezTo>
                  <a:pt x="3101" y="15347"/>
                  <a:pt x="3100" y="15344"/>
                  <a:pt x="3125" y="1537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8120" y="4303800"/>
            <a:ext cx="2509920" cy="384120"/>
          </a:xfrm>
          <a:custGeom>
            <a:avLst/>
            <a:gdLst/>
            <a:ahLst/>
            <a:rect l="l" t="t" r="r" b="b"/>
            <a:pathLst>
              <a:path w="6971" h="1067">
                <a:moveTo>
                  <a:pt x="16867" y="12551"/>
                </a:moveTo>
                <a:cubicBezTo>
                  <a:pt x="16920" y="12772"/>
                  <a:pt x="16922" y="12864"/>
                  <a:pt x="16718" y="12973"/>
                </a:cubicBezTo>
              </a:path>
              <a:path w="6971" h="1067">
                <a:moveTo>
                  <a:pt x="17934" y="12353"/>
                </a:moveTo>
                <a:cubicBezTo>
                  <a:pt x="17934" y="12369"/>
                  <a:pt x="17934" y="12386"/>
                  <a:pt x="17934" y="12402"/>
                </a:cubicBezTo>
              </a:path>
              <a:path w="6971" h="1067">
                <a:moveTo>
                  <a:pt x="18752" y="11956"/>
                </a:moveTo>
                <a:cubicBezTo>
                  <a:pt x="18770" y="12150"/>
                  <a:pt x="18774" y="12309"/>
                  <a:pt x="18752" y="12502"/>
                </a:cubicBezTo>
              </a:path>
              <a:path w="6971" h="1067">
                <a:moveTo>
                  <a:pt x="19720" y="12948"/>
                </a:moveTo>
                <a:cubicBezTo>
                  <a:pt x="19700" y="12992"/>
                  <a:pt x="19657" y="13084"/>
                  <a:pt x="19695" y="12973"/>
                </a:cubicBezTo>
              </a:path>
              <a:path w="6971" h="1067">
                <a:moveTo>
                  <a:pt x="22547" y="12551"/>
                </a:moveTo>
                <a:cubicBezTo>
                  <a:pt x="22527" y="12675"/>
                  <a:pt x="22519" y="12699"/>
                  <a:pt x="22523" y="12774"/>
                </a:cubicBezTo>
              </a:path>
              <a:path w="6971" h="1067">
                <a:moveTo>
                  <a:pt x="23664" y="12402"/>
                </a:moveTo>
                <a:cubicBezTo>
                  <a:pt x="23683" y="12460"/>
                  <a:pt x="23691" y="12503"/>
                  <a:pt x="23688" y="1245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42040" y="4295880"/>
            <a:ext cx="115920" cy="2412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17413" y="11981"/>
                </a:moveTo>
                <a:cubicBezTo>
                  <a:pt x="17385" y="12148"/>
                  <a:pt x="17328" y="12273"/>
                  <a:pt x="17338" y="12452"/>
                </a:cubicBezTo>
                <a:cubicBezTo>
                  <a:pt x="17346" y="12493"/>
                  <a:pt x="17355" y="12535"/>
                  <a:pt x="17363" y="12576"/>
                </a:cubicBezTo>
                <a:cubicBezTo>
                  <a:pt x="17620" y="12561"/>
                  <a:pt x="17713" y="12352"/>
                  <a:pt x="17636" y="12080"/>
                </a:cubicBezTo>
                <a:cubicBezTo>
                  <a:pt x="17622" y="12031"/>
                  <a:pt x="17508" y="11914"/>
                  <a:pt x="17487" y="1195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10240" y="4268880"/>
            <a:ext cx="142920" cy="268200"/>
          </a:xfrm>
          <a:custGeom>
            <a:avLst/>
            <a:gdLst/>
            <a:ahLst/>
            <a:rect l="l" t="t" r="r" b="b"/>
            <a:pathLst>
              <a:path w="397" h="745">
                <a:moveTo>
                  <a:pt x="18083" y="11956"/>
                </a:moveTo>
                <a:cubicBezTo>
                  <a:pt x="18104" y="12057"/>
                  <a:pt x="18107" y="12150"/>
                  <a:pt x="18107" y="12254"/>
                </a:cubicBezTo>
                <a:cubicBezTo>
                  <a:pt x="18268" y="12254"/>
                  <a:pt x="18324" y="12253"/>
                  <a:pt x="18455" y="12154"/>
                </a:cubicBezTo>
              </a:path>
              <a:path w="397" h="745">
                <a:moveTo>
                  <a:pt x="18355" y="11857"/>
                </a:moveTo>
                <a:cubicBezTo>
                  <a:pt x="18400" y="12100"/>
                  <a:pt x="18354" y="12367"/>
                  <a:pt x="18405" y="12601"/>
                </a:cubicBezTo>
                <a:cubicBezTo>
                  <a:pt x="18453" y="12553"/>
                  <a:pt x="18473" y="12514"/>
                  <a:pt x="18479" y="1245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4259160"/>
            <a:ext cx="179280" cy="26856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19050" y="11832"/>
                </a:moveTo>
                <a:cubicBezTo>
                  <a:pt x="19092" y="12040"/>
                  <a:pt x="19087" y="12245"/>
                  <a:pt x="19124" y="12452"/>
                </a:cubicBezTo>
                <a:cubicBezTo>
                  <a:pt x="19147" y="12544"/>
                  <a:pt x="19148" y="12574"/>
                  <a:pt x="19224" y="12576"/>
                </a:cubicBezTo>
                <a:cubicBezTo>
                  <a:pt x="19383" y="12470"/>
                  <a:pt x="19551" y="12366"/>
                  <a:pt x="19496" y="12204"/>
                </a:cubicBezTo>
                <a:cubicBezTo>
                  <a:pt x="19333" y="12291"/>
                  <a:pt x="19312" y="12359"/>
                  <a:pt x="19298" y="1255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59760" y="4330800"/>
            <a:ext cx="260280" cy="233280"/>
          </a:xfrm>
          <a:custGeom>
            <a:avLst/>
            <a:gdLst/>
            <a:ahLst/>
            <a:rect l="l" t="t" r="r" b="b"/>
            <a:pathLst>
              <a:path w="721" h="646">
                <a:moveTo>
                  <a:pt x="20389" y="12030"/>
                </a:moveTo>
                <a:cubicBezTo>
                  <a:pt x="20309" y="12191"/>
                  <a:pt x="20162" y="12373"/>
                  <a:pt x="20166" y="12576"/>
                </a:cubicBezTo>
                <a:cubicBezTo>
                  <a:pt x="20183" y="12609"/>
                  <a:pt x="20199" y="12642"/>
                  <a:pt x="20216" y="12675"/>
                </a:cubicBezTo>
                <a:cubicBezTo>
                  <a:pt x="20453" y="12586"/>
                  <a:pt x="20667" y="12437"/>
                  <a:pt x="20563" y="12129"/>
                </a:cubicBezTo>
                <a:cubicBezTo>
                  <a:pt x="20495" y="12061"/>
                  <a:pt x="20478" y="12039"/>
                  <a:pt x="20414" y="12030"/>
                </a:cubicBezTo>
              </a:path>
              <a:path w="721" h="646">
                <a:moveTo>
                  <a:pt x="20886" y="12402"/>
                </a:moveTo>
                <a:cubicBezTo>
                  <a:pt x="20886" y="12452"/>
                  <a:pt x="20886" y="12469"/>
                  <a:pt x="20886" y="1250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34160" y="4249800"/>
            <a:ext cx="339840" cy="287280"/>
          </a:xfrm>
          <a:custGeom>
            <a:avLst/>
            <a:gdLst/>
            <a:ahLst/>
            <a:rect l="l" t="t" r="r" b="b"/>
            <a:pathLst>
              <a:path w="944" h="795">
                <a:moveTo>
                  <a:pt x="21481" y="12055"/>
                </a:moveTo>
                <a:cubicBezTo>
                  <a:pt x="21568" y="11946"/>
                  <a:pt x="21526" y="11908"/>
                  <a:pt x="21456" y="11807"/>
                </a:cubicBezTo>
                <a:cubicBezTo>
                  <a:pt x="21256" y="11895"/>
                  <a:pt x="21205" y="11969"/>
                  <a:pt x="21258" y="12179"/>
                </a:cubicBezTo>
                <a:cubicBezTo>
                  <a:pt x="21440" y="12134"/>
                  <a:pt x="21448" y="12055"/>
                  <a:pt x="21555" y="11906"/>
                </a:cubicBezTo>
                <a:cubicBezTo>
                  <a:pt x="21528" y="12097"/>
                  <a:pt x="21497" y="12287"/>
                  <a:pt x="21456" y="12477"/>
                </a:cubicBezTo>
                <a:cubicBezTo>
                  <a:pt x="21437" y="12551"/>
                  <a:pt x="21429" y="12610"/>
                  <a:pt x="21431" y="12551"/>
                </a:cubicBezTo>
              </a:path>
              <a:path w="944" h="795">
                <a:moveTo>
                  <a:pt x="21853" y="11881"/>
                </a:moveTo>
                <a:cubicBezTo>
                  <a:pt x="21938" y="11820"/>
                  <a:pt x="22048" y="11850"/>
                  <a:pt x="22101" y="11956"/>
                </a:cubicBezTo>
                <a:cubicBezTo>
                  <a:pt x="22222" y="12198"/>
                  <a:pt x="22131" y="12543"/>
                  <a:pt x="21803" y="12477"/>
                </a:cubicBezTo>
                <a:cubicBezTo>
                  <a:pt x="21803" y="12460"/>
                  <a:pt x="21803" y="12444"/>
                  <a:pt x="21803" y="12427"/>
                </a:cubicBezTo>
                <a:cubicBezTo>
                  <a:pt x="21892" y="12315"/>
                  <a:pt x="22035" y="12186"/>
                  <a:pt x="22126" y="12402"/>
                </a:cubicBezTo>
                <a:cubicBezTo>
                  <a:pt x="22148" y="12509"/>
                  <a:pt x="22156" y="12533"/>
                  <a:pt x="22151" y="1260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24920" y="4303800"/>
            <a:ext cx="17784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22895" y="12105"/>
                </a:moveTo>
                <a:cubicBezTo>
                  <a:pt x="22812" y="12158"/>
                  <a:pt x="22924" y="12016"/>
                  <a:pt x="22944" y="12005"/>
                </a:cubicBezTo>
                <a:cubicBezTo>
                  <a:pt x="23118" y="11907"/>
                  <a:pt x="23438" y="11978"/>
                  <a:pt x="23341" y="12254"/>
                </a:cubicBezTo>
                <a:cubicBezTo>
                  <a:pt x="23261" y="12480"/>
                  <a:pt x="22975" y="12474"/>
                  <a:pt x="22845" y="12378"/>
                </a:cubicBezTo>
                <a:cubicBezTo>
                  <a:pt x="23040" y="12252"/>
                  <a:pt x="23214" y="12185"/>
                  <a:pt x="23316" y="12452"/>
                </a:cubicBezTo>
                <a:cubicBezTo>
                  <a:pt x="23316" y="12469"/>
                  <a:pt x="23316" y="12485"/>
                  <a:pt x="23316" y="1250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99320" y="4259160"/>
            <a:ext cx="13356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24160" y="11832"/>
                </a:moveTo>
                <a:cubicBezTo>
                  <a:pt x="24088" y="11832"/>
                  <a:pt x="24045" y="11881"/>
                  <a:pt x="23986" y="11906"/>
                </a:cubicBezTo>
                <a:cubicBezTo>
                  <a:pt x="23940" y="11925"/>
                  <a:pt x="23897" y="12049"/>
                  <a:pt x="23887" y="12105"/>
                </a:cubicBezTo>
                <a:cubicBezTo>
                  <a:pt x="23887" y="12113"/>
                  <a:pt x="23887" y="12121"/>
                  <a:pt x="23887" y="12129"/>
                </a:cubicBezTo>
                <a:cubicBezTo>
                  <a:pt x="23981" y="12106"/>
                  <a:pt x="24169" y="12015"/>
                  <a:pt x="24234" y="12129"/>
                </a:cubicBezTo>
                <a:cubicBezTo>
                  <a:pt x="24322" y="12282"/>
                  <a:pt x="24163" y="12448"/>
                  <a:pt x="24011" y="12452"/>
                </a:cubicBezTo>
                <a:cubicBezTo>
                  <a:pt x="23978" y="12444"/>
                  <a:pt x="23945" y="12435"/>
                  <a:pt x="23912" y="1242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When comparing with fractions, we’ll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ollow the same steps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, but we must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rewrite the fractions as decimals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first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rder the following numbers from least to greatest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0.426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, 0.43,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505320" y="3962520"/>
          <a:ext cx="5302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96252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34120" y="3962520"/>
          <a:ext cx="45540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962520"/>
                    <a:ext cx="4554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68240" y="406224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2133" y="11807"/>
                </a:moveTo>
                <a:cubicBezTo>
                  <a:pt x="2221" y="11789"/>
                  <a:pt x="2288" y="11743"/>
                  <a:pt x="2381" y="11733"/>
                </a:cubicBezTo>
                <a:cubicBezTo>
                  <a:pt x="2406" y="11733"/>
                  <a:pt x="2414" y="11733"/>
                  <a:pt x="2431" y="11733"/>
                </a:cubicBezTo>
              </a:path>
              <a:path w="299" h="522">
                <a:moveTo>
                  <a:pt x="2307" y="11286"/>
                </a:moveTo>
                <a:cubicBezTo>
                  <a:pt x="2244" y="11302"/>
                  <a:pt x="2249" y="11314"/>
                  <a:pt x="2208" y="11361"/>
                </a:cubicBezTo>
                <a:cubicBezTo>
                  <a:pt x="2169" y="11399"/>
                  <a:pt x="2152" y="11401"/>
                  <a:pt x="2158" y="11435"/>
                </a:cubicBezTo>
                <a:cubicBezTo>
                  <a:pt x="2221" y="11435"/>
                  <a:pt x="2240" y="11467"/>
                  <a:pt x="2307" y="11485"/>
                </a:cubicBezTo>
                <a:cubicBezTo>
                  <a:pt x="2344" y="11495"/>
                  <a:pt x="2335" y="11509"/>
                  <a:pt x="2356" y="11559"/>
                </a:cubicBezTo>
                <a:cubicBezTo>
                  <a:pt x="2302" y="11596"/>
                  <a:pt x="2248" y="11612"/>
                  <a:pt x="2183" y="1163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25360" y="4000680"/>
            <a:ext cx="330480" cy="438120"/>
          </a:xfrm>
          <a:custGeom>
            <a:avLst/>
            <a:gdLst/>
            <a:ahLst/>
            <a:rect l="l" t="t" r="r" b="b"/>
            <a:pathLst>
              <a:path w="919" h="1217">
                <a:moveTo>
                  <a:pt x="3919" y="12030"/>
                </a:moveTo>
                <a:cubicBezTo>
                  <a:pt x="3849" y="12086"/>
                  <a:pt x="3812" y="12199"/>
                  <a:pt x="3845" y="12303"/>
                </a:cubicBezTo>
                <a:cubicBezTo>
                  <a:pt x="3853" y="12311"/>
                  <a:pt x="3862" y="12320"/>
                  <a:pt x="3870" y="12328"/>
                </a:cubicBezTo>
                <a:cubicBezTo>
                  <a:pt x="3960" y="12306"/>
                  <a:pt x="4131" y="12221"/>
                  <a:pt x="3994" y="12105"/>
                </a:cubicBezTo>
                <a:cubicBezTo>
                  <a:pt x="3929" y="12083"/>
                  <a:pt x="3914" y="12075"/>
                  <a:pt x="3870" y="12080"/>
                </a:cubicBezTo>
              </a:path>
              <a:path w="919" h="1217">
                <a:moveTo>
                  <a:pt x="3225" y="11881"/>
                </a:moveTo>
                <a:cubicBezTo>
                  <a:pt x="3404" y="11881"/>
                  <a:pt x="3593" y="11874"/>
                  <a:pt x="3770" y="11857"/>
                </a:cubicBezTo>
                <a:cubicBezTo>
                  <a:pt x="3989" y="11836"/>
                  <a:pt x="3861" y="11830"/>
                  <a:pt x="3969" y="11857"/>
                </a:cubicBezTo>
              </a:path>
              <a:path w="919" h="1217">
                <a:moveTo>
                  <a:pt x="3200" y="11212"/>
                </a:moveTo>
                <a:cubicBezTo>
                  <a:pt x="3238" y="11231"/>
                  <a:pt x="3134" y="11493"/>
                  <a:pt x="3125" y="11559"/>
                </a:cubicBezTo>
                <a:cubicBezTo>
                  <a:pt x="3125" y="11650"/>
                  <a:pt x="3125" y="11658"/>
                  <a:pt x="3125" y="11708"/>
                </a:cubicBezTo>
                <a:cubicBezTo>
                  <a:pt x="3279" y="11681"/>
                  <a:pt x="3390" y="11648"/>
                  <a:pt x="3448" y="11485"/>
                </a:cubicBezTo>
                <a:cubicBezTo>
                  <a:pt x="3448" y="11457"/>
                  <a:pt x="3446" y="11446"/>
                  <a:pt x="3423" y="11435"/>
                </a:cubicBezTo>
                <a:cubicBezTo>
                  <a:pt x="3318" y="11483"/>
                  <a:pt x="3244" y="11548"/>
                  <a:pt x="3249" y="11683"/>
                </a:cubicBezTo>
                <a:cubicBezTo>
                  <a:pt x="3273" y="11731"/>
                  <a:pt x="3279" y="11748"/>
                  <a:pt x="3324" y="11733"/>
                </a:cubicBezTo>
              </a:path>
              <a:path w="919" h="1217">
                <a:moveTo>
                  <a:pt x="3795" y="11112"/>
                </a:moveTo>
                <a:cubicBezTo>
                  <a:pt x="3729" y="11136"/>
                  <a:pt x="3644" y="11143"/>
                  <a:pt x="3621" y="11212"/>
                </a:cubicBezTo>
                <a:cubicBezTo>
                  <a:pt x="3602" y="11289"/>
                  <a:pt x="3610" y="11307"/>
                  <a:pt x="3572" y="11336"/>
                </a:cubicBezTo>
                <a:cubicBezTo>
                  <a:pt x="3666" y="11320"/>
                  <a:pt x="3705" y="11317"/>
                  <a:pt x="3795" y="11336"/>
                </a:cubicBezTo>
                <a:cubicBezTo>
                  <a:pt x="3960" y="11372"/>
                  <a:pt x="3727" y="11534"/>
                  <a:pt x="3696" y="11559"/>
                </a:cubicBezTo>
                <a:cubicBezTo>
                  <a:pt x="3673" y="11582"/>
                  <a:pt x="3669" y="11590"/>
                  <a:pt x="3646" y="1158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1240" y="4276800"/>
            <a:ext cx="598680" cy="1036440"/>
          </a:xfrm>
          <a:custGeom>
            <a:avLst/>
            <a:gdLst/>
            <a:ahLst/>
            <a:rect l="l" t="t" r="r" b="b"/>
            <a:pathLst>
              <a:path w="1663" h="2879">
                <a:moveTo>
                  <a:pt x="2232" y="12030"/>
                </a:moveTo>
                <a:cubicBezTo>
                  <a:pt x="2287" y="12019"/>
                  <a:pt x="2321" y="12010"/>
                  <a:pt x="2381" y="12005"/>
                </a:cubicBezTo>
                <a:cubicBezTo>
                  <a:pt x="2381" y="11981"/>
                  <a:pt x="2381" y="11973"/>
                  <a:pt x="2406" y="11981"/>
                </a:cubicBezTo>
              </a:path>
              <a:path w="1663" h="2879">
                <a:moveTo>
                  <a:pt x="2654" y="11906"/>
                </a:moveTo>
                <a:cubicBezTo>
                  <a:pt x="2696" y="11899"/>
                  <a:pt x="2736" y="11888"/>
                  <a:pt x="2778" y="11881"/>
                </a:cubicBezTo>
              </a:path>
              <a:path w="1663" h="2879">
                <a:moveTo>
                  <a:pt x="3497" y="12129"/>
                </a:moveTo>
                <a:cubicBezTo>
                  <a:pt x="3473" y="12232"/>
                  <a:pt x="3455" y="12304"/>
                  <a:pt x="3473" y="12402"/>
                </a:cubicBezTo>
                <a:cubicBezTo>
                  <a:pt x="3585" y="12419"/>
                  <a:pt x="3721" y="12417"/>
                  <a:pt x="3721" y="12254"/>
                </a:cubicBezTo>
                <a:cubicBezTo>
                  <a:pt x="3721" y="12143"/>
                  <a:pt x="3678" y="12125"/>
                  <a:pt x="3597" y="12105"/>
                </a:cubicBezTo>
              </a:path>
              <a:path w="1663" h="2879">
                <a:moveTo>
                  <a:pt x="2133" y="14412"/>
                </a:moveTo>
                <a:lnTo>
                  <a:pt x="2133" y="14412"/>
                </a:lnTo>
              </a:path>
              <a:path w="1663" h="2879">
                <a:moveTo>
                  <a:pt x="2133" y="14412"/>
                </a:moveTo>
                <a:lnTo>
                  <a:pt x="2133" y="14412"/>
                </a:lnTo>
              </a:path>
              <a:path w="1663" h="2879">
                <a:moveTo>
                  <a:pt x="2133" y="14412"/>
                </a:moveTo>
                <a:cubicBezTo>
                  <a:pt x="2141" y="14404"/>
                  <a:pt x="2150" y="14395"/>
                  <a:pt x="2158" y="14387"/>
                </a:cubicBezTo>
              </a:path>
              <a:path w="1663" h="2879">
                <a:moveTo>
                  <a:pt x="2232" y="14213"/>
                </a:moveTo>
                <a:cubicBezTo>
                  <a:pt x="2174" y="14305"/>
                  <a:pt x="2114" y="14392"/>
                  <a:pt x="2059" y="14486"/>
                </a:cubicBezTo>
              </a:path>
              <a:path w="1663" h="2879">
                <a:moveTo>
                  <a:pt x="2381" y="14511"/>
                </a:moveTo>
                <a:cubicBezTo>
                  <a:pt x="2369" y="14593"/>
                  <a:pt x="2361" y="14690"/>
                  <a:pt x="2332" y="14759"/>
                </a:cubicBezTo>
              </a:path>
              <a:path w="1663" h="2879">
                <a:moveTo>
                  <a:pt x="2456" y="14263"/>
                </a:moveTo>
                <a:cubicBezTo>
                  <a:pt x="2543" y="14307"/>
                  <a:pt x="2612" y="14275"/>
                  <a:pt x="2704" y="1423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920" y="4037040"/>
            <a:ext cx="1428840" cy="1357200"/>
          </a:xfrm>
          <a:custGeom>
            <a:avLst/>
            <a:gdLst/>
            <a:ahLst/>
            <a:rect l="l" t="t" r="r" b="b"/>
            <a:pathLst>
              <a:path w="3970" h="3771">
                <a:moveTo>
                  <a:pt x="967" y="11311"/>
                </a:moveTo>
                <a:cubicBezTo>
                  <a:pt x="967" y="11465"/>
                  <a:pt x="963" y="11630"/>
                  <a:pt x="943" y="11782"/>
                </a:cubicBezTo>
                <a:cubicBezTo>
                  <a:pt x="937" y="11828"/>
                  <a:pt x="865" y="11985"/>
                  <a:pt x="943" y="11881"/>
                </a:cubicBezTo>
              </a:path>
              <a:path w="3970" h="3771">
                <a:moveTo>
                  <a:pt x="1240" y="11261"/>
                </a:moveTo>
                <a:cubicBezTo>
                  <a:pt x="1269" y="11233"/>
                  <a:pt x="1279" y="11221"/>
                  <a:pt x="1315" y="11212"/>
                </a:cubicBezTo>
                <a:cubicBezTo>
                  <a:pt x="1330" y="11296"/>
                  <a:pt x="1332" y="11430"/>
                  <a:pt x="1240" y="11485"/>
                </a:cubicBezTo>
                <a:cubicBezTo>
                  <a:pt x="1240" y="11477"/>
                  <a:pt x="1240" y="11468"/>
                  <a:pt x="1240" y="11460"/>
                </a:cubicBezTo>
                <a:cubicBezTo>
                  <a:pt x="1375" y="11504"/>
                  <a:pt x="1385" y="11586"/>
                  <a:pt x="1315" y="11708"/>
                </a:cubicBezTo>
                <a:cubicBezTo>
                  <a:pt x="1286" y="11758"/>
                  <a:pt x="1240" y="11772"/>
                  <a:pt x="1191" y="11782"/>
                </a:cubicBezTo>
              </a:path>
              <a:path w="3970" h="3771">
                <a:moveTo>
                  <a:pt x="546" y="12080"/>
                </a:moveTo>
                <a:cubicBezTo>
                  <a:pt x="745" y="12047"/>
                  <a:pt x="938" y="12006"/>
                  <a:pt x="1141" y="11981"/>
                </a:cubicBezTo>
                <a:cubicBezTo>
                  <a:pt x="1330" y="11958"/>
                  <a:pt x="1301" y="11958"/>
                  <a:pt x="1439" y="11981"/>
                </a:cubicBezTo>
              </a:path>
              <a:path w="3970" h="3771">
                <a:moveTo>
                  <a:pt x="719" y="12278"/>
                </a:moveTo>
                <a:cubicBezTo>
                  <a:pt x="779" y="12268"/>
                  <a:pt x="831" y="12259"/>
                  <a:pt x="893" y="12254"/>
                </a:cubicBezTo>
                <a:cubicBezTo>
                  <a:pt x="1025" y="12459"/>
                  <a:pt x="945" y="12561"/>
                  <a:pt x="719" y="12675"/>
                </a:cubicBezTo>
                <a:cubicBezTo>
                  <a:pt x="588" y="12719"/>
                  <a:pt x="556" y="12740"/>
                  <a:pt x="471" y="12700"/>
                </a:cubicBezTo>
                <a:cubicBezTo>
                  <a:pt x="547" y="12600"/>
                  <a:pt x="657" y="12544"/>
                  <a:pt x="794" y="12576"/>
                </a:cubicBezTo>
                <a:cubicBezTo>
                  <a:pt x="920" y="12605"/>
                  <a:pt x="887" y="12680"/>
                  <a:pt x="992" y="12650"/>
                </a:cubicBezTo>
              </a:path>
              <a:path w="3970" h="3771">
                <a:moveTo>
                  <a:pt x="1191" y="12353"/>
                </a:moveTo>
                <a:cubicBezTo>
                  <a:pt x="1135" y="12464"/>
                  <a:pt x="1124" y="12504"/>
                  <a:pt x="1141" y="12626"/>
                </a:cubicBezTo>
                <a:cubicBezTo>
                  <a:pt x="1314" y="12652"/>
                  <a:pt x="1384" y="12597"/>
                  <a:pt x="1315" y="12402"/>
                </a:cubicBezTo>
                <a:cubicBezTo>
                  <a:pt x="1279" y="12299"/>
                  <a:pt x="1225" y="12328"/>
                  <a:pt x="1141" y="12328"/>
                </a:cubicBezTo>
              </a:path>
              <a:path w="3970" h="3771">
                <a:moveTo>
                  <a:pt x="1612" y="11832"/>
                </a:moveTo>
                <a:cubicBezTo>
                  <a:pt x="1629" y="11798"/>
                  <a:pt x="1730" y="11976"/>
                  <a:pt x="1761" y="12030"/>
                </a:cubicBezTo>
                <a:cubicBezTo>
                  <a:pt x="1761" y="12055"/>
                  <a:pt x="1761" y="12063"/>
                  <a:pt x="1786" y="12055"/>
                </a:cubicBezTo>
              </a:path>
              <a:path w="3970" h="3771">
                <a:moveTo>
                  <a:pt x="1811" y="11832"/>
                </a:moveTo>
                <a:cubicBezTo>
                  <a:pt x="1811" y="11824"/>
                  <a:pt x="1811" y="11815"/>
                  <a:pt x="1811" y="11807"/>
                </a:cubicBezTo>
                <a:cubicBezTo>
                  <a:pt x="1729" y="11840"/>
                  <a:pt x="1682" y="11924"/>
                  <a:pt x="1637" y="12005"/>
                </a:cubicBezTo>
                <a:cubicBezTo>
                  <a:pt x="1615" y="12049"/>
                  <a:pt x="1612" y="12060"/>
                  <a:pt x="1588" y="12080"/>
                </a:cubicBezTo>
              </a:path>
              <a:path w="3970" h="3771">
                <a:moveTo>
                  <a:pt x="2183" y="12055"/>
                </a:moveTo>
                <a:cubicBezTo>
                  <a:pt x="2226" y="12055"/>
                  <a:pt x="2165" y="12076"/>
                  <a:pt x="2158" y="12080"/>
                </a:cubicBezTo>
                <a:cubicBezTo>
                  <a:pt x="2125" y="12080"/>
                  <a:pt x="2117" y="12088"/>
                  <a:pt x="2133" y="12129"/>
                </a:cubicBezTo>
                <a:cubicBezTo>
                  <a:pt x="2159" y="12146"/>
                  <a:pt x="2246" y="12123"/>
                  <a:pt x="2307" y="12154"/>
                </a:cubicBezTo>
                <a:cubicBezTo>
                  <a:pt x="2323" y="12162"/>
                  <a:pt x="2340" y="12171"/>
                  <a:pt x="2356" y="12179"/>
                </a:cubicBezTo>
                <a:cubicBezTo>
                  <a:pt x="2336" y="12225"/>
                  <a:pt x="2272" y="12383"/>
                  <a:pt x="2183" y="12303"/>
                </a:cubicBezTo>
                <a:cubicBezTo>
                  <a:pt x="2175" y="12287"/>
                  <a:pt x="2166" y="12270"/>
                  <a:pt x="2158" y="12254"/>
                </a:cubicBezTo>
              </a:path>
              <a:path w="3970" h="3771">
                <a:moveTo>
                  <a:pt x="2704" y="12005"/>
                </a:moveTo>
                <a:cubicBezTo>
                  <a:pt x="2774" y="12019"/>
                  <a:pt x="2826" y="12013"/>
                  <a:pt x="2902" y="12005"/>
                </a:cubicBezTo>
              </a:path>
              <a:path w="3970" h="3771">
                <a:moveTo>
                  <a:pt x="3225" y="12105"/>
                </a:moveTo>
                <a:cubicBezTo>
                  <a:pt x="3225" y="12224"/>
                  <a:pt x="3228" y="12334"/>
                  <a:pt x="3200" y="12452"/>
                </a:cubicBezTo>
                <a:cubicBezTo>
                  <a:pt x="3185" y="12517"/>
                  <a:pt x="3152" y="12518"/>
                  <a:pt x="3249" y="12378"/>
                </a:cubicBezTo>
              </a:path>
              <a:path w="3970" h="3771">
                <a:moveTo>
                  <a:pt x="1290" y="13767"/>
                </a:moveTo>
                <a:cubicBezTo>
                  <a:pt x="1281" y="13844"/>
                  <a:pt x="1253" y="13914"/>
                  <a:pt x="1240" y="13990"/>
                </a:cubicBezTo>
                <a:cubicBezTo>
                  <a:pt x="1325" y="13990"/>
                  <a:pt x="1483" y="13954"/>
                  <a:pt x="1538" y="14015"/>
                </a:cubicBezTo>
                <a:cubicBezTo>
                  <a:pt x="1538" y="14023"/>
                  <a:pt x="1538" y="14031"/>
                  <a:pt x="1538" y="14039"/>
                </a:cubicBezTo>
              </a:path>
              <a:path w="3970" h="3771">
                <a:moveTo>
                  <a:pt x="1588" y="13717"/>
                </a:moveTo>
                <a:cubicBezTo>
                  <a:pt x="1576" y="13867"/>
                  <a:pt x="1579" y="14074"/>
                  <a:pt x="1513" y="14213"/>
                </a:cubicBezTo>
                <a:cubicBezTo>
                  <a:pt x="1480" y="14213"/>
                  <a:pt x="1464" y="14213"/>
                  <a:pt x="1439" y="14213"/>
                </a:cubicBezTo>
              </a:path>
              <a:path w="3970" h="3771">
                <a:moveTo>
                  <a:pt x="1067" y="14337"/>
                </a:moveTo>
                <a:cubicBezTo>
                  <a:pt x="1252" y="14337"/>
                  <a:pt x="1429" y="14340"/>
                  <a:pt x="1612" y="14312"/>
                </a:cubicBezTo>
                <a:cubicBezTo>
                  <a:pt x="1686" y="14294"/>
                  <a:pt x="1693" y="14286"/>
                  <a:pt x="1736" y="14288"/>
                </a:cubicBezTo>
              </a:path>
              <a:path w="3970" h="3771">
                <a:moveTo>
                  <a:pt x="1017" y="14560"/>
                </a:moveTo>
                <a:cubicBezTo>
                  <a:pt x="1017" y="14671"/>
                  <a:pt x="1021" y="14774"/>
                  <a:pt x="992" y="14883"/>
                </a:cubicBezTo>
                <a:cubicBezTo>
                  <a:pt x="977" y="14939"/>
                  <a:pt x="942" y="14940"/>
                  <a:pt x="992" y="14957"/>
                </a:cubicBezTo>
              </a:path>
              <a:path w="3970" h="3771">
                <a:moveTo>
                  <a:pt x="1339" y="14536"/>
                </a:moveTo>
                <a:cubicBezTo>
                  <a:pt x="1250" y="14612"/>
                  <a:pt x="1243" y="14733"/>
                  <a:pt x="1265" y="14858"/>
                </a:cubicBezTo>
                <a:cubicBezTo>
                  <a:pt x="1290" y="14908"/>
                  <a:pt x="1298" y="14924"/>
                  <a:pt x="1315" y="14957"/>
                </a:cubicBezTo>
                <a:cubicBezTo>
                  <a:pt x="1413" y="14899"/>
                  <a:pt x="1592" y="14754"/>
                  <a:pt x="1488" y="14610"/>
                </a:cubicBezTo>
                <a:cubicBezTo>
                  <a:pt x="1410" y="14584"/>
                  <a:pt x="1383" y="14573"/>
                  <a:pt x="1339" y="14536"/>
                </a:cubicBezTo>
              </a:path>
              <a:path w="3970" h="3771">
                <a:moveTo>
                  <a:pt x="2084" y="14213"/>
                </a:moveTo>
                <a:cubicBezTo>
                  <a:pt x="2156" y="14271"/>
                  <a:pt x="2176" y="14360"/>
                  <a:pt x="2183" y="14461"/>
                </a:cubicBezTo>
                <a:cubicBezTo>
                  <a:pt x="2183" y="14469"/>
                  <a:pt x="2183" y="14478"/>
                  <a:pt x="2183" y="14486"/>
                </a:cubicBezTo>
              </a:path>
              <a:path w="3970" h="3771">
                <a:moveTo>
                  <a:pt x="2629" y="14486"/>
                </a:moveTo>
                <a:cubicBezTo>
                  <a:pt x="2584" y="14549"/>
                  <a:pt x="2558" y="14611"/>
                  <a:pt x="2530" y="14684"/>
                </a:cubicBezTo>
                <a:cubicBezTo>
                  <a:pt x="2560" y="14694"/>
                  <a:pt x="2744" y="14674"/>
                  <a:pt x="2679" y="14585"/>
                </a:cubicBezTo>
                <a:cubicBezTo>
                  <a:pt x="2631" y="14561"/>
                  <a:pt x="2617" y="14553"/>
                  <a:pt x="2580" y="14560"/>
                </a:cubicBezTo>
              </a:path>
              <a:path w="3970" h="3771">
                <a:moveTo>
                  <a:pt x="2927" y="14337"/>
                </a:moveTo>
                <a:cubicBezTo>
                  <a:pt x="3040" y="14323"/>
                  <a:pt x="3123" y="14299"/>
                  <a:pt x="3225" y="14337"/>
                </a:cubicBezTo>
              </a:path>
              <a:path w="3970" h="3771">
                <a:moveTo>
                  <a:pt x="3001" y="14486"/>
                </a:moveTo>
                <a:cubicBezTo>
                  <a:pt x="3051" y="14486"/>
                  <a:pt x="3100" y="14486"/>
                  <a:pt x="3150" y="14486"/>
                </a:cubicBezTo>
              </a:path>
              <a:path w="3970" h="3771">
                <a:moveTo>
                  <a:pt x="2530" y="13940"/>
                </a:moveTo>
                <a:cubicBezTo>
                  <a:pt x="2530" y="14017"/>
                  <a:pt x="2546" y="14094"/>
                  <a:pt x="2505" y="14163"/>
                </a:cubicBezTo>
                <a:cubicBezTo>
                  <a:pt x="2505" y="14155"/>
                  <a:pt x="2505" y="14147"/>
                  <a:pt x="2505" y="14139"/>
                </a:cubicBezTo>
              </a:path>
              <a:path w="3970" h="3771">
                <a:moveTo>
                  <a:pt x="2679" y="13866"/>
                </a:moveTo>
                <a:cubicBezTo>
                  <a:pt x="2670" y="13938"/>
                  <a:pt x="2660" y="13986"/>
                  <a:pt x="2654" y="14064"/>
                </a:cubicBezTo>
                <a:cubicBezTo>
                  <a:pt x="2732" y="14064"/>
                  <a:pt x="2854" y="14057"/>
                  <a:pt x="2828" y="13940"/>
                </a:cubicBezTo>
                <a:cubicBezTo>
                  <a:pt x="2793" y="13940"/>
                  <a:pt x="2775" y="13935"/>
                  <a:pt x="2753" y="13915"/>
                </a:cubicBezTo>
              </a:path>
              <a:path w="3970" h="3771">
                <a:moveTo>
                  <a:pt x="3795" y="13891"/>
                </a:moveTo>
                <a:cubicBezTo>
                  <a:pt x="3766" y="13963"/>
                  <a:pt x="3736" y="14039"/>
                  <a:pt x="3721" y="14114"/>
                </a:cubicBezTo>
                <a:cubicBezTo>
                  <a:pt x="3811" y="14114"/>
                  <a:pt x="3882" y="14109"/>
                  <a:pt x="3969" y="14089"/>
                </a:cubicBezTo>
              </a:path>
              <a:path w="3970" h="3771">
                <a:moveTo>
                  <a:pt x="4068" y="13841"/>
                </a:moveTo>
                <a:cubicBezTo>
                  <a:pt x="4001" y="14011"/>
                  <a:pt x="3946" y="14185"/>
                  <a:pt x="3845" y="14337"/>
                </a:cubicBezTo>
              </a:path>
              <a:path w="3970" h="3771">
                <a:moveTo>
                  <a:pt x="4217" y="13915"/>
                </a:moveTo>
                <a:cubicBezTo>
                  <a:pt x="4156" y="14029"/>
                  <a:pt x="4134" y="14089"/>
                  <a:pt x="4142" y="14213"/>
                </a:cubicBezTo>
                <a:cubicBezTo>
                  <a:pt x="4235" y="14213"/>
                  <a:pt x="4472" y="14120"/>
                  <a:pt x="4341" y="13965"/>
                </a:cubicBezTo>
                <a:cubicBezTo>
                  <a:pt x="4259" y="13938"/>
                  <a:pt x="4226" y="13931"/>
                  <a:pt x="4167" y="13965"/>
                </a:cubicBezTo>
              </a:path>
              <a:path w="3970" h="3771">
                <a:moveTo>
                  <a:pt x="3572" y="14461"/>
                </a:moveTo>
                <a:cubicBezTo>
                  <a:pt x="3833" y="14402"/>
                  <a:pt x="4121" y="14331"/>
                  <a:pt x="4390" y="14337"/>
                </a:cubicBezTo>
                <a:cubicBezTo>
                  <a:pt x="4440" y="14362"/>
                  <a:pt x="4457" y="14370"/>
                  <a:pt x="4390" y="14387"/>
                </a:cubicBezTo>
              </a:path>
              <a:path w="3970" h="3771">
                <a:moveTo>
                  <a:pt x="3621" y="14660"/>
                </a:moveTo>
                <a:cubicBezTo>
                  <a:pt x="3549" y="14756"/>
                  <a:pt x="3475" y="14878"/>
                  <a:pt x="3423" y="14982"/>
                </a:cubicBezTo>
                <a:cubicBezTo>
                  <a:pt x="3431" y="14974"/>
                  <a:pt x="3440" y="14965"/>
                  <a:pt x="3448" y="14957"/>
                </a:cubicBezTo>
              </a:path>
              <a:path w="3970" h="3771">
                <a:moveTo>
                  <a:pt x="3894" y="14660"/>
                </a:moveTo>
                <a:cubicBezTo>
                  <a:pt x="3849" y="14759"/>
                  <a:pt x="3807" y="14850"/>
                  <a:pt x="3795" y="14957"/>
                </a:cubicBezTo>
                <a:cubicBezTo>
                  <a:pt x="3923" y="14902"/>
                  <a:pt x="4144" y="14809"/>
                  <a:pt x="3994" y="14635"/>
                </a:cubicBezTo>
                <a:cubicBezTo>
                  <a:pt x="3936" y="14616"/>
                  <a:pt x="3929" y="14607"/>
                  <a:pt x="3894" y="14610"/>
                </a:cubicBezTo>
              </a:path>
              <a:path w="3970" h="3771">
                <a:moveTo>
                  <a:pt x="4291" y="14585"/>
                </a:moveTo>
                <a:cubicBezTo>
                  <a:pt x="4221" y="14694"/>
                  <a:pt x="4189" y="14760"/>
                  <a:pt x="4167" y="14883"/>
                </a:cubicBezTo>
                <a:cubicBezTo>
                  <a:pt x="4289" y="14914"/>
                  <a:pt x="4486" y="14812"/>
                  <a:pt x="4440" y="14635"/>
                </a:cubicBezTo>
                <a:cubicBezTo>
                  <a:pt x="4354" y="14577"/>
                  <a:pt x="4316" y="14555"/>
                  <a:pt x="4242" y="1453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38880" y="391176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106" y="10864"/>
                </a:moveTo>
                <a:cubicBezTo>
                  <a:pt x="15114" y="10864"/>
                  <a:pt x="15123" y="10864"/>
                  <a:pt x="15131" y="108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59080" y="3741840"/>
            <a:ext cx="795240" cy="214200"/>
          </a:xfrm>
          <a:custGeom>
            <a:avLst/>
            <a:gdLst/>
            <a:ahLst/>
            <a:rect l="l" t="t" r="r" b="b"/>
            <a:pathLst>
              <a:path w="2208" h="596">
                <a:moveTo>
                  <a:pt x="9550" y="10443"/>
                </a:moveTo>
                <a:cubicBezTo>
                  <a:pt x="9482" y="10443"/>
                  <a:pt x="9445" y="10394"/>
                  <a:pt x="9376" y="10443"/>
                </a:cubicBezTo>
                <a:cubicBezTo>
                  <a:pt x="9217" y="10556"/>
                  <a:pt x="9130" y="10743"/>
                  <a:pt x="9054" y="10914"/>
                </a:cubicBezTo>
                <a:cubicBezTo>
                  <a:pt x="9197" y="11015"/>
                  <a:pt x="9318" y="10977"/>
                  <a:pt x="9475" y="10889"/>
                </a:cubicBezTo>
                <a:cubicBezTo>
                  <a:pt x="9617" y="10810"/>
                  <a:pt x="9645" y="10726"/>
                  <a:pt x="9575" y="10592"/>
                </a:cubicBezTo>
                <a:cubicBezTo>
                  <a:pt x="9555" y="10551"/>
                  <a:pt x="9557" y="10535"/>
                  <a:pt x="9525" y="10542"/>
                </a:cubicBezTo>
              </a:path>
              <a:path w="2208" h="596">
                <a:moveTo>
                  <a:pt x="9798" y="10840"/>
                </a:moveTo>
                <a:cubicBezTo>
                  <a:pt x="9771" y="10858"/>
                  <a:pt x="9771" y="10875"/>
                  <a:pt x="9748" y="10914"/>
                </a:cubicBezTo>
                <a:cubicBezTo>
                  <a:pt x="9749" y="10910"/>
                  <a:pt x="9800" y="10838"/>
                  <a:pt x="9748" y="10864"/>
                </a:cubicBezTo>
                <a:cubicBezTo>
                  <a:pt x="9740" y="10872"/>
                  <a:pt x="9731" y="10881"/>
                  <a:pt x="9723" y="10889"/>
                </a:cubicBezTo>
              </a:path>
              <a:path w="2208" h="596">
                <a:moveTo>
                  <a:pt x="10195" y="10443"/>
                </a:moveTo>
                <a:cubicBezTo>
                  <a:pt x="10174" y="10547"/>
                  <a:pt x="10101" y="10650"/>
                  <a:pt x="10046" y="10740"/>
                </a:cubicBezTo>
                <a:cubicBezTo>
                  <a:pt x="9999" y="10816"/>
                  <a:pt x="9981" y="10853"/>
                  <a:pt x="9971" y="10939"/>
                </a:cubicBezTo>
                <a:cubicBezTo>
                  <a:pt x="10115" y="10983"/>
                  <a:pt x="10211" y="11009"/>
                  <a:pt x="10344" y="10914"/>
                </a:cubicBezTo>
                <a:cubicBezTo>
                  <a:pt x="10400" y="10874"/>
                  <a:pt x="10418" y="10828"/>
                  <a:pt x="10418" y="10765"/>
                </a:cubicBezTo>
                <a:cubicBezTo>
                  <a:pt x="10336" y="10734"/>
                  <a:pt x="10252" y="10725"/>
                  <a:pt x="10195" y="10815"/>
                </a:cubicBezTo>
                <a:cubicBezTo>
                  <a:pt x="10172" y="10852"/>
                  <a:pt x="10153" y="10961"/>
                  <a:pt x="10195" y="10988"/>
                </a:cubicBezTo>
                <a:cubicBezTo>
                  <a:pt x="10203" y="10988"/>
                  <a:pt x="10212" y="10988"/>
                  <a:pt x="10220" y="10988"/>
                </a:cubicBezTo>
              </a:path>
              <a:path w="2208" h="596">
                <a:moveTo>
                  <a:pt x="10939" y="10418"/>
                </a:moveTo>
                <a:cubicBezTo>
                  <a:pt x="10888" y="10412"/>
                  <a:pt x="10841" y="10401"/>
                  <a:pt x="10790" y="10393"/>
                </a:cubicBezTo>
                <a:cubicBezTo>
                  <a:pt x="10772" y="10441"/>
                  <a:pt x="10668" y="10616"/>
                  <a:pt x="10740" y="10641"/>
                </a:cubicBezTo>
                <a:cubicBezTo>
                  <a:pt x="10805" y="10641"/>
                  <a:pt x="10845" y="10605"/>
                  <a:pt x="10914" y="10616"/>
                </a:cubicBezTo>
                <a:cubicBezTo>
                  <a:pt x="11005" y="10630"/>
                  <a:pt x="11066" y="10723"/>
                  <a:pt x="11063" y="10815"/>
                </a:cubicBezTo>
                <a:cubicBezTo>
                  <a:pt x="11058" y="10956"/>
                  <a:pt x="10855" y="10956"/>
                  <a:pt x="10765" y="10939"/>
                </a:cubicBezTo>
                <a:cubicBezTo>
                  <a:pt x="10705" y="10928"/>
                  <a:pt x="10689" y="10901"/>
                  <a:pt x="10641" y="10889"/>
                </a:cubicBezTo>
              </a:path>
              <a:path w="2208" h="596">
                <a:moveTo>
                  <a:pt x="10840" y="10468"/>
                </a:moveTo>
                <a:cubicBezTo>
                  <a:pt x="10856" y="10417"/>
                  <a:pt x="10956" y="10443"/>
                  <a:pt x="11013" y="10443"/>
                </a:cubicBezTo>
                <a:cubicBezTo>
                  <a:pt x="11096" y="10443"/>
                  <a:pt x="11178" y="10443"/>
                  <a:pt x="11261" y="1044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41960" y="3652920"/>
            <a:ext cx="857160" cy="295200"/>
          </a:xfrm>
          <a:custGeom>
            <a:avLst/>
            <a:gdLst/>
            <a:ahLst/>
            <a:rect l="l" t="t" r="r" b="b"/>
            <a:pathLst>
              <a:path w="2383" h="820">
                <a:moveTo>
                  <a:pt x="14833" y="10492"/>
                </a:moveTo>
                <a:cubicBezTo>
                  <a:pt x="14751" y="10533"/>
                  <a:pt x="14595" y="10715"/>
                  <a:pt x="14560" y="10815"/>
                </a:cubicBezTo>
                <a:cubicBezTo>
                  <a:pt x="14560" y="10856"/>
                  <a:pt x="14560" y="10898"/>
                  <a:pt x="14560" y="10939"/>
                </a:cubicBezTo>
                <a:cubicBezTo>
                  <a:pt x="14708" y="10960"/>
                  <a:pt x="14895" y="10934"/>
                  <a:pt x="14932" y="10740"/>
                </a:cubicBezTo>
                <a:cubicBezTo>
                  <a:pt x="14945" y="10670"/>
                  <a:pt x="14899" y="10572"/>
                  <a:pt x="14858" y="10542"/>
                </a:cubicBezTo>
              </a:path>
              <a:path w="2383" h="820">
                <a:moveTo>
                  <a:pt x="15404" y="10418"/>
                </a:moveTo>
                <a:cubicBezTo>
                  <a:pt x="15396" y="10502"/>
                  <a:pt x="15379" y="10580"/>
                  <a:pt x="15379" y="10666"/>
                </a:cubicBezTo>
                <a:cubicBezTo>
                  <a:pt x="15484" y="10677"/>
                  <a:pt x="15536" y="10702"/>
                  <a:pt x="15627" y="10641"/>
                </a:cubicBezTo>
              </a:path>
              <a:path w="2383" h="820">
                <a:moveTo>
                  <a:pt x="15627" y="10368"/>
                </a:moveTo>
                <a:cubicBezTo>
                  <a:pt x="15593" y="10554"/>
                  <a:pt x="15554" y="10732"/>
                  <a:pt x="15503" y="10914"/>
                </a:cubicBezTo>
              </a:path>
              <a:path w="2383" h="820">
                <a:moveTo>
                  <a:pt x="16123" y="10443"/>
                </a:moveTo>
                <a:cubicBezTo>
                  <a:pt x="15997" y="10581"/>
                  <a:pt x="15950" y="10685"/>
                  <a:pt x="15900" y="10864"/>
                </a:cubicBezTo>
                <a:cubicBezTo>
                  <a:pt x="16082" y="10913"/>
                  <a:pt x="16252" y="10859"/>
                  <a:pt x="16222" y="10616"/>
                </a:cubicBezTo>
                <a:cubicBezTo>
                  <a:pt x="16176" y="10499"/>
                  <a:pt x="16166" y="10461"/>
                  <a:pt x="16073" y="10443"/>
                </a:cubicBezTo>
              </a:path>
              <a:path w="2383" h="820">
                <a:moveTo>
                  <a:pt x="15602" y="10319"/>
                </a:moveTo>
                <a:cubicBezTo>
                  <a:pt x="15752" y="10294"/>
                  <a:pt x="15895" y="10241"/>
                  <a:pt x="16049" y="10220"/>
                </a:cubicBezTo>
                <a:cubicBezTo>
                  <a:pt x="16271" y="10190"/>
                  <a:pt x="16495" y="10152"/>
                  <a:pt x="16718" y="10145"/>
                </a:cubicBezTo>
                <a:cubicBezTo>
                  <a:pt x="16771" y="10143"/>
                  <a:pt x="16775" y="10159"/>
                  <a:pt x="16818" y="10170"/>
                </a:cubicBezTo>
              </a:path>
              <a:path w="2383" h="820">
                <a:moveTo>
                  <a:pt x="15701" y="10195"/>
                </a:moveTo>
                <a:cubicBezTo>
                  <a:pt x="15885" y="10172"/>
                  <a:pt x="16060" y="10170"/>
                  <a:pt x="16247" y="10170"/>
                </a:cubicBezTo>
                <a:cubicBezTo>
                  <a:pt x="16447" y="10170"/>
                  <a:pt x="16641" y="10145"/>
                  <a:pt x="16842" y="10145"/>
                </a:cubicBezTo>
                <a:cubicBezTo>
                  <a:pt x="16875" y="10145"/>
                  <a:pt x="16909" y="10145"/>
                  <a:pt x="16942" y="1014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67360" y="3840120"/>
            <a:ext cx="1384560" cy="1589040"/>
          </a:xfrm>
          <a:custGeom>
            <a:avLst/>
            <a:gdLst/>
            <a:ahLst/>
            <a:rect l="l" t="t" r="r" b="b"/>
            <a:pathLst>
              <a:path w="3846" h="4416">
                <a:moveTo>
                  <a:pt x="19670" y="10964"/>
                </a:moveTo>
                <a:cubicBezTo>
                  <a:pt x="19543" y="11006"/>
                  <a:pt x="19428" y="11138"/>
                  <a:pt x="19372" y="11261"/>
                </a:cubicBezTo>
                <a:cubicBezTo>
                  <a:pt x="19296" y="11429"/>
                  <a:pt x="19320" y="11526"/>
                  <a:pt x="19372" y="11683"/>
                </a:cubicBezTo>
                <a:cubicBezTo>
                  <a:pt x="19605" y="11705"/>
                  <a:pt x="19791" y="11669"/>
                  <a:pt x="19943" y="11460"/>
                </a:cubicBezTo>
                <a:cubicBezTo>
                  <a:pt x="20058" y="11302"/>
                  <a:pt x="19948" y="11155"/>
                  <a:pt x="19844" y="11038"/>
                </a:cubicBezTo>
                <a:cubicBezTo>
                  <a:pt x="19786" y="10973"/>
                  <a:pt x="19741" y="10986"/>
                  <a:pt x="19670" y="11013"/>
                </a:cubicBezTo>
              </a:path>
              <a:path w="3846" h="4416">
                <a:moveTo>
                  <a:pt x="20265" y="11559"/>
                </a:moveTo>
                <a:cubicBezTo>
                  <a:pt x="20258" y="11588"/>
                  <a:pt x="20248" y="11604"/>
                  <a:pt x="20241" y="11633"/>
                </a:cubicBezTo>
                <a:cubicBezTo>
                  <a:pt x="20303" y="11634"/>
                  <a:pt x="20285" y="11544"/>
                  <a:pt x="20265" y="11584"/>
                </a:cubicBezTo>
              </a:path>
              <a:path w="3846" h="4416">
                <a:moveTo>
                  <a:pt x="20662" y="11063"/>
                </a:moveTo>
                <a:cubicBezTo>
                  <a:pt x="20657" y="11101"/>
                  <a:pt x="20605" y="11249"/>
                  <a:pt x="20638" y="11286"/>
                </a:cubicBezTo>
                <a:cubicBezTo>
                  <a:pt x="20714" y="11371"/>
                  <a:pt x="20919" y="11269"/>
                  <a:pt x="21010" y="11261"/>
                </a:cubicBezTo>
                <a:cubicBezTo>
                  <a:pt x="21018" y="11261"/>
                  <a:pt x="21026" y="11261"/>
                  <a:pt x="21034" y="11261"/>
                </a:cubicBezTo>
              </a:path>
              <a:path w="3846" h="4416">
                <a:moveTo>
                  <a:pt x="20985" y="10889"/>
                </a:moveTo>
                <a:cubicBezTo>
                  <a:pt x="20985" y="11094"/>
                  <a:pt x="20955" y="11282"/>
                  <a:pt x="20935" y="11485"/>
                </a:cubicBezTo>
                <a:cubicBezTo>
                  <a:pt x="20919" y="11644"/>
                  <a:pt x="20935" y="11520"/>
                  <a:pt x="20935" y="11485"/>
                </a:cubicBezTo>
              </a:path>
              <a:path w="3846" h="4416">
                <a:moveTo>
                  <a:pt x="21233" y="11013"/>
                </a:moveTo>
                <a:cubicBezTo>
                  <a:pt x="21397" y="10963"/>
                  <a:pt x="21532" y="11012"/>
                  <a:pt x="21555" y="11212"/>
                </a:cubicBezTo>
                <a:cubicBezTo>
                  <a:pt x="21585" y="11470"/>
                  <a:pt x="21339" y="11492"/>
                  <a:pt x="21158" y="11509"/>
                </a:cubicBezTo>
                <a:cubicBezTo>
                  <a:pt x="21185" y="11348"/>
                  <a:pt x="21225" y="11318"/>
                  <a:pt x="21382" y="11385"/>
                </a:cubicBezTo>
                <a:cubicBezTo>
                  <a:pt x="21469" y="11422"/>
                  <a:pt x="21495" y="11472"/>
                  <a:pt x="21555" y="11460"/>
                </a:cubicBezTo>
              </a:path>
              <a:path w="3846" h="4416">
                <a:moveTo>
                  <a:pt x="21754" y="10889"/>
                </a:moveTo>
                <a:cubicBezTo>
                  <a:pt x="21754" y="10804"/>
                  <a:pt x="21777" y="11003"/>
                  <a:pt x="21779" y="11088"/>
                </a:cubicBezTo>
                <a:cubicBezTo>
                  <a:pt x="21782" y="11231"/>
                  <a:pt x="21746" y="11437"/>
                  <a:pt x="21927" y="11460"/>
                </a:cubicBezTo>
                <a:cubicBezTo>
                  <a:pt x="22086" y="11480"/>
                  <a:pt x="22340" y="11417"/>
                  <a:pt x="22349" y="11212"/>
                </a:cubicBezTo>
                <a:cubicBezTo>
                  <a:pt x="22341" y="11195"/>
                  <a:pt x="22332" y="11179"/>
                  <a:pt x="22324" y="11162"/>
                </a:cubicBezTo>
                <a:cubicBezTo>
                  <a:pt x="22176" y="11137"/>
                  <a:pt x="22072" y="11167"/>
                  <a:pt x="22027" y="11336"/>
                </a:cubicBezTo>
                <a:cubicBezTo>
                  <a:pt x="22027" y="11419"/>
                  <a:pt x="22027" y="11435"/>
                  <a:pt x="22027" y="11485"/>
                </a:cubicBezTo>
              </a:path>
              <a:path w="3846" h="4416">
                <a:moveTo>
                  <a:pt x="19075" y="12626"/>
                </a:moveTo>
                <a:cubicBezTo>
                  <a:pt x="19187" y="12626"/>
                  <a:pt x="19287" y="12611"/>
                  <a:pt x="19397" y="12601"/>
                </a:cubicBezTo>
                <a:cubicBezTo>
                  <a:pt x="19546" y="12588"/>
                  <a:pt x="19696" y="12589"/>
                  <a:pt x="19844" y="12576"/>
                </a:cubicBezTo>
                <a:cubicBezTo>
                  <a:pt x="19959" y="12566"/>
                  <a:pt x="20055" y="12543"/>
                  <a:pt x="20166" y="12526"/>
                </a:cubicBezTo>
                <a:cubicBezTo>
                  <a:pt x="20283" y="12509"/>
                  <a:pt x="20397" y="12486"/>
                  <a:pt x="20513" y="12452"/>
                </a:cubicBezTo>
                <a:cubicBezTo>
                  <a:pt x="20604" y="12426"/>
                  <a:pt x="20693" y="12391"/>
                  <a:pt x="20786" y="12378"/>
                </a:cubicBezTo>
                <a:cubicBezTo>
                  <a:pt x="20889" y="12364"/>
                  <a:pt x="20982" y="12318"/>
                  <a:pt x="21084" y="12303"/>
                </a:cubicBezTo>
                <a:cubicBezTo>
                  <a:pt x="21220" y="12283"/>
                  <a:pt x="21343" y="12219"/>
                  <a:pt x="21481" y="12204"/>
                </a:cubicBezTo>
                <a:cubicBezTo>
                  <a:pt x="21628" y="12188"/>
                  <a:pt x="21781" y="12166"/>
                  <a:pt x="21927" y="12154"/>
                </a:cubicBezTo>
                <a:cubicBezTo>
                  <a:pt x="22110" y="12139"/>
                  <a:pt x="22289" y="12096"/>
                  <a:pt x="22473" y="12080"/>
                </a:cubicBezTo>
                <a:cubicBezTo>
                  <a:pt x="22565" y="12072"/>
                  <a:pt x="22655" y="12064"/>
                  <a:pt x="22746" y="12055"/>
                </a:cubicBezTo>
                <a:cubicBezTo>
                  <a:pt x="22802" y="12050"/>
                  <a:pt x="22864" y="12055"/>
                  <a:pt x="22920" y="12055"/>
                </a:cubicBezTo>
              </a:path>
              <a:path w="3846" h="4416">
                <a:moveTo>
                  <a:pt x="20811" y="10691"/>
                </a:moveTo>
                <a:cubicBezTo>
                  <a:pt x="20811" y="10724"/>
                  <a:pt x="20818" y="10708"/>
                  <a:pt x="20811" y="10740"/>
                </a:cubicBezTo>
                <a:cubicBezTo>
                  <a:pt x="20804" y="10772"/>
                  <a:pt x="20784" y="10812"/>
                  <a:pt x="20786" y="10840"/>
                </a:cubicBezTo>
                <a:cubicBezTo>
                  <a:pt x="20789" y="10883"/>
                  <a:pt x="20808" y="10900"/>
                  <a:pt x="20811" y="10939"/>
                </a:cubicBezTo>
                <a:cubicBezTo>
                  <a:pt x="20816" y="11004"/>
                  <a:pt x="20832" y="11085"/>
                  <a:pt x="20836" y="11137"/>
                </a:cubicBezTo>
                <a:cubicBezTo>
                  <a:pt x="20843" y="11220"/>
                  <a:pt x="20855" y="11306"/>
                  <a:pt x="20861" y="11385"/>
                </a:cubicBezTo>
                <a:cubicBezTo>
                  <a:pt x="20884" y="11682"/>
                  <a:pt x="20854" y="11988"/>
                  <a:pt x="20886" y="12278"/>
                </a:cubicBezTo>
                <a:cubicBezTo>
                  <a:pt x="20894" y="12350"/>
                  <a:pt x="20908" y="12405"/>
                  <a:pt x="20910" y="12477"/>
                </a:cubicBezTo>
                <a:cubicBezTo>
                  <a:pt x="20912" y="12539"/>
                  <a:pt x="20921" y="12591"/>
                  <a:pt x="20935" y="12650"/>
                </a:cubicBezTo>
                <a:cubicBezTo>
                  <a:pt x="20948" y="12708"/>
                  <a:pt x="20969" y="12767"/>
                  <a:pt x="20985" y="12824"/>
                </a:cubicBezTo>
                <a:cubicBezTo>
                  <a:pt x="21003" y="12889"/>
                  <a:pt x="20997" y="12955"/>
                  <a:pt x="21010" y="13022"/>
                </a:cubicBezTo>
                <a:cubicBezTo>
                  <a:pt x="21033" y="13144"/>
                  <a:pt x="21054" y="13271"/>
                  <a:pt x="21059" y="13395"/>
                </a:cubicBezTo>
                <a:cubicBezTo>
                  <a:pt x="21066" y="13579"/>
                  <a:pt x="21066" y="13763"/>
                  <a:pt x="21084" y="13940"/>
                </a:cubicBezTo>
                <a:cubicBezTo>
                  <a:pt x="21093" y="14029"/>
                  <a:pt x="21101" y="14129"/>
                  <a:pt x="21109" y="14213"/>
                </a:cubicBezTo>
                <a:cubicBezTo>
                  <a:pt x="21123" y="14362"/>
                  <a:pt x="21120" y="14514"/>
                  <a:pt x="21134" y="14660"/>
                </a:cubicBezTo>
                <a:cubicBezTo>
                  <a:pt x="21145" y="14771"/>
                  <a:pt x="21148" y="14908"/>
                  <a:pt x="21158" y="15007"/>
                </a:cubicBezTo>
                <a:cubicBezTo>
                  <a:pt x="21160" y="15031"/>
                  <a:pt x="21156" y="15057"/>
                  <a:pt x="21158" y="1508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00240" y="3633840"/>
            <a:ext cx="4795920" cy="3179880"/>
          </a:xfrm>
          <a:custGeom>
            <a:avLst/>
            <a:gdLst/>
            <a:ahLst/>
            <a:rect l="l" t="t" r="r" b="b"/>
            <a:pathLst>
              <a:path w="13321" h="8831">
                <a:moveTo>
                  <a:pt x="19695" y="10443"/>
                </a:moveTo>
                <a:cubicBezTo>
                  <a:pt x="19680" y="10501"/>
                  <a:pt x="19672" y="10531"/>
                  <a:pt x="19670" y="10592"/>
                </a:cubicBezTo>
                <a:cubicBezTo>
                  <a:pt x="19668" y="10658"/>
                  <a:pt x="19688" y="10679"/>
                  <a:pt x="19695" y="10740"/>
                </a:cubicBezTo>
                <a:cubicBezTo>
                  <a:pt x="19701" y="10795"/>
                  <a:pt x="19704" y="10836"/>
                  <a:pt x="19720" y="10889"/>
                </a:cubicBezTo>
                <a:cubicBezTo>
                  <a:pt x="19738" y="10949"/>
                  <a:pt x="19743" y="10973"/>
                  <a:pt x="19745" y="11038"/>
                </a:cubicBezTo>
                <a:cubicBezTo>
                  <a:pt x="19748" y="11107"/>
                  <a:pt x="19739" y="11148"/>
                  <a:pt x="19720" y="11212"/>
                </a:cubicBezTo>
                <a:cubicBezTo>
                  <a:pt x="19710" y="11245"/>
                  <a:pt x="19700" y="11279"/>
                  <a:pt x="19695" y="11311"/>
                </a:cubicBezTo>
                <a:cubicBezTo>
                  <a:pt x="19686" y="11373"/>
                  <a:pt x="19661" y="11449"/>
                  <a:pt x="19670" y="11509"/>
                </a:cubicBezTo>
                <a:cubicBezTo>
                  <a:pt x="19679" y="11566"/>
                  <a:pt x="19693" y="11597"/>
                  <a:pt x="19695" y="11658"/>
                </a:cubicBezTo>
                <a:cubicBezTo>
                  <a:pt x="19701" y="11826"/>
                  <a:pt x="19715" y="11988"/>
                  <a:pt x="19720" y="12154"/>
                </a:cubicBezTo>
                <a:cubicBezTo>
                  <a:pt x="19727" y="12389"/>
                  <a:pt x="19685" y="12645"/>
                  <a:pt x="19745" y="12874"/>
                </a:cubicBezTo>
                <a:cubicBezTo>
                  <a:pt x="19758" y="12925"/>
                  <a:pt x="19768" y="12967"/>
                  <a:pt x="19769" y="13022"/>
                </a:cubicBezTo>
                <a:cubicBezTo>
                  <a:pt x="19774" y="13231"/>
                  <a:pt x="19772" y="13441"/>
                  <a:pt x="19794" y="13643"/>
                </a:cubicBezTo>
                <a:cubicBezTo>
                  <a:pt x="19801" y="13709"/>
                  <a:pt x="19812" y="13779"/>
                  <a:pt x="19819" y="13841"/>
                </a:cubicBezTo>
                <a:cubicBezTo>
                  <a:pt x="19827" y="13910"/>
                  <a:pt x="19871" y="13999"/>
                  <a:pt x="19869" y="14064"/>
                </a:cubicBezTo>
                <a:cubicBezTo>
                  <a:pt x="19867" y="14127"/>
                  <a:pt x="19846" y="14168"/>
                  <a:pt x="19844" y="14238"/>
                </a:cubicBezTo>
                <a:cubicBezTo>
                  <a:pt x="19841" y="14333"/>
                  <a:pt x="19827" y="14420"/>
                  <a:pt x="19819" y="14511"/>
                </a:cubicBezTo>
                <a:cubicBezTo>
                  <a:pt x="19809" y="14615"/>
                  <a:pt x="19837" y="14771"/>
                  <a:pt x="19844" y="14833"/>
                </a:cubicBezTo>
                <a:cubicBezTo>
                  <a:pt x="19851" y="14891"/>
                  <a:pt x="19855" y="14925"/>
                  <a:pt x="19869" y="14982"/>
                </a:cubicBezTo>
              </a:path>
              <a:path w="13321" h="8831">
                <a:moveTo>
                  <a:pt x="15429" y="10096"/>
                </a:moveTo>
                <a:cubicBezTo>
                  <a:pt x="15479" y="10131"/>
                  <a:pt x="15438" y="10156"/>
                  <a:pt x="15577" y="10170"/>
                </a:cubicBezTo>
                <a:cubicBezTo>
                  <a:pt x="15793" y="10192"/>
                  <a:pt x="16009" y="10158"/>
                  <a:pt x="16222" y="10145"/>
                </a:cubicBezTo>
                <a:cubicBezTo>
                  <a:pt x="16371" y="10136"/>
                  <a:pt x="16521" y="10124"/>
                  <a:pt x="16669" y="10120"/>
                </a:cubicBezTo>
                <a:cubicBezTo>
                  <a:pt x="16755" y="10118"/>
                  <a:pt x="16814" y="10132"/>
                  <a:pt x="16892" y="10145"/>
                </a:cubicBezTo>
                <a:cubicBezTo>
                  <a:pt x="17016" y="10166"/>
                  <a:pt x="17136" y="10192"/>
                  <a:pt x="17264" y="10195"/>
                </a:cubicBezTo>
                <a:cubicBezTo>
                  <a:pt x="17440" y="10199"/>
                  <a:pt x="17610" y="10209"/>
                  <a:pt x="17785" y="10220"/>
                </a:cubicBezTo>
                <a:cubicBezTo>
                  <a:pt x="17927" y="10229"/>
                  <a:pt x="18067" y="10233"/>
                  <a:pt x="18207" y="10244"/>
                </a:cubicBezTo>
                <a:cubicBezTo>
                  <a:pt x="18803" y="10292"/>
                  <a:pt x="19419" y="10246"/>
                  <a:pt x="20017" y="10269"/>
                </a:cubicBezTo>
                <a:cubicBezTo>
                  <a:pt x="20324" y="10281"/>
                  <a:pt x="20627" y="10294"/>
                  <a:pt x="20935" y="10294"/>
                </a:cubicBezTo>
                <a:cubicBezTo>
                  <a:pt x="21152" y="10294"/>
                  <a:pt x="21363" y="10319"/>
                  <a:pt x="21580" y="10319"/>
                </a:cubicBezTo>
                <a:cubicBezTo>
                  <a:pt x="21626" y="10319"/>
                  <a:pt x="21562" y="10336"/>
                  <a:pt x="21605" y="10319"/>
                </a:cubicBezTo>
              </a:path>
              <a:path w="13321" h="8831">
                <a:moveTo>
                  <a:pt x="18405" y="18380"/>
                </a:moveTo>
                <a:cubicBezTo>
                  <a:pt x="18372" y="18267"/>
                  <a:pt x="18338" y="18151"/>
                  <a:pt x="18306" y="18033"/>
                </a:cubicBezTo>
                <a:cubicBezTo>
                  <a:pt x="18264" y="17876"/>
                  <a:pt x="18223" y="17714"/>
                  <a:pt x="18182" y="17562"/>
                </a:cubicBezTo>
                <a:cubicBezTo>
                  <a:pt x="18165" y="17499"/>
                  <a:pt x="18158" y="17364"/>
                  <a:pt x="18132" y="17314"/>
                </a:cubicBezTo>
                <a:cubicBezTo>
                  <a:pt x="18102" y="17257"/>
                  <a:pt x="18105" y="17254"/>
                  <a:pt x="18058" y="17214"/>
                </a:cubicBezTo>
                <a:cubicBezTo>
                  <a:pt x="17955" y="17127"/>
                  <a:pt x="17690" y="17073"/>
                  <a:pt x="17562" y="17066"/>
                </a:cubicBezTo>
                <a:cubicBezTo>
                  <a:pt x="17435" y="17059"/>
                  <a:pt x="17382" y="17103"/>
                  <a:pt x="17264" y="17140"/>
                </a:cubicBezTo>
                <a:cubicBezTo>
                  <a:pt x="17155" y="17174"/>
                  <a:pt x="17075" y="17196"/>
                  <a:pt x="16966" y="17214"/>
                </a:cubicBezTo>
                <a:cubicBezTo>
                  <a:pt x="16850" y="17233"/>
                  <a:pt x="16737" y="17234"/>
                  <a:pt x="16619" y="17239"/>
                </a:cubicBezTo>
                <a:cubicBezTo>
                  <a:pt x="16433" y="17247"/>
                  <a:pt x="16255" y="17221"/>
                  <a:pt x="16073" y="17214"/>
                </a:cubicBezTo>
                <a:cubicBezTo>
                  <a:pt x="15944" y="17209"/>
                  <a:pt x="15827" y="17230"/>
                  <a:pt x="15701" y="17239"/>
                </a:cubicBezTo>
                <a:cubicBezTo>
                  <a:pt x="15583" y="17247"/>
                  <a:pt x="15473" y="17258"/>
                  <a:pt x="15354" y="17264"/>
                </a:cubicBezTo>
                <a:cubicBezTo>
                  <a:pt x="15091" y="17277"/>
                  <a:pt x="14817" y="17287"/>
                  <a:pt x="14560" y="17264"/>
                </a:cubicBezTo>
                <a:cubicBezTo>
                  <a:pt x="14412" y="17251"/>
                  <a:pt x="14263" y="17222"/>
                  <a:pt x="14114" y="17214"/>
                </a:cubicBezTo>
                <a:cubicBezTo>
                  <a:pt x="13914" y="17204"/>
                  <a:pt x="13716" y="17220"/>
                  <a:pt x="13519" y="17239"/>
                </a:cubicBezTo>
                <a:cubicBezTo>
                  <a:pt x="13394" y="17251"/>
                  <a:pt x="13271" y="17253"/>
                  <a:pt x="13146" y="17264"/>
                </a:cubicBezTo>
                <a:cubicBezTo>
                  <a:pt x="13012" y="17276"/>
                  <a:pt x="12887" y="17287"/>
                  <a:pt x="12750" y="17289"/>
                </a:cubicBezTo>
                <a:cubicBezTo>
                  <a:pt x="12385" y="17293"/>
                  <a:pt x="12019" y="17279"/>
                  <a:pt x="11658" y="17314"/>
                </a:cubicBezTo>
                <a:cubicBezTo>
                  <a:pt x="11541" y="17325"/>
                  <a:pt x="11429" y="17333"/>
                  <a:pt x="11311" y="17338"/>
                </a:cubicBezTo>
                <a:cubicBezTo>
                  <a:pt x="11136" y="17346"/>
                  <a:pt x="10965" y="17357"/>
                  <a:pt x="10790" y="17363"/>
                </a:cubicBezTo>
                <a:cubicBezTo>
                  <a:pt x="10557" y="17371"/>
                  <a:pt x="10324" y="17345"/>
                  <a:pt x="10096" y="17338"/>
                </a:cubicBezTo>
                <a:cubicBezTo>
                  <a:pt x="9989" y="17335"/>
                  <a:pt x="9873" y="17319"/>
                  <a:pt x="9773" y="17314"/>
                </a:cubicBezTo>
                <a:cubicBezTo>
                  <a:pt x="9589" y="17304"/>
                  <a:pt x="9403" y="17309"/>
                  <a:pt x="9227" y="17289"/>
                </a:cubicBezTo>
                <a:cubicBezTo>
                  <a:pt x="9158" y="17281"/>
                  <a:pt x="9096" y="17268"/>
                  <a:pt x="9029" y="17264"/>
                </a:cubicBezTo>
                <a:cubicBezTo>
                  <a:pt x="8828" y="17253"/>
                  <a:pt x="8635" y="17248"/>
                  <a:pt x="8458" y="17338"/>
                </a:cubicBezTo>
                <a:cubicBezTo>
                  <a:pt x="8415" y="17360"/>
                  <a:pt x="8379" y="17383"/>
                  <a:pt x="8359" y="17413"/>
                </a:cubicBezTo>
                <a:cubicBezTo>
                  <a:pt x="8332" y="17453"/>
                  <a:pt x="8347" y="17446"/>
                  <a:pt x="8334" y="17512"/>
                </a:cubicBezTo>
                <a:cubicBezTo>
                  <a:pt x="8318" y="17596"/>
                  <a:pt x="8369" y="17703"/>
                  <a:pt x="8384" y="17785"/>
                </a:cubicBezTo>
                <a:cubicBezTo>
                  <a:pt x="8406" y="17902"/>
                  <a:pt x="8426" y="18012"/>
                  <a:pt x="8434" y="18132"/>
                </a:cubicBezTo>
                <a:cubicBezTo>
                  <a:pt x="8447" y="18324"/>
                  <a:pt x="8438" y="18513"/>
                  <a:pt x="8458" y="18703"/>
                </a:cubicBezTo>
                <a:cubicBezTo>
                  <a:pt x="8466" y="18775"/>
                  <a:pt x="8475" y="18852"/>
                  <a:pt x="8483" y="18926"/>
                </a:cubicBezTo>
                <a:cubicBezTo>
                  <a:pt x="8553" y="18906"/>
                  <a:pt x="8635" y="18905"/>
                  <a:pt x="8706" y="18876"/>
                </a:cubicBezTo>
                <a:cubicBezTo>
                  <a:pt x="8838" y="18821"/>
                  <a:pt x="8948" y="18766"/>
                  <a:pt x="9079" y="18728"/>
                </a:cubicBezTo>
                <a:cubicBezTo>
                  <a:pt x="9172" y="18701"/>
                  <a:pt x="9277" y="18668"/>
                  <a:pt x="9376" y="18653"/>
                </a:cubicBezTo>
                <a:cubicBezTo>
                  <a:pt x="9484" y="18636"/>
                  <a:pt x="9590" y="18634"/>
                  <a:pt x="9699" y="18628"/>
                </a:cubicBezTo>
                <a:cubicBezTo>
                  <a:pt x="10156" y="18602"/>
                  <a:pt x="10591" y="18680"/>
                  <a:pt x="11038" y="18703"/>
                </a:cubicBezTo>
                <a:cubicBezTo>
                  <a:pt x="11170" y="18710"/>
                  <a:pt x="11306" y="18731"/>
                  <a:pt x="11435" y="18728"/>
                </a:cubicBezTo>
                <a:cubicBezTo>
                  <a:pt x="11577" y="18725"/>
                  <a:pt x="11733" y="18705"/>
                  <a:pt x="11881" y="18703"/>
                </a:cubicBezTo>
                <a:cubicBezTo>
                  <a:pt x="12099" y="18700"/>
                  <a:pt x="12308" y="18681"/>
                  <a:pt x="12526" y="18678"/>
                </a:cubicBezTo>
                <a:cubicBezTo>
                  <a:pt x="12818" y="18674"/>
                  <a:pt x="13105" y="18657"/>
                  <a:pt x="13395" y="18653"/>
                </a:cubicBezTo>
                <a:cubicBezTo>
                  <a:pt x="13574" y="18651"/>
                  <a:pt x="13740" y="18671"/>
                  <a:pt x="13915" y="18678"/>
                </a:cubicBezTo>
                <a:cubicBezTo>
                  <a:pt x="14295" y="18694"/>
                  <a:pt x="14681" y="18688"/>
                  <a:pt x="15056" y="18703"/>
                </a:cubicBezTo>
                <a:cubicBezTo>
                  <a:pt x="15207" y="18709"/>
                  <a:pt x="15355" y="18722"/>
                  <a:pt x="15503" y="18728"/>
                </a:cubicBezTo>
                <a:cubicBezTo>
                  <a:pt x="15693" y="18735"/>
                  <a:pt x="15884" y="18757"/>
                  <a:pt x="16073" y="18752"/>
                </a:cubicBezTo>
                <a:cubicBezTo>
                  <a:pt x="16191" y="18749"/>
                  <a:pt x="16328" y="18718"/>
                  <a:pt x="16446" y="18703"/>
                </a:cubicBezTo>
                <a:cubicBezTo>
                  <a:pt x="16533" y="18692"/>
                  <a:pt x="16583" y="18687"/>
                  <a:pt x="16669" y="18678"/>
                </a:cubicBezTo>
                <a:cubicBezTo>
                  <a:pt x="16778" y="18667"/>
                  <a:pt x="16883" y="18665"/>
                  <a:pt x="16991" y="18653"/>
                </a:cubicBezTo>
                <a:cubicBezTo>
                  <a:pt x="17141" y="18636"/>
                  <a:pt x="17289" y="18619"/>
                  <a:pt x="17438" y="18604"/>
                </a:cubicBezTo>
                <a:cubicBezTo>
                  <a:pt x="17567" y="18591"/>
                  <a:pt x="17683" y="18568"/>
                  <a:pt x="17810" y="18554"/>
                </a:cubicBezTo>
                <a:cubicBezTo>
                  <a:pt x="17974" y="18536"/>
                  <a:pt x="18137" y="18529"/>
                  <a:pt x="18306" y="18529"/>
                </a:cubicBezTo>
                <a:cubicBezTo>
                  <a:pt x="18361" y="18529"/>
                  <a:pt x="18417" y="18529"/>
                  <a:pt x="18455" y="18529"/>
                </a:cubicBezTo>
                <a:cubicBezTo>
                  <a:pt x="18448" y="18486"/>
                  <a:pt x="18440" y="18448"/>
                  <a:pt x="18430" y="18405"/>
                </a:cubicBezTo>
                <a:cubicBezTo>
                  <a:pt x="18423" y="18373"/>
                  <a:pt x="18411" y="18363"/>
                  <a:pt x="18405" y="18331"/>
                </a:cubicBezTo>
                <a:cubicBezTo>
                  <a:pt x="18405" y="18306"/>
                  <a:pt x="18405" y="18298"/>
                  <a:pt x="18405" y="1828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29120" y="6107040"/>
            <a:ext cx="27000" cy="100080"/>
          </a:xfrm>
          <a:custGeom>
            <a:avLst/>
            <a:gdLst/>
            <a:ahLst/>
            <a:rect l="l" t="t" r="r" b="b"/>
            <a:pathLst>
              <a:path w="76" h="274">
                <a:moveTo>
                  <a:pt x="13767" y="16966"/>
                </a:moveTo>
                <a:cubicBezTo>
                  <a:pt x="13760" y="17098"/>
                  <a:pt x="13765" y="17136"/>
                  <a:pt x="13692" y="1723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03680" y="5786280"/>
            <a:ext cx="2027160" cy="473400"/>
          </a:xfrm>
          <a:custGeom>
            <a:avLst/>
            <a:gdLst/>
            <a:ahLst/>
            <a:rect l="l" t="t" r="r" b="b"/>
            <a:pathLst>
              <a:path w="5631" h="1316">
                <a:moveTo>
                  <a:pt x="8186" y="16073"/>
                </a:moveTo>
                <a:cubicBezTo>
                  <a:pt x="8083" y="16176"/>
                  <a:pt x="7988" y="16236"/>
                  <a:pt x="7913" y="16371"/>
                </a:cubicBezTo>
                <a:cubicBezTo>
                  <a:pt x="7853" y="16479"/>
                  <a:pt x="7674" y="16842"/>
                  <a:pt x="7888" y="16917"/>
                </a:cubicBezTo>
                <a:cubicBezTo>
                  <a:pt x="8120" y="16998"/>
                  <a:pt x="8442" y="16809"/>
                  <a:pt x="8558" y="16619"/>
                </a:cubicBezTo>
                <a:cubicBezTo>
                  <a:pt x="8654" y="16462"/>
                  <a:pt x="8596" y="16259"/>
                  <a:pt x="8434" y="16173"/>
                </a:cubicBezTo>
                <a:cubicBezTo>
                  <a:pt x="8336" y="16121"/>
                  <a:pt x="8293" y="16140"/>
                  <a:pt x="8235" y="16197"/>
                </a:cubicBezTo>
              </a:path>
              <a:path w="5631" h="1316">
                <a:moveTo>
                  <a:pt x="8830" y="16793"/>
                </a:moveTo>
                <a:cubicBezTo>
                  <a:pt x="8822" y="16793"/>
                  <a:pt x="8814" y="16793"/>
                  <a:pt x="8806" y="16793"/>
                </a:cubicBezTo>
                <a:cubicBezTo>
                  <a:pt x="8822" y="16874"/>
                  <a:pt x="9005" y="16777"/>
                  <a:pt x="8930" y="16743"/>
                </a:cubicBezTo>
                <a:cubicBezTo>
                  <a:pt x="8864" y="16743"/>
                  <a:pt x="8847" y="16743"/>
                  <a:pt x="8806" y="16743"/>
                </a:cubicBezTo>
              </a:path>
              <a:path w="5631" h="1316">
                <a:moveTo>
                  <a:pt x="9128" y="16396"/>
                </a:moveTo>
                <a:cubicBezTo>
                  <a:pt x="9128" y="16483"/>
                  <a:pt x="9104" y="16587"/>
                  <a:pt x="9079" y="16669"/>
                </a:cubicBezTo>
                <a:cubicBezTo>
                  <a:pt x="9029" y="16831"/>
                  <a:pt x="9217" y="16767"/>
                  <a:pt x="9327" y="16743"/>
                </a:cubicBezTo>
                <a:cubicBezTo>
                  <a:pt x="9352" y="16735"/>
                  <a:pt x="9376" y="16726"/>
                  <a:pt x="9401" y="16718"/>
                </a:cubicBezTo>
              </a:path>
              <a:path w="5631" h="1316">
                <a:moveTo>
                  <a:pt x="9401" y="16396"/>
                </a:moveTo>
                <a:cubicBezTo>
                  <a:pt x="9401" y="16564"/>
                  <a:pt x="9388" y="16727"/>
                  <a:pt x="9351" y="16892"/>
                </a:cubicBezTo>
                <a:cubicBezTo>
                  <a:pt x="9343" y="16917"/>
                  <a:pt x="9335" y="16941"/>
                  <a:pt x="9327" y="16966"/>
                </a:cubicBezTo>
              </a:path>
              <a:path w="5631" h="1316">
                <a:moveTo>
                  <a:pt x="9649" y="16421"/>
                </a:moveTo>
                <a:cubicBezTo>
                  <a:pt x="9565" y="16533"/>
                  <a:pt x="9372" y="16775"/>
                  <a:pt x="9525" y="16917"/>
                </a:cubicBezTo>
                <a:cubicBezTo>
                  <a:pt x="9692" y="17072"/>
                  <a:pt x="9948" y="16864"/>
                  <a:pt x="9897" y="16669"/>
                </a:cubicBezTo>
                <a:cubicBezTo>
                  <a:pt x="9868" y="16559"/>
                  <a:pt x="9752" y="16544"/>
                  <a:pt x="9674" y="16495"/>
                </a:cubicBezTo>
              </a:path>
              <a:path w="5631" h="1316">
                <a:moveTo>
                  <a:pt x="10269" y="16470"/>
                </a:moveTo>
                <a:cubicBezTo>
                  <a:pt x="10034" y="16564"/>
                  <a:pt x="9972" y="16640"/>
                  <a:pt x="9971" y="16892"/>
                </a:cubicBezTo>
                <a:cubicBezTo>
                  <a:pt x="10156" y="16934"/>
                  <a:pt x="10482" y="16955"/>
                  <a:pt x="10443" y="16644"/>
                </a:cubicBezTo>
                <a:cubicBezTo>
                  <a:pt x="10415" y="16423"/>
                  <a:pt x="10217" y="16516"/>
                  <a:pt x="10096" y="16545"/>
                </a:cubicBezTo>
              </a:path>
              <a:path w="5631" h="1316">
                <a:moveTo>
                  <a:pt x="8905" y="16793"/>
                </a:moveTo>
                <a:cubicBezTo>
                  <a:pt x="8905" y="16837"/>
                  <a:pt x="8920" y="16853"/>
                  <a:pt x="8930" y="16892"/>
                </a:cubicBezTo>
                <a:cubicBezTo>
                  <a:pt x="8930" y="16851"/>
                  <a:pt x="8918" y="16754"/>
                  <a:pt x="8905" y="16793"/>
                </a:cubicBezTo>
                <a:cubicBezTo>
                  <a:pt x="8905" y="16809"/>
                  <a:pt x="8905" y="16826"/>
                  <a:pt x="8905" y="16842"/>
                </a:cubicBezTo>
              </a:path>
              <a:path w="5631" h="1316">
                <a:moveTo>
                  <a:pt x="10740" y="17016"/>
                </a:moveTo>
                <a:cubicBezTo>
                  <a:pt x="10811" y="17143"/>
                  <a:pt x="10874" y="17240"/>
                  <a:pt x="10740" y="17363"/>
                </a:cubicBezTo>
                <a:cubicBezTo>
                  <a:pt x="10715" y="17371"/>
                  <a:pt x="10691" y="17380"/>
                  <a:pt x="10666" y="17388"/>
                </a:cubicBezTo>
              </a:path>
              <a:path w="5631" h="1316">
                <a:moveTo>
                  <a:pt x="11385" y="16545"/>
                </a:moveTo>
                <a:cubicBezTo>
                  <a:pt x="11385" y="16480"/>
                  <a:pt x="11315" y="16461"/>
                  <a:pt x="11261" y="16520"/>
                </a:cubicBezTo>
                <a:cubicBezTo>
                  <a:pt x="11129" y="16663"/>
                  <a:pt x="11089" y="16863"/>
                  <a:pt x="11112" y="17041"/>
                </a:cubicBezTo>
                <a:cubicBezTo>
                  <a:pt x="11271" y="16965"/>
                  <a:pt x="11541" y="16858"/>
                  <a:pt x="11460" y="16619"/>
                </a:cubicBezTo>
                <a:cubicBezTo>
                  <a:pt x="11450" y="16588"/>
                  <a:pt x="11334" y="16451"/>
                  <a:pt x="11311" y="16520"/>
                </a:cubicBezTo>
              </a:path>
              <a:path w="5631" h="1316">
                <a:moveTo>
                  <a:pt x="11807" y="16842"/>
                </a:moveTo>
                <a:cubicBezTo>
                  <a:pt x="11807" y="16867"/>
                  <a:pt x="11807" y="16892"/>
                  <a:pt x="11807" y="16917"/>
                </a:cubicBezTo>
              </a:path>
              <a:path w="5631" h="1316">
                <a:moveTo>
                  <a:pt x="12005" y="16495"/>
                </a:moveTo>
                <a:cubicBezTo>
                  <a:pt x="11999" y="16596"/>
                  <a:pt x="11990" y="16673"/>
                  <a:pt x="11956" y="16768"/>
                </a:cubicBezTo>
                <a:cubicBezTo>
                  <a:pt x="12045" y="16786"/>
                  <a:pt x="12195" y="16785"/>
                  <a:pt x="12278" y="16718"/>
                </a:cubicBezTo>
                <a:cubicBezTo>
                  <a:pt x="12278" y="16710"/>
                  <a:pt x="12278" y="16702"/>
                  <a:pt x="12278" y="16694"/>
                </a:cubicBezTo>
              </a:path>
              <a:path w="5631" h="1316">
                <a:moveTo>
                  <a:pt x="12254" y="16421"/>
                </a:moveTo>
                <a:cubicBezTo>
                  <a:pt x="12254" y="16609"/>
                  <a:pt x="12265" y="16809"/>
                  <a:pt x="12204" y="16991"/>
                </a:cubicBezTo>
                <a:cubicBezTo>
                  <a:pt x="12174" y="17021"/>
                  <a:pt x="12172" y="17026"/>
                  <a:pt x="12229" y="16991"/>
                </a:cubicBezTo>
              </a:path>
              <a:path w="5631" h="1316">
                <a:moveTo>
                  <a:pt x="12526" y="16495"/>
                </a:moveTo>
                <a:cubicBezTo>
                  <a:pt x="12689" y="16546"/>
                  <a:pt x="12874" y="16621"/>
                  <a:pt x="12774" y="16842"/>
                </a:cubicBezTo>
                <a:cubicBezTo>
                  <a:pt x="12695" y="17016"/>
                  <a:pt x="12527" y="16974"/>
                  <a:pt x="12452" y="16867"/>
                </a:cubicBezTo>
                <a:cubicBezTo>
                  <a:pt x="12564" y="16756"/>
                  <a:pt x="12643" y="16744"/>
                  <a:pt x="12774" y="16842"/>
                </a:cubicBezTo>
                <a:cubicBezTo>
                  <a:pt x="12802" y="16870"/>
                  <a:pt x="12816" y="16879"/>
                  <a:pt x="12849" y="16867"/>
                </a:cubicBezTo>
              </a:path>
              <a:path w="5631" h="1316">
                <a:moveTo>
                  <a:pt x="13047" y="16371"/>
                </a:moveTo>
                <a:cubicBezTo>
                  <a:pt x="13033" y="16506"/>
                  <a:pt x="13001" y="16631"/>
                  <a:pt x="12998" y="16768"/>
                </a:cubicBezTo>
                <a:cubicBezTo>
                  <a:pt x="12998" y="16874"/>
                  <a:pt x="12985" y="16902"/>
                  <a:pt x="13047" y="16942"/>
                </a:cubicBezTo>
                <a:cubicBezTo>
                  <a:pt x="13211" y="16953"/>
                  <a:pt x="13325" y="16898"/>
                  <a:pt x="13419" y="16743"/>
                </a:cubicBezTo>
                <a:cubicBezTo>
                  <a:pt x="13419" y="16708"/>
                  <a:pt x="13410" y="16695"/>
                  <a:pt x="13370" y="16694"/>
                </a:cubicBezTo>
                <a:cubicBezTo>
                  <a:pt x="13257" y="16679"/>
                  <a:pt x="13220" y="16771"/>
                  <a:pt x="13196" y="16892"/>
                </a:cubicBezTo>
                <a:cubicBezTo>
                  <a:pt x="13196" y="16950"/>
                  <a:pt x="13204" y="16967"/>
                  <a:pt x="13271" y="1694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84960" y="5697360"/>
            <a:ext cx="1330200" cy="490680"/>
          </a:xfrm>
          <a:custGeom>
            <a:avLst/>
            <a:gdLst/>
            <a:ahLst/>
            <a:rect l="l" t="t" r="r" b="b"/>
            <a:pathLst>
              <a:path w="3697" h="1366">
                <a:moveTo>
                  <a:pt x="18802" y="16222"/>
                </a:moveTo>
                <a:cubicBezTo>
                  <a:pt x="18802" y="16188"/>
                  <a:pt x="18795" y="16147"/>
                  <a:pt x="18777" y="16123"/>
                </a:cubicBezTo>
                <a:cubicBezTo>
                  <a:pt x="18736" y="16081"/>
                  <a:pt x="18728" y="16073"/>
                  <a:pt x="18703" y="16049"/>
                </a:cubicBezTo>
                <a:cubicBezTo>
                  <a:pt x="18524" y="16065"/>
                  <a:pt x="18462" y="16186"/>
                  <a:pt x="18380" y="16346"/>
                </a:cubicBezTo>
                <a:cubicBezTo>
                  <a:pt x="18262" y="16574"/>
                  <a:pt x="18245" y="16774"/>
                  <a:pt x="18579" y="16718"/>
                </a:cubicBezTo>
                <a:cubicBezTo>
                  <a:pt x="18823" y="16677"/>
                  <a:pt x="19058" y="16490"/>
                  <a:pt x="18976" y="16222"/>
                </a:cubicBezTo>
                <a:cubicBezTo>
                  <a:pt x="18928" y="16066"/>
                  <a:pt x="18838" y="16049"/>
                  <a:pt x="18703" y="16049"/>
                </a:cubicBezTo>
              </a:path>
              <a:path w="3697" h="1366">
                <a:moveTo>
                  <a:pt x="19323" y="16520"/>
                </a:moveTo>
                <a:cubicBezTo>
                  <a:pt x="19323" y="16597"/>
                  <a:pt x="19323" y="16550"/>
                  <a:pt x="19323" y="16495"/>
                </a:cubicBezTo>
              </a:path>
              <a:path w="3697" h="1366">
                <a:moveTo>
                  <a:pt x="19769" y="15999"/>
                </a:moveTo>
                <a:cubicBezTo>
                  <a:pt x="19736" y="16137"/>
                  <a:pt x="19654" y="16376"/>
                  <a:pt x="19670" y="16520"/>
                </a:cubicBezTo>
                <a:cubicBezTo>
                  <a:pt x="19687" y="16553"/>
                  <a:pt x="19703" y="16586"/>
                  <a:pt x="19720" y="16619"/>
                </a:cubicBezTo>
                <a:cubicBezTo>
                  <a:pt x="19930" y="16678"/>
                  <a:pt x="20085" y="16656"/>
                  <a:pt x="20216" y="16446"/>
                </a:cubicBezTo>
                <a:cubicBezTo>
                  <a:pt x="20277" y="16349"/>
                  <a:pt x="20251" y="16336"/>
                  <a:pt x="20191" y="16297"/>
                </a:cubicBezTo>
                <a:cubicBezTo>
                  <a:pt x="20046" y="16374"/>
                  <a:pt x="19993" y="16432"/>
                  <a:pt x="19968" y="16594"/>
                </a:cubicBezTo>
              </a:path>
              <a:path w="3697" h="1366">
                <a:moveTo>
                  <a:pt x="20638" y="15825"/>
                </a:moveTo>
                <a:cubicBezTo>
                  <a:pt x="20617" y="15836"/>
                  <a:pt x="20468" y="15891"/>
                  <a:pt x="20464" y="15900"/>
                </a:cubicBezTo>
                <a:cubicBezTo>
                  <a:pt x="20433" y="15964"/>
                  <a:pt x="20367" y="16101"/>
                  <a:pt x="20389" y="16148"/>
                </a:cubicBezTo>
                <a:cubicBezTo>
                  <a:pt x="20465" y="16048"/>
                  <a:pt x="20563" y="15997"/>
                  <a:pt x="20687" y="16098"/>
                </a:cubicBezTo>
                <a:cubicBezTo>
                  <a:pt x="20821" y="16207"/>
                  <a:pt x="20920" y="16418"/>
                  <a:pt x="20712" y="16495"/>
                </a:cubicBezTo>
                <a:cubicBezTo>
                  <a:pt x="20509" y="16571"/>
                  <a:pt x="20479" y="16485"/>
                  <a:pt x="20389" y="16346"/>
                </a:cubicBezTo>
              </a:path>
              <a:path w="3697" h="1366">
                <a:moveTo>
                  <a:pt x="21208" y="15850"/>
                </a:moveTo>
                <a:cubicBezTo>
                  <a:pt x="21087" y="15984"/>
                  <a:pt x="20944" y="16148"/>
                  <a:pt x="20960" y="16346"/>
                </a:cubicBezTo>
                <a:cubicBezTo>
                  <a:pt x="20978" y="16569"/>
                  <a:pt x="21216" y="16547"/>
                  <a:pt x="21332" y="16421"/>
                </a:cubicBezTo>
                <a:cubicBezTo>
                  <a:pt x="21503" y="16236"/>
                  <a:pt x="21473" y="16032"/>
                  <a:pt x="21258" y="15925"/>
                </a:cubicBezTo>
                <a:cubicBezTo>
                  <a:pt x="21233" y="15917"/>
                  <a:pt x="21208" y="15908"/>
                  <a:pt x="21183" y="15900"/>
                </a:cubicBezTo>
              </a:path>
              <a:path w="3697" h="1366">
                <a:moveTo>
                  <a:pt x="18008" y="16694"/>
                </a:moveTo>
                <a:cubicBezTo>
                  <a:pt x="18030" y="16846"/>
                  <a:pt x="18051" y="16999"/>
                  <a:pt x="17909" y="17115"/>
                </a:cubicBezTo>
                <a:cubicBezTo>
                  <a:pt x="17851" y="17140"/>
                  <a:pt x="17793" y="17165"/>
                  <a:pt x="17735" y="1719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60840" y="6500880"/>
            <a:ext cx="1581120" cy="108000"/>
          </a:xfrm>
          <a:custGeom>
            <a:avLst/>
            <a:gdLst/>
            <a:ahLst/>
            <a:rect l="l" t="t" r="r" b="b"/>
            <a:pathLst>
              <a:path w="4391" h="298">
                <a:moveTo>
                  <a:pt x="10344" y="18058"/>
                </a:moveTo>
                <a:cubicBezTo>
                  <a:pt x="10372" y="18213"/>
                  <a:pt x="10397" y="18297"/>
                  <a:pt x="10220" y="18355"/>
                </a:cubicBezTo>
                <a:cubicBezTo>
                  <a:pt x="10203" y="18355"/>
                  <a:pt x="10187" y="18355"/>
                  <a:pt x="10170" y="18355"/>
                </a:cubicBezTo>
              </a:path>
              <a:path w="4391" h="298">
                <a:moveTo>
                  <a:pt x="14560" y="18256"/>
                </a:moveTo>
                <a:cubicBezTo>
                  <a:pt x="14560" y="18264"/>
                  <a:pt x="14560" y="18273"/>
                  <a:pt x="14560" y="1828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81240" y="6259680"/>
            <a:ext cx="268560" cy="393480"/>
          </a:xfrm>
          <a:custGeom>
            <a:avLst/>
            <a:gdLst/>
            <a:ahLst/>
            <a:rect l="l" t="t" r="r" b="b"/>
            <a:pathLst>
              <a:path w="745" h="1092">
                <a:moveTo>
                  <a:pt x="8806" y="17537"/>
                </a:moveTo>
                <a:cubicBezTo>
                  <a:pt x="8806" y="17600"/>
                  <a:pt x="8794" y="17660"/>
                  <a:pt x="8781" y="17711"/>
                </a:cubicBezTo>
                <a:cubicBezTo>
                  <a:pt x="8781" y="17719"/>
                  <a:pt x="8781" y="17727"/>
                  <a:pt x="8781" y="17735"/>
                </a:cubicBezTo>
                <a:cubicBezTo>
                  <a:pt x="8857" y="17725"/>
                  <a:pt x="8930" y="17698"/>
                  <a:pt x="9004" y="17686"/>
                </a:cubicBezTo>
              </a:path>
              <a:path w="745" h="1092">
                <a:moveTo>
                  <a:pt x="9004" y="17388"/>
                </a:moveTo>
                <a:cubicBezTo>
                  <a:pt x="9004" y="17532"/>
                  <a:pt x="8984" y="17667"/>
                  <a:pt x="8979" y="17810"/>
                </a:cubicBezTo>
                <a:cubicBezTo>
                  <a:pt x="8977" y="17865"/>
                  <a:pt x="8965" y="17871"/>
                  <a:pt x="9004" y="17884"/>
                </a:cubicBezTo>
              </a:path>
              <a:path w="745" h="1092">
                <a:moveTo>
                  <a:pt x="8558" y="18083"/>
                </a:moveTo>
                <a:cubicBezTo>
                  <a:pt x="8736" y="18063"/>
                  <a:pt x="8900" y="18000"/>
                  <a:pt x="9079" y="17983"/>
                </a:cubicBezTo>
                <a:cubicBezTo>
                  <a:pt x="9132" y="17978"/>
                  <a:pt x="9196" y="17983"/>
                  <a:pt x="9252" y="17983"/>
                </a:cubicBezTo>
              </a:path>
              <a:path w="745" h="1092">
                <a:moveTo>
                  <a:pt x="8706" y="18207"/>
                </a:moveTo>
                <a:cubicBezTo>
                  <a:pt x="8747" y="18248"/>
                  <a:pt x="8731" y="18376"/>
                  <a:pt x="8731" y="18455"/>
                </a:cubicBezTo>
                <a:cubicBezTo>
                  <a:pt x="8731" y="18463"/>
                  <a:pt x="8731" y="18471"/>
                  <a:pt x="8731" y="18479"/>
                </a:cubicBezTo>
              </a:path>
              <a:path w="745" h="1092">
                <a:moveTo>
                  <a:pt x="9128" y="18157"/>
                </a:moveTo>
                <a:cubicBezTo>
                  <a:pt x="9039" y="18193"/>
                  <a:pt x="9018" y="18270"/>
                  <a:pt x="8979" y="18355"/>
                </a:cubicBezTo>
                <a:cubicBezTo>
                  <a:pt x="8959" y="18396"/>
                  <a:pt x="8950" y="18402"/>
                  <a:pt x="8954" y="18430"/>
                </a:cubicBezTo>
                <a:cubicBezTo>
                  <a:pt x="9066" y="18504"/>
                  <a:pt x="9105" y="18492"/>
                  <a:pt x="9203" y="18405"/>
                </a:cubicBezTo>
                <a:cubicBezTo>
                  <a:pt x="9266" y="18349"/>
                  <a:pt x="9321" y="18288"/>
                  <a:pt x="9277" y="18207"/>
                </a:cubicBezTo>
                <a:cubicBezTo>
                  <a:pt x="9261" y="18178"/>
                  <a:pt x="9205" y="18159"/>
                  <a:pt x="9178" y="1813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11760" y="6367320"/>
            <a:ext cx="1938240" cy="320760"/>
          </a:xfrm>
          <a:custGeom>
            <a:avLst/>
            <a:gdLst/>
            <a:ahLst/>
            <a:rect l="l" t="t" r="r" b="b"/>
            <a:pathLst>
              <a:path w="5384" h="894">
                <a:moveTo>
                  <a:pt x="11112" y="17859"/>
                </a:moveTo>
                <a:cubicBezTo>
                  <a:pt x="11001" y="17859"/>
                  <a:pt x="10991" y="17873"/>
                  <a:pt x="10939" y="17983"/>
                </a:cubicBezTo>
                <a:cubicBezTo>
                  <a:pt x="10890" y="18085"/>
                  <a:pt x="10783" y="18312"/>
                  <a:pt x="10988" y="18331"/>
                </a:cubicBezTo>
                <a:cubicBezTo>
                  <a:pt x="11126" y="18344"/>
                  <a:pt x="11287" y="18176"/>
                  <a:pt x="11311" y="18058"/>
                </a:cubicBezTo>
                <a:cubicBezTo>
                  <a:pt x="11335" y="17937"/>
                  <a:pt x="11232" y="17843"/>
                  <a:pt x="11112" y="17859"/>
                </a:cubicBezTo>
                <a:cubicBezTo>
                  <a:pt x="11096" y="17867"/>
                  <a:pt x="11079" y="17876"/>
                  <a:pt x="11063" y="17884"/>
                </a:cubicBezTo>
              </a:path>
              <a:path w="5384" h="894">
                <a:moveTo>
                  <a:pt x="11534" y="18157"/>
                </a:moveTo>
                <a:cubicBezTo>
                  <a:pt x="11534" y="18215"/>
                  <a:pt x="11534" y="18223"/>
                  <a:pt x="11534" y="18256"/>
                </a:cubicBezTo>
              </a:path>
              <a:path w="5384" h="894">
                <a:moveTo>
                  <a:pt x="11757" y="17835"/>
                </a:moveTo>
                <a:cubicBezTo>
                  <a:pt x="11745" y="17918"/>
                  <a:pt x="11720" y="18000"/>
                  <a:pt x="11708" y="18083"/>
                </a:cubicBezTo>
                <a:cubicBezTo>
                  <a:pt x="11773" y="18094"/>
                  <a:pt x="11939" y="18105"/>
                  <a:pt x="11981" y="18033"/>
                </a:cubicBezTo>
                <a:cubicBezTo>
                  <a:pt x="11981" y="18016"/>
                  <a:pt x="11981" y="18000"/>
                  <a:pt x="11981" y="17983"/>
                </a:cubicBezTo>
              </a:path>
              <a:path w="5384" h="894">
                <a:moveTo>
                  <a:pt x="11956" y="17810"/>
                </a:moveTo>
                <a:cubicBezTo>
                  <a:pt x="11956" y="17935"/>
                  <a:pt x="11901" y="18062"/>
                  <a:pt x="11906" y="18182"/>
                </a:cubicBezTo>
                <a:cubicBezTo>
                  <a:pt x="11928" y="18204"/>
                  <a:pt x="11937" y="18209"/>
                  <a:pt x="11931" y="18231"/>
                </a:cubicBezTo>
              </a:path>
              <a:path w="5384" h="894">
                <a:moveTo>
                  <a:pt x="12278" y="17835"/>
                </a:moveTo>
                <a:cubicBezTo>
                  <a:pt x="12410" y="17797"/>
                  <a:pt x="12493" y="17893"/>
                  <a:pt x="12526" y="18033"/>
                </a:cubicBezTo>
                <a:cubicBezTo>
                  <a:pt x="12566" y="18203"/>
                  <a:pt x="12392" y="18261"/>
                  <a:pt x="12254" y="18256"/>
                </a:cubicBezTo>
                <a:cubicBezTo>
                  <a:pt x="12237" y="18248"/>
                  <a:pt x="12221" y="18239"/>
                  <a:pt x="12204" y="18231"/>
                </a:cubicBezTo>
                <a:cubicBezTo>
                  <a:pt x="12215" y="18173"/>
                  <a:pt x="12230" y="18062"/>
                  <a:pt x="12328" y="18107"/>
                </a:cubicBezTo>
                <a:cubicBezTo>
                  <a:pt x="12386" y="18134"/>
                  <a:pt x="12488" y="18244"/>
                  <a:pt x="12551" y="18231"/>
                </a:cubicBezTo>
                <a:cubicBezTo>
                  <a:pt x="12576" y="18223"/>
                  <a:pt x="12601" y="18215"/>
                  <a:pt x="12626" y="18207"/>
                </a:cubicBezTo>
              </a:path>
              <a:path w="5384" h="894">
                <a:moveTo>
                  <a:pt x="12799" y="17785"/>
                </a:moveTo>
                <a:cubicBezTo>
                  <a:pt x="12782" y="17884"/>
                  <a:pt x="12738" y="17982"/>
                  <a:pt x="12725" y="18083"/>
                </a:cubicBezTo>
                <a:cubicBezTo>
                  <a:pt x="12713" y="18173"/>
                  <a:pt x="12769" y="18281"/>
                  <a:pt x="12874" y="18281"/>
                </a:cubicBezTo>
                <a:cubicBezTo>
                  <a:pt x="12982" y="18281"/>
                  <a:pt x="13149" y="18251"/>
                  <a:pt x="13221" y="18157"/>
                </a:cubicBezTo>
                <a:cubicBezTo>
                  <a:pt x="13261" y="18105"/>
                  <a:pt x="13269" y="18026"/>
                  <a:pt x="13196" y="18008"/>
                </a:cubicBezTo>
                <a:cubicBezTo>
                  <a:pt x="13094" y="17983"/>
                  <a:pt x="13059" y="18113"/>
                  <a:pt x="13047" y="18182"/>
                </a:cubicBezTo>
                <a:cubicBezTo>
                  <a:pt x="13047" y="18207"/>
                  <a:pt x="13047" y="18215"/>
                  <a:pt x="13047" y="18231"/>
                </a:cubicBezTo>
              </a:path>
              <a:path w="5384" h="894">
                <a:moveTo>
                  <a:pt x="13568" y="18281"/>
                </a:moveTo>
                <a:cubicBezTo>
                  <a:pt x="13588" y="18366"/>
                  <a:pt x="13647" y="18498"/>
                  <a:pt x="13519" y="18529"/>
                </a:cubicBezTo>
                <a:cubicBezTo>
                  <a:pt x="13441" y="18529"/>
                  <a:pt x="13423" y="18545"/>
                  <a:pt x="13395" y="18504"/>
                </a:cubicBezTo>
              </a:path>
              <a:path w="5384" h="894">
                <a:moveTo>
                  <a:pt x="14163" y="17810"/>
                </a:moveTo>
                <a:cubicBezTo>
                  <a:pt x="14098" y="17810"/>
                  <a:pt x="14068" y="17821"/>
                  <a:pt x="14039" y="17884"/>
                </a:cubicBezTo>
                <a:cubicBezTo>
                  <a:pt x="13957" y="18060"/>
                  <a:pt x="13956" y="18163"/>
                  <a:pt x="14039" y="18331"/>
                </a:cubicBezTo>
                <a:cubicBezTo>
                  <a:pt x="14201" y="18263"/>
                  <a:pt x="14377" y="18154"/>
                  <a:pt x="14288" y="17934"/>
                </a:cubicBezTo>
                <a:cubicBezTo>
                  <a:pt x="14261" y="17867"/>
                  <a:pt x="14153" y="17770"/>
                  <a:pt x="14114" y="17810"/>
                </a:cubicBezTo>
              </a:path>
              <a:path w="5384" h="894">
                <a:moveTo>
                  <a:pt x="14784" y="17859"/>
                </a:moveTo>
                <a:cubicBezTo>
                  <a:pt x="14764" y="17903"/>
                  <a:pt x="14691" y="18036"/>
                  <a:pt x="14734" y="18083"/>
                </a:cubicBezTo>
                <a:cubicBezTo>
                  <a:pt x="14812" y="18167"/>
                  <a:pt x="15005" y="18043"/>
                  <a:pt x="15081" y="18008"/>
                </a:cubicBezTo>
              </a:path>
              <a:path w="5384" h="894">
                <a:moveTo>
                  <a:pt x="15056" y="17735"/>
                </a:moveTo>
                <a:cubicBezTo>
                  <a:pt x="15056" y="17877"/>
                  <a:pt x="15047" y="18046"/>
                  <a:pt x="15081" y="18182"/>
                </a:cubicBezTo>
                <a:cubicBezTo>
                  <a:pt x="15089" y="18190"/>
                  <a:pt x="15098" y="18199"/>
                  <a:pt x="15106" y="18207"/>
                </a:cubicBezTo>
              </a:path>
              <a:path w="5384" h="894">
                <a:moveTo>
                  <a:pt x="15379" y="17785"/>
                </a:moveTo>
                <a:cubicBezTo>
                  <a:pt x="15431" y="17733"/>
                  <a:pt x="15517" y="17711"/>
                  <a:pt x="15602" y="17686"/>
                </a:cubicBezTo>
                <a:cubicBezTo>
                  <a:pt x="15616" y="17808"/>
                  <a:pt x="15632" y="17830"/>
                  <a:pt x="15528" y="17909"/>
                </a:cubicBezTo>
                <a:cubicBezTo>
                  <a:pt x="15629" y="17909"/>
                  <a:pt x="15680" y="17888"/>
                  <a:pt x="15751" y="17983"/>
                </a:cubicBezTo>
                <a:cubicBezTo>
                  <a:pt x="15851" y="18117"/>
                  <a:pt x="15708" y="18189"/>
                  <a:pt x="15602" y="18207"/>
                </a:cubicBezTo>
                <a:cubicBezTo>
                  <a:pt x="15553" y="18207"/>
                  <a:pt x="15536" y="18207"/>
                  <a:pt x="15503" y="18207"/>
                </a:cubicBezTo>
              </a:path>
              <a:path w="5384" h="894">
                <a:moveTo>
                  <a:pt x="14610" y="18256"/>
                </a:moveTo>
                <a:cubicBezTo>
                  <a:pt x="14603" y="18286"/>
                  <a:pt x="14592" y="18301"/>
                  <a:pt x="14585" y="18331"/>
                </a:cubicBezTo>
                <a:cubicBezTo>
                  <a:pt x="14618" y="18309"/>
                  <a:pt x="14636" y="18264"/>
                  <a:pt x="14585" y="18331"/>
                </a:cubicBezTo>
              </a:path>
              <a:path w="5384" h="894">
                <a:moveTo>
                  <a:pt x="16197" y="18231"/>
                </a:moveTo>
                <a:cubicBezTo>
                  <a:pt x="16222" y="18319"/>
                  <a:pt x="16296" y="18434"/>
                  <a:pt x="16222" y="18529"/>
                </a:cubicBezTo>
                <a:cubicBezTo>
                  <a:pt x="16163" y="18569"/>
                  <a:pt x="16151" y="18598"/>
                  <a:pt x="16123" y="1855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81840" y="6242040"/>
            <a:ext cx="320400" cy="438120"/>
          </a:xfrm>
          <a:custGeom>
            <a:avLst/>
            <a:gdLst/>
            <a:ahLst/>
            <a:rect l="l" t="t" r="r" b="b"/>
            <a:pathLst>
              <a:path w="894" h="1217">
                <a:moveTo>
                  <a:pt x="17090" y="17413"/>
                </a:moveTo>
                <a:cubicBezTo>
                  <a:pt x="17090" y="17515"/>
                  <a:pt x="17072" y="17610"/>
                  <a:pt x="17066" y="17711"/>
                </a:cubicBezTo>
                <a:cubicBezTo>
                  <a:pt x="17066" y="17735"/>
                  <a:pt x="17066" y="17743"/>
                  <a:pt x="17066" y="17711"/>
                </a:cubicBezTo>
              </a:path>
              <a:path w="894" h="1217">
                <a:moveTo>
                  <a:pt x="17363" y="17388"/>
                </a:moveTo>
                <a:cubicBezTo>
                  <a:pt x="17377" y="17330"/>
                  <a:pt x="17436" y="17311"/>
                  <a:pt x="17487" y="17363"/>
                </a:cubicBezTo>
                <a:cubicBezTo>
                  <a:pt x="17544" y="17421"/>
                  <a:pt x="17462" y="17468"/>
                  <a:pt x="17413" y="17487"/>
                </a:cubicBezTo>
                <a:cubicBezTo>
                  <a:pt x="17405" y="17487"/>
                  <a:pt x="17396" y="17487"/>
                  <a:pt x="17388" y="17487"/>
                </a:cubicBezTo>
                <a:cubicBezTo>
                  <a:pt x="17430" y="17519"/>
                  <a:pt x="17508" y="17512"/>
                  <a:pt x="17537" y="17562"/>
                </a:cubicBezTo>
                <a:cubicBezTo>
                  <a:pt x="17587" y="17647"/>
                  <a:pt x="17528" y="17735"/>
                  <a:pt x="17438" y="17760"/>
                </a:cubicBezTo>
                <a:cubicBezTo>
                  <a:pt x="17421" y="17760"/>
                  <a:pt x="17405" y="17760"/>
                  <a:pt x="17388" y="17760"/>
                </a:cubicBezTo>
              </a:path>
              <a:path w="894" h="1217">
                <a:moveTo>
                  <a:pt x="16892" y="18132"/>
                </a:moveTo>
                <a:cubicBezTo>
                  <a:pt x="17104" y="18043"/>
                  <a:pt x="17313" y="17980"/>
                  <a:pt x="17537" y="17934"/>
                </a:cubicBezTo>
                <a:cubicBezTo>
                  <a:pt x="17623" y="17916"/>
                  <a:pt x="17677" y="17909"/>
                  <a:pt x="17760" y="17909"/>
                </a:cubicBezTo>
              </a:path>
              <a:path w="894" h="1217">
                <a:moveTo>
                  <a:pt x="17090" y="18306"/>
                </a:moveTo>
                <a:cubicBezTo>
                  <a:pt x="17162" y="18298"/>
                  <a:pt x="17197" y="18291"/>
                  <a:pt x="17264" y="18306"/>
                </a:cubicBezTo>
                <a:cubicBezTo>
                  <a:pt x="17264" y="18431"/>
                  <a:pt x="17267" y="18526"/>
                  <a:pt x="17115" y="18554"/>
                </a:cubicBezTo>
                <a:cubicBezTo>
                  <a:pt x="17010" y="18574"/>
                  <a:pt x="16988" y="18571"/>
                  <a:pt x="16966" y="18504"/>
                </a:cubicBezTo>
                <a:cubicBezTo>
                  <a:pt x="17068" y="18436"/>
                  <a:pt x="17122" y="18462"/>
                  <a:pt x="17239" y="18479"/>
                </a:cubicBezTo>
                <a:cubicBezTo>
                  <a:pt x="17313" y="18490"/>
                  <a:pt x="17200" y="18517"/>
                  <a:pt x="17314" y="18479"/>
                </a:cubicBezTo>
              </a:path>
              <a:path w="894" h="1217">
                <a:moveTo>
                  <a:pt x="17611" y="18132"/>
                </a:moveTo>
                <a:cubicBezTo>
                  <a:pt x="17543" y="18218"/>
                  <a:pt x="17485" y="18302"/>
                  <a:pt x="17462" y="18405"/>
                </a:cubicBezTo>
                <a:cubicBezTo>
                  <a:pt x="17560" y="18435"/>
                  <a:pt x="17756" y="18456"/>
                  <a:pt x="17785" y="18306"/>
                </a:cubicBezTo>
                <a:cubicBezTo>
                  <a:pt x="17808" y="18188"/>
                  <a:pt x="17694" y="18146"/>
                  <a:pt x="17611" y="1813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29160" y="5143680"/>
            <a:ext cx="1625760" cy="973080"/>
          </a:xfrm>
          <a:custGeom>
            <a:avLst/>
            <a:gdLst/>
            <a:ahLst/>
            <a:rect l="l" t="t" r="r" b="b"/>
            <a:pathLst>
              <a:path w="4516" h="2704">
                <a:moveTo>
                  <a:pt x="19596" y="14288"/>
                </a:moveTo>
                <a:cubicBezTo>
                  <a:pt x="19588" y="14288"/>
                  <a:pt x="19579" y="14288"/>
                  <a:pt x="19571" y="14288"/>
                </a:cubicBezTo>
              </a:path>
              <a:path w="4516" h="2704">
                <a:moveTo>
                  <a:pt x="15081" y="16942"/>
                </a:moveTo>
                <a:cubicBezTo>
                  <a:pt x="15081" y="16958"/>
                  <a:pt x="15081" y="16975"/>
                  <a:pt x="15081" y="16991"/>
                </a:cubicBezTo>
              </a:path>
              <a:path w="4516" h="2704">
                <a:moveTo>
                  <a:pt x="15255" y="16470"/>
                </a:moveTo>
                <a:cubicBezTo>
                  <a:pt x="15218" y="16538"/>
                  <a:pt x="15115" y="16655"/>
                  <a:pt x="15230" y="16694"/>
                </a:cubicBezTo>
                <a:cubicBezTo>
                  <a:pt x="15357" y="16737"/>
                  <a:pt x="15419" y="16698"/>
                  <a:pt x="15528" y="1664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14960" y="5867280"/>
            <a:ext cx="777960" cy="258840"/>
          </a:xfrm>
          <a:custGeom>
            <a:avLst/>
            <a:gdLst/>
            <a:ahLst/>
            <a:rect l="l" t="t" r="r" b="b"/>
            <a:pathLst>
              <a:path w="2159" h="720">
                <a:moveTo>
                  <a:pt x="14635" y="16495"/>
                </a:moveTo>
                <a:cubicBezTo>
                  <a:pt x="14620" y="16451"/>
                  <a:pt x="14601" y="16466"/>
                  <a:pt x="14585" y="16495"/>
                </a:cubicBezTo>
                <a:cubicBezTo>
                  <a:pt x="14476" y="16687"/>
                  <a:pt x="14468" y="16813"/>
                  <a:pt x="14536" y="17016"/>
                </a:cubicBezTo>
                <a:cubicBezTo>
                  <a:pt x="14684" y="16982"/>
                  <a:pt x="14836" y="16871"/>
                  <a:pt x="14858" y="16694"/>
                </a:cubicBezTo>
                <a:cubicBezTo>
                  <a:pt x="14865" y="16634"/>
                  <a:pt x="14700" y="16434"/>
                  <a:pt x="14635" y="16470"/>
                </a:cubicBezTo>
                <a:cubicBezTo>
                  <a:pt x="14635" y="16487"/>
                  <a:pt x="14635" y="16503"/>
                  <a:pt x="14635" y="16520"/>
                </a:cubicBezTo>
              </a:path>
              <a:path w="2159" h="720">
                <a:moveTo>
                  <a:pt x="15453" y="16297"/>
                </a:moveTo>
                <a:cubicBezTo>
                  <a:pt x="15463" y="16492"/>
                  <a:pt x="15460" y="16672"/>
                  <a:pt x="15453" y="16867"/>
                </a:cubicBezTo>
                <a:cubicBezTo>
                  <a:pt x="15453" y="16892"/>
                  <a:pt x="15453" y="16900"/>
                  <a:pt x="15453" y="16867"/>
                </a:cubicBezTo>
              </a:path>
              <a:path w="2159" h="720">
                <a:moveTo>
                  <a:pt x="15677" y="16321"/>
                </a:moveTo>
                <a:cubicBezTo>
                  <a:pt x="15742" y="16321"/>
                  <a:pt x="15878" y="16289"/>
                  <a:pt x="15925" y="16346"/>
                </a:cubicBezTo>
                <a:cubicBezTo>
                  <a:pt x="16004" y="16443"/>
                  <a:pt x="15883" y="16498"/>
                  <a:pt x="15825" y="16545"/>
                </a:cubicBezTo>
                <a:cubicBezTo>
                  <a:pt x="15825" y="16570"/>
                  <a:pt x="15825" y="16578"/>
                  <a:pt x="15801" y="16570"/>
                </a:cubicBezTo>
                <a:cubicBezTo>
                  <a:pt x="15902" y="16553"/>
                  <a:pt x="16007" y="16538"/>
                  <a:pt x="16049" y="16669"/>
                </a:cubicBezTo>
                <a:cubicBezTo>
                  <a:pt x="16105" y="16843"/>
                  <a:pt x="15858" y="16854"/>
                  <a:pt x="15751" y="16842"/>
                </a:cubicBezTo>
                <a:cubicBezTo>
                  <a:pt x="15726" y="16834"/>
                  <a:pt x="15702" y="16826"/>
                  <a:pt x="15677" y="16818"/>
                </a:cubicBezTo>
              </a:path>
              <a:path w="2159" h="720">
                <a:moveTo>
                  <a:pt x="16396" y="16321"/>
                </a:moveTo>
                <a:cubicBezTo>
                  <a:pt x="16349" y="16337"/>
                  <a:pt x="16316" y="16410"/>
                  <a:pt x="16297" y="16470"/>
                </a:cubicBezTo>
                <a:cubicBezTo>
                  <a:pt x="16272" y="16548"/>
                  <a:pt x="16197" y="16756"/>
                  <a:pt x="16297" y="16818"/>
                </a:cubicBezTo>
                <a:cubicBezTo>
                  <a:pt x="16445" y="16910"/>
                  <a:pt x="16570" y="16808"/>
                  <a:pt x="16619" y="16669"/>
                </a:cubicBezTo>
                <a:cubicBezTo>
                  <a:pt x="16674" y="16512"/>
                  <a:pt x="16602" y="16398"/>
                  <a:pt x="16446" y="16371"/>
                </a:cubicBezTo>
                <a:cubicBezTo>
                  <a:pt x="16384" y="16371"/>
                  <a:pt x="16369" y="16362"/>
                  <a:pt x="16346" y="163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86720" y="4000680"/>
            <a:ext cx="1482480" cy="1295280"/>
          </a:xfrm>
          <a:custGeom>
            <a:avLst/>
            <a:gdLst/>
            <a:ahLst/>
            <a:rect l="l" t="t" r="r" b="b"/>
            <a:pathLst>
              <a:path w="4118" h="3598">
                <a:moveTo>
                  <a:pt x="19695" y="12129"/>
                </a:moveTo>
                <a:cubicBezTo>
                  <a:pt x="19666" y="12045"/>
                  <a:pt x="19515" y="12233"/>
                  <a:pt x="19496" y="12254"/>
                </a:cubicBezTo>
                <a:cubicBezTo>
                  <a:pt x="19427" y="12331"/>
                  <a:pt x="19250" y="12654"/>
                  <a:pt x="19447" y="12725"/>
                </a:cubicBezTo>
                <a:cubicBezTo>
                  <a:pt x="19656" y="12801"/>
                  <a:pt x="19930" y="12613"/>
                  <a:pt x="19943" y="12402"/>
                </a:cubicBezTo>
                <a:cubicBezTo>
                  <a:pt x="19952" y="12249"/>
                  <a:pt x="19835" y="12080"/>
                  <a:pt x="19670" y="12080"/>
                </a:cubicBezTo>
                <a:cubicBezTo>
                  <a:pt x="19645" y="12088"/>
                  <a:pt x="19621" y="12097"/>
                  <a:pt x="19596" y="12105"/>
                </a:cubicBezTo>
              </a:path>
              <a:path w="4118" h="3598">
                <a:moveTo>
                  <a:pt x="20340" y="12452"/>
                </a:moveTo>
                <a:cubicBezTo>
                  <a:pt x="20331" y="12515"/>
                  <a:pt x="20283" y="12582"/>
                  <a:pt x="20340" y="12601"/>
                </a:cubicBezTo>
                <a:cubicBezTo>
                  <a:pt x="20412" y="12497"/>
                  <a:pt x="20436" y="12525"/>
                  <a:pt x="20340" y="12477"/>
                </a:cubicBezTo>
              </a:path>
              <a:path w="4118" h="3598">
                <a:moveTo>
                  <a:pt x="20786" y="12055"/>
                </a:moveTo>
                <a:cubicBezTo>
                  <a:pt x="20740" y="12071"/>
                  <a:pt x="20748" y="12266"/>
                  <a:pt x="20737" y="12328"/>
                </a:cubicBezTo>
                <a:cubicBezTo>
                  <a:pt x="20717" y="12437"/>
                  <a:pt x="20710" y="12577"/>
                  <a:pt x="20886" y="12551"/>
                </a:cubicBezTo>
                <a:cubicBezTo>
                  <a:pt x="21029" y="12529"/>
                  <a:pt x="21130" y="12431"/>
                  <a:pt x="21158" y="12303"/>
                </a:cubicBezTo>
                <a:cubicBezTo>
                  <a:pt x="21096" y="12240"/>
                  <a:pt x="21051" y="12230"/>
                  <a:pt x="20985" y="12303"/>
                </a:cubicBezTo>
                <a:cubicBezTo>
                  <a:pt x="20921" y="12374"/>
                  <a:pt x="20889" y="12486"/>
                  <a:pt x="20985" y="12502"/>
                </a:cubicBezTo>
              </a:path>
              <a:path w="4118" h="3598">
                <a:moveTo>
                  <a:pt x="21530" y="11931"/>
                </a:moveTo>
                <a:cubicBezTo>
                  <a:pt x="21470" y="11931"/>
                  <a:pt x="21416" y="11951"/>
                  <a:pt x="21357" y="11956"/>
                </a:cubicBezTo>
                <a:cubicBezTo>
                  <a:pt x="21244" y="11965"/>
                  <a:pt x="21263" y="12064"/>
                  <a:pt x="21258" y="12154"/>
                </a:cubicBezTo>
                <a:cubicBezTo>
                  <a:pt x="21258" y="12162"/>
                  <a:pt x="21258" y="12171"/>
                  <a:pt x="21258" y="12179"/>
                </a:cubicBezTo>
                <a:cubicBezTo>
                  <a:pt x="21337" y="12163"/>
                  <a:pt x="21419" y="12108"/>
                  <a:pt x="21506" y="12129"/>
                </a:cubicBezTo>
                <a:cubicBezTo>
                  <a:pt x="21622" y="12157"/>
                  <a:pt x="21779" y="12296"/>
                  <a:pt x="21630" y="12402"/>
                </a:cubicBezTo>
                <a:cubicBezTo>
                  <a:pt x="21538" y="12467"/>
                  <a:pt x="21387" y="12447"/>
                  <a:pt x="21282" y="12452"/>
                </a:cubicBezTo>
              </a:path>
              <a:path w="4118" h="3598">
                <a:moveTo>
                  <a:pt x="19670" y="13072"/>
                </a:moveTo>
                <a:cubicBezTo>
                  <a:pt x="19531" y="13131"/>
                  <a:pt x="19390" y="13318"/>
                  <a:pt x="19348" y="13469"/>
                </a:cubicBezTo>
                <a:cubicBezTo>
                  <a:pt x="19348" y="13602"/>
                  <a:pt x="19344" y="13637"/>
                  <a:pt x="19372" y="13717"/>
                </a:cubicBezTo>
                <a:cubicBezTo>
                  <a:pt x="19598" y="13741"/>
                  <a:pt x="19826" y="13706"/>
                  <a:pt x="19968" y="13494"/>
                </a:cubicBezTo>
                <a:cubicBezTo>
                  <a:pt x="20092" y="13309"/>
                  <a:pt x="19994" y="13142"/>
                  <a:pt x="19794" y="13097"/>
                </a:cubicBezTo>
                <a:cubicBezTo>
                  <a:pt x="19728" y="13082"/>
                  <a:pt x="19626" y="13091"/>
                  <a:pt x="19596" y="13122"/>
                </a:cubicBezTo>
              </a:path>
              <a:path w="4118" h="3598">
                <a:moveTo>
                  <a:pt x="20389" y="13568"/>
                </a:moveTo>
                <a:cubicBezTo>
                  <a:pt x="20389" y="13610"/>
                  <a:pt x="20389" y="13618"/>
                  <a:pt x="20389" y="13643"/>
                </a:cubicBezTo>
                <a:cubicBezTo>
                  <a:pt x="20434" y="13632"/>
                  <a:pt x="20453" y="13613"/>
                  <a:pt x="20464" y="13568"/>
                </a:cubicBezTo>
              </a:path>
              <a:path w="4118" h="3598">
                <a:moveTo>
                  <a:pt x="20811" y="13047"/>
                </a:moveTo>
                <a:cubicBezTo>
                  <a:pt x="20798" y="13126"/>
                  <a:pt x="20758" y="13196"/>
                  <a:pt x="20737" y="13271"/>
                </a:cubicBezTo>
                <a:cubicBezTo>
                  <a:pt x="20853" y="13288"/>
                  <a:pt x="20945" y="13263"/>
                  <a:pt x="21059" y="13246"/>
                </a:cubicBezTo>
                <a:cubicBezTo>
                  <a:pt x="21076" y="13246"/>
                  <a:pt x="21092" y="13246"/>
                  <a:pt x="21109" y="13246"/>
                </a:cubicBezTo>
              </a:path>
              <a:path w="4118" h="3598">
                <a:moveTo>
                  <a:pt x="21059" y="12973"/>
                </a:moveTo>
                <a:cubicBezTo>
                  <a:pt x="21078" y="13146"/>
                  <a:pt x="21063" y="13323"/>
                  <a:pt x="21084" y="13494"/>
                </a:cubicBezTo>
                <a:cubicBezTo>
                  <a:pt x="21103" y="13551"/>
                  <a:pt x="21129" y="13576"/>
                  <a:pt x="21084" y="13568"/>
                </a:cubicBezTo>
              </a:path>
              <a:path w="4118" h="3598">
                <a:moveTo>
                  <a:pt x="21332" y="12923"/>
                </a:moveTo>
                <a:cubicBezTo>
                  <a:pt x="21345" y="12884"/>
                  <a:pt x="21455" y="12847"/>
                  <a:pt x="21506" y="12849"/>
                </a:cubicBezTo>
                <a:cubicBezTo>
                  <a:pt x="21648" y="12854"/>
                  <a:pt x="21625" y="12987"/>
                  <a:pt x="21530" y="13047"/>
                </a:cubicBezTo>
                <a:cubicBezTo>
                  <a:pt x="21453" y="13096"/>
                  <a:pt x="21540" y="13009"/>
                  <a:pt x="21605" y="13022"/>
                </a:cubicBezTo>
                <a:cubicBezTo>
                  <a:pt x="21782" y="13058"/>
                  <a:pt x="21880" y="13229"/>
                  <a:pt x="21704" y="13345"/>
                </a:cubicBezTo>
                <a:cubicBezTo>
                  <a:pt x="21616" y="13403"/>
                  <a:pt x="21517" y="13407"/>
                  <a:pt x="21456" y="13370"/>
                </a:cubicBezTo>
              </a:path>
              <a:path w="4118" h="3598">
                <a:moveTo>
                  <a:pt x="19819" y="14114"/>
                </a:moveTo>
                <a:cubicBezTo>
                  <a:pt x="19887" y="14091"/>
                  <a:pt x="19803" y="14081"/>
                  <a:pt x="19769" y="14089"/>
                </a:cubicBezTo>
                <a:cubicBezTo>
                  <a:pt x="19613" y="14125"/>
                  <a:pt x="19465" y="14405"/>
                  <a:pt x="19496" y="14560"/>
                </a:cubicBezTo>
                <a:cubicBezTo>
                  <a:pt x="19555" y="14854"/>
                  <a:pt x="19968" y="14596"/>
                  <a:pt x="20042" y="14461"/>
                </a:cubicBezTo>
                <a:cubicBezTo>
                  <a:pt x="20113" y="14332"/>
                  <a:pt x="20068" y="14063"/>
                  <a:pt x="19893" y="14039"/>
                </a:cubicBezTo>
                <a:cubicBezTo>
                  <a:pt x="19836" y="14058"/>
                  <a:pt x="19829" y="14067"/>
                  <a:pt x="19794" y="14064"/>
                </a:cubicBezTo>
              </a:path>
              <a:path w="4118" h="3598">
                <a:moveTo>
                  <a:pt x="20538" y="14412"/>
                </a:moveTo>
                <a:cubicBezTo>
                  <a:pt x="20559" y="14452"/>
                  <a:pt x="20538" y="14474"/>
                  <a:pt x="20538" y="14536"/>
                </a:cubicBezTo>
                <a:cubicBezTo>
                  <a:pt x="20538" y="14544"/>
                  <a:pt x="20538" y="14552"/>
                  <a:pt x="20538" y="14560"/>
                </a:cubicBezTo>
                <a:cubicBezTo>
                  <a:pt x="20609" y="14504"/>
                  <a:pt x="20692" y="14454"/>
                  <a:pt x="20563" y="14436"/>
                </a:cubicBezTo>
              </a:path>
              <a:path w="4118" h="3598">
                <a:moveTo>
                  <a:pt x="20960" y="13990"/>
                </a:moveTo>
                <a:cubicBezTo>
                  <a:pt x="20960" y="14095"/>
                  <a:pt x="20950" y="14185"/>
                  <a:pt x="20935" y="14288"/>
                </a:cubicBezTo>
                <a:cubicBezTo>
                  <a:pt x="20935" y="14296"/>
                  <a:pt x="20935" y="14304"/>
                  <a:pt x="20935" y="14312"/>
                </a:cubicBezTo>
                <a:cubicBezTo>
                  <a:pt x="21059" y="14312"/>
                  <a:pt x="21141" y="14292"/>
                  <a:pt x="21258" y="14263"/>
                </a:cubicBezTo>
              </a:path>
              <a:path w="4118" h="3598">
                <a:moveTo>
                  <a:pt x="21233" y="13866"/>
                </a:moveTo>
                <a:cubicBezTo>
                  <a:pt x="21256" y="14049"/>
                  <a:pt x="21258" y="14226"/>
                  <a:pt x="21258" y="14412"/>
                </a:cubicBezTo>
                <a:cubicBezTo>
                  <a:pt x="21258" y="14412"/>
                  <a:pt x="21258" y="14764"/>
                  <a:pt x="21258" y="14684"/>
                </a:cubicBezTo>
              </a:path>
              <a:path w="4118" h="3598">
                <a:moveTo>
                  <a:pt x="22200" y="11857"/>
                </a:moveTo>
                <a:cubicBezTo>
                  <a:pt x="22270" y="11822"/>
                  <a:pt x="22073" y="11885"/>
                  <a:pt x="22051" y="11906"/>
                </a:cubicBezTo>
                <a:cubicBezTo>
                  <a:pt x="21944" y="12005"/>
                  <a:pt x="21846" y="12217"/>
                  <a:pt x="22002" y="12303"/>
                </a:cubicBezTo>
                <a:cubicBezTo>
                  <a:pt x="22143" y="12381"/>
                  <a:pt x="22332" y="12282"/>
                  <a:pt x="22399" y="12154"/>
                </a:cubicBezTo>
                <a:cubicBezTo>
                  <a:pt x="22472" y="12015"/>
                  <a:pt x="22426" y="11903"/>
                  <a:pt x="22275" y="11881"/>
                </a:cubicBezTo>
                <a:cubicBezTo>
                  <a:pt x="22242" y="11881"/>
                  <a:pt x="22208" y="11881"/>
                  <a:pt x="22175" y="11881"/>
                </a:cubicBezTo>
              </a:path>
              <a:path w="4118" h="3598">
                <a:moveTo>
                  <a:pt x="22299" y="12750"/>
                </a:moveTo>
                <a:cubicBezTo>
                  <a:pt x="22207" y="12768"/>
                  <a:pt x="22113" y="12861"/>
                  <a:pt x="22076" y="12948"/>
                </a:cubicBezTo>
                <a:cubicBezTo>
                  <a:pt x="22033" y="13048"/>
                  <a:pt x="22013" y="13318"/>
                  <a:pt x="22200" y="13295"/>
                </a:cubicBezTo>
                <a:cubicBezTo>
                  <a:pt x="22366" y="13274"/>
                  <a:pt x="22482" y="13067"/>
                  <a:pt x="22473" y="12923"/>
                </a:cubicBezTo>
                <a:cubicBezTo>
                  <a:pt x="22464" y="12770"/>
                  <a:pt x="22344" y="12779"/>
                  <a:pt x="22225" y="12774"/>
                </a:cubicBezTo>
                <a:cubicBezTo>
                  <a:pt x="22208" y="12774"/>
                  <a:pt x="22192" y="12774"/>
                  <a:pt x="22175" y="12774"/>
                </a:cubicBezTo>
              </a:path>
              <a:path w="4118" h="3598">
                <a:moveTo>
                  <a:pt x="21704" y="13940"/>
                </a:moveTo>
                <a:cubicBezTo>
                  <a:pt x="21555" y="13940"/>
                  <a:pt x="21542" y="14043"/>
                  <a:pt x="21506" y="14188"/>
                </a:cubicBezTo>
                <a:cubicBezTo>
                  <a:pt x="21464" y="14358"/>
                  <a:pt x="21478" y="14398"/>
                  <a:pt x="21580" y="14511"/>
                </a:cubicBezTo>
                <a:cubicBezTo>
                  <a:pt x="21754" y="14443"/>
                  <a:pt x="21957" y="14380"/>
                  <a:pt x="21927" y="14139"/>
                </a:cubicBezTo>
                <a:cubicBezTo>
                  <a:pt x="21910" y="14001"/>
                  <a:pt x="21783" y="13999"/>
                  <a:pt x="21679" y="13990"/>
                </a:cubicBezTo>
              </a:path>
              <a:path w="4118" h="3598">
                <a:moveTo>
                  <a:pt x="22448" y="13915"/>
                </a:moveTo>
                <a:cubicBezTo>
                  <a:pt x="22330" y="13915"/>
                  <a:pt x="22309" y="14001"/>
                  <a:pt x="22275" y="14114"/>
                </a:cubicBezTo>
                <a:cubicBezTo>
                  <a:pt x="22237" y="14241"/>
                  <a:pt x="22253" y="14336"/>
                  <a:pt x="22275" y="14461"/>
                </a:cubicBezTo>
                <a:cubicBezTo>
                  <a:pt x="22508" y="14489"/>
                  <a:pt x="22566" y="14428"/>
                  <a:pt x="22671" y="14213"/>
                </a:cubicBezTo>
                <a:cubicBezTo>
                  <a:pt x="22751" y="14049"/>
                  <a:pt x="22703" y="13985"/>
                  <a:pt x="22547" y="13915"/>
                </a:cubicBezTo>
                <a:cubicBezTo>
                  <a:pt x="22450" y="13872"/>
                  <a:pt x="22431" y="13899"/>
                  <a:pt x="22374" y="13965"/>
                </a:cubicBezTo>
              </a:path>
              <a:path w="4118" h="3598">
                <a:moveTo>
                  <a:pt x="19422" y="14163"/>
                </a:moveTo>
                <a:cubicBezTo>
                  <a:pt x="19547" y="14190"/>
                  <a:pt x="19637" y="14171"/>
                  <a:pt x="19769" y="14163"/>
                </a:cubicBezTo>
                <a:cubicBezTo>
                  <a:pt x="20224" y="14137"/>
                  <a:pt x="20682" y="14175"/>
                  <a:pt x="21134" y="14139"/>
                </a:cubicBezTo>
                <a:cubicBezTo>
                  <a:pt x="21265" y="14128"/>
                  <a:pt x="21400" y="14119"/>
                  <a:pt x="21530" y="14114"/>
                </a:cubicBezTo>
                <a:cubicBezTo>
                  <a:pt x="21637" y="14110"/>
                  <a:pt x="21717" y="14111"/>
                  <a:pt x="21828" y="14114"/>
                </a:cubicBezTo>
                <a:cubicBezTo>
                  <a:pt x="21966" y="14118"/>
                  <a:pt x="22092" y="14104"/>
                  <a:pt x="22225" y="14089"/>
                </a:cubicBezTo>
                <a:cubicBezTo>
                  <a:pt x="22290" y="14082"/>
                  <a:pt x="22364" y="14069"/>
                  <a:pt x="22423" y="14064"/>
                </a:cubicBezTo>
                <a:cubicBezTo>
                  <a:pt x="22513" y="14056"/>
                  <a:pt x="22618" y="14048"/>
                  <a:pt x="22696" y="14039"/>
                </a:cubicBezTo>
                <a:cubicBezTo>
                  <a:pt x="22771" y="14031"/>
                  <a:pt x="22827" y="14022"/>
                  <a:pt x="22895" y="14015"/>
                </a:cubicBezTo>
                <a:cubicBezTo>
                  <a:pt x="22936" y="14015"/>
                  <a:pt x="22944" y="14015"/>
                  <a:pt x="22969" y="14015"/>
                </a:cubicBezTo>
              </a:path>
              <a:path w="4118" h="3598">
                <a:moveTo>
                  <a:pt x="19050" y="11485"/>
                </a:moveTo>
                <a:cubicBezTo>
                  <a:pt x="19130" y="11485"/>
                  <a:pt x="19197" y="11468"/>
                  <a:pt x="19273" y="11460"/>
                </a:cubicBezTo>
                <a:cubicBezTo>
                  <a:pt x="19405" y="11445"/>
                  <a:pt x="19538" y="11424"/>
                  <a:pt x="19670" y="11410"/>
                </a:cubicBezTo>
                <a:cubicBezTo>
                  <a:pt x="19818" y="11394"/>
                  <a:pt x="19969" y="11371"/>
                  <a:pt x="20117" y="11361"/>
                </a:cubicBezTo>
                <a:cubicBezTo>
                  <a:pt x="20267" y="11351"/>
                  <a:pt x="20415" y="11343"/>
                  <a:pt x="20563" y="11311"/>
                </a:cubicBezTo>
                <a:cubicBezTo>
                  <a:pt x="20693" y="11283"/>
                  <a:pt x="20827" y="11265"/>
                  <a:pt x="20960" y="11261"/>
                </a:cubicBezTo>
                <a:cubicBezTo>
                  <a:pt x="21109" y="11257"/>
                  <a:pt x="21259" y="11239"/>
                  <a:pt x="21406" y="11212"/>
                </a:cubicBezTo>
                <a:cubicBezTo>
                  <a:pt x="21569" y="11182"/>
                  <a:pt x="21739" y="11177"/>
                  <a:pt x="21903" y="11162"/>
                </a:cubicBezTo>
                <a:cubicBezTo>
                  <a:pt x="21999" y="11153"/>
                  <a:pt x="22105" y="11154"/>
                  <a:pt x="22200" y="11137"/>
                </a:cubicBezTo>
                <a:cubicBezTo>
                  <a:pt x="22294" y="11120"/>
                  <a:pt x="22376" y="11112"/>
                  <a:pt x="22473" y="11112"/>
                </a:cubicBezTo>
              </a:path>
              <a:path w="4118" h="3598">
                <a:moveTo>
                  <a:pt x="18852" y="13419"/>
                </a:moveTo>
                <a:cubicBezTo>
                  <a:pt x="18943" y="13442"/>
                  <a:pt x="18994" y="13427"/>
                  <a:pt x="19100" y="13419"/>
                </a:cubicBezTo>
                <a:cubicBezTo>
                  <a:pt x="19263" y="13407"/>
                  <a:pt x="19434" y="13394"/>
                  <a:pt x="19596" y="13370"/>
                </a:cubicBezTo>
                <a:cubicBezTo>
                  <a:pt x="19745" y="13348"/>
                  <a:pt x="19893" y="13339"/>
                  <a:pt x="20042" y="13320"/>
                </a:cubicBezTo>
                <a:cubicBezTo>
                  <a:pt x="20224" y="13297"/>
                  <a:pt x="20407" y="13274"/>
                  <a:pt x="20588" y="13246"/>
                </a:cubicBezTo>
                <a:cubicBezTo>
                  <a:pt x="20838" y="13208"/>
                  <a:pt x="21082" y="13152"/>
                  <a:pt x="21332" y="13122"/>
                </a:cubicBezTo>
                <a:cubicBezTo>
                  <a:pt x="21508" y="13101"/>
                  <a:pt x="21678" y="13082"/>
                  <a:pt x="21853" y="13047"/>
                </a:cubicBezTo>
                <a:cubicBezTo>
                  <a:pt x="22018" y="13014"/>
                  <a:pt x="22182" y="13006"/>
                  <a:pt x="22349" y="12973"/>
                </a:cubicBezTo>
                <a:cubicBezTo>
                  <a:pt x="22455" y="12952"/>
                  <a:pt x="22601" y="12906"/>
                  <a:pt x="22696" y="12898"/>
                </a:cubicBezTo>
                <a:cubicBezTo>
                  <a:pt x="22774" y="12892"/>
                  <a:pt x="22855" y="12885"/>
                  <a:pt x="22920" y="12874"/>
                </a:cubicBezTo>
                <a:cubicBezTo>
                  <a:pt x="22928" y="12874"/>
                  <a:pt x="22936" y="12874"/>
                  <a:pt x="22944" y="1287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71720" y="2330280"/>
            <a:ext cx="5707080" cy="54000"/>
          </a:xfrm>
          <a:custGeom>
            <a:avLst/>
            <a:gdLst/>
            <a:ahLst/>
            <a:rect l="l" t="t" r="r" b="b"/>
            <a:pathLst>
              <a:path w="15851" h="150">
                <a:moveTo>
                  <a:pt x="3001" y="6573"/>
                </a:moveTo>
                <a:cubicBezTo>
                  <a:pt x="3050" y="6575"/>
                  <a:pt x="3052" y="6570"/>
                  <a:pt x="3101" y="6573"/>
                </a:cubicBezTo>
                <a:cubicBezTo>
                  <a:pt x="3276" y="6584"/>
                  <a:pt x="3447" y="6613"/>
                  <a:pt x="3621" y="6623"/>
                </a:cubicBezTo>
                <a:cubicBezTo>
                  <a:pt x="4094" y="6651"/>
                  <a:pt x="4568" y="6608"/>
                  <a:pt x="5035" y="6573"/>
                </a:cubicBezTo>
                <a:cubicBezTo>
                  <a:pt x="5197" y="6561"/>
                  <a:pt x="5346" y="6544"/>
                  <a:pt x="5507" y="6524"/>
                </a:cubicBezTo>
                <a:cubicBezTo>
                  <a:pt x="5617" y="6511"/>
                  <a:pt x="5744" y="6499"/>
                  <a:pt x="5854" y="6499"/>
                </a:cubicBezTo>
                <a:cubicBezTo>
                  <a:pt x="5998" y="6499"/>
                  <a:pt x="6134" y="6514"/>
                  <a:pt x="6276" y="6524"/>
                </a:cubicBezTo>
                <a:cubicBezTo>
                  <a:pt x="6450" y="6536"/>
                  <a:pt x="6620" y="6554"/>
                  <a:pt x="6796" y="6548"/>
                </a:cubicBezTo>
                <a:cubicBezTo>
                  <a:pt x="6939" y="6543"/>
                  <a:pt x="7074" y="6528"/>
                  <a:pt x="7218" y="6524"/>
                </a:cubicBezTo>
                <a:cubicBezTo>
                  <a:pt x="7436" y="6519"/>
                  <a:pt x="7664" y="6536"/>
                  <a:pt x="7888" y="6524"/>
                </a:cubicBezTo>
                <a:cubicBezTo>
                  <a:pt x="8030" y="6517"/>
                  <a:pt x="8166" y="6503"/>
                  <a:pt x="8310" y="6499"/>
                </a:cubicBezTo>
                <a:cubicBezTo>
                  <a:pt x="9410" y="6466"/>
                  <a:pt x="10514" y="6557"/>
                  <a:pt x="11609" y="6499"/>
                </a:cubicBezTo>
                <a:cubicBezTo>
                  <a:pt x="11806" y="6489"/>
                  <a:pt x="12002" y="6467"/>
                  <a:pt x="12204" y="6474"/>
                </a:cubicBezTo>
                <a:cubicBezTo>
                  <a:pt x="12516" y="6485"/>
                  <a:pt x="12834" y="6505"/>
                  <a:pt x="13146" y="6524"/>
                </a:cubicBezTo>
                <a:cubicBezTo>
                  <a:pt x="13387" y="6539"/>
                  <a:pt x="13625" y="6565"/>
                  <a:pt x="13866" y="6573"/>
                </a:cubicBezTo>
                <a:cubicBezTo>
                  <a:pt x="14074" y="6580"/>
                  <a:pt x="14282" y="6573"/>
                  <a:pt x="14486" y="6573"/>
                </a:cubicBezTo>
                <a:cubicBezTo>
                  <a:pt x="14687" y="6573"/>
                  <a:pt x="14881" y="6553"/>
                  <a:pt x="15081" y="6548"/>
                </a:cubicBezTo>
                <a:cubicBezTo>
                  <a:pt x="15330" y="6542"/>
                  <a:pt x="15576" y="6529"/>
                  <a:pt x="15825" y="6524"/>
                </a:cubicBezTo>
                <a:cubicBezTo>
                  <a:pt x="16116" y="6519"/>
                  <a:pt x="16404" y="6507"/>
                  <a:pt x="16694" y="6499"/>
                </a:cubicBezTo>
                <a:cubicBezTo>
                  <a:pt x="16937" y="6493"/>
                  <a:pt x="17174" y="6506"/>
                  <a:pt x="17413" y="6524"/>
                </a:cubicBezTo>
                <a:cubicBezTo>
                  <a:pt x="17603" y="6538"/>
                  <a:pt x="17792" y="6555"/>
                  <a:pt x="17983" y="6548"/>
                </a:cubicBezTo>
                <a:cubicBezTo>
                  <a:pt x="18125" y="6543"/>
                  <a:pt x="18262" y="6528"/>
                  <a:pt x="18405" y="6524"/>
                </a:cubicBezTo>
                <a:cubicBezTo>
                  <a:pt x="18545" y="6520"/>
                  <a:pt x="18687" y="6524"/>
                  <a:pt x="18827" y="652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98720" y="2455920"/>
            <a:ext cx="5661000" cy="71280"/>
          </a:xfrm>
          <a:custGeom>
            <a:avLst/>
            <a:gdLst/>
            <a:ahLst/>
            <a:rect l="l" t="t" r="r" b="b"/>
            <a:pathLst>
              <a:path w="15727" h="200">
                <a:moveTo>
                  <a:pt x="3076" y="6995"/>
                </a:moveTo>
                <a:cubicBezTo>
                  <a:pt x="3134" y="6990"/>
                  <a:pt x="3117" y="6968"/>
                  <a:pt x="3175" y="6970"/>
                </a:cubicBezTo>
                <a:cubicBezTo>
                  <a:pt x="3309" y="6974"/>
                  <a:pt x="3446" y="6965"/>
                  <a:pt x="3572" y="6970"/>
                </a:cubicBezTo>
                <a:cubicBezTo>
                  <a:pt x="3690" y="6975"/>
                  <a:pt x="3797" y="6997"/>
                  <a:pt x="3919" y="6995"/>
                </a:cubicBezTo>
                <a:cubicBezTo>
                  <a:pt x="4091" y="6992"/>
                  <a:pt x="4268" y="6992"/>
                  <a:pt x="4440" y="6995"/>
                </a:cubicBezTo>
                <a:cubicBezTo>
                  <a:pt x="4880" y="7003"/>
                  <a:pt x="5318" y="6992"/>
                  <a:pt x="5755" y="6970"/>
                </a:cubicBezTo>
                <a:cubicBezTo>
                  <a:pt x="5913" y="6962"/>
                  <a:pt x="6066" y="6947"/>
                  <a:pt x="6226" y="6945"/>
                </a:cubicBezTo>
                <a:cubicBezTo>
                  <a:pt x="6558" y="6942"/>
                  <a:pt x="6887" y="6939"/>
                  <a:pt x="7218" y="6921"/>
                </a:cubicBezTo>
                <a:cubicBezTo>
                  <a:pt x="7417" y="6910"/>
                  <a:pt x="7615" y="6859"/>
                  <a:pt x="7813" y="6846"/>
                </a:cubicBezTo>
                <a:cubicBezTo>
                  <a:pt x="8000" y="6834"/>
                  <a:pt x="8198" y="6818"/>
                  <a:pt x="8384" y="6821"/>
                </a:cubicBezTo>
                <a:cubicBezTo>
                  <a:pt x="8615" y="6825"/>
                  <a:pt x="8849" y="6873"/>
                  <a:pt x="9079" y="6896"/>
                </a:cubicBezTo>
                <a:cubicBezTo>
                  <a:pt x="9309" y="6919"/>
                  <a:pt x="9540" y="6947"/>
                  <a:pt x="9773" y="6945"/>
                </a:cubicBezTo>
                <a:cubicBezTo>
                  <a:pt x="10143" y="6942"/>
                  <a:pt x="10516" y="6907"/>
                  <a:pt x="10889" y="6921"/>
                </a:cubicBezTo>
                <a:cubicBezTo>
                  <a:pt x="11117" y="6929"/>
                  <a:pt x="11333" y="6925"/>
                  <a:pt x="11559" y="6921"/>
                </a:cubicBezTo>
                <a:cubicBezTo>
                  <a:pt x="11744" y="6917"/>
                  <a:pt x="11921" y="6940"/>
                  <a:pt x="12105" y="6945"/>
                </a:cubicBezTo>
                <a:cubicBezTo>
                  <a:pt x="12340" y="6951"/>
                  <a:pt x="12585" y="6945"/>
                  <a:pt x="12824" y="6945"/>
                </a:cubicBezTo>
                <a:cubicBezTo>
                  <a:pt x="13041" y="6945"/>
                  <a:pt x="13255" y="6945"/>
                  <a:pt x="13469" y="6945"/>
                </a:cubicBezTo>
                <a:cubicBezTo>
                  <a:pt x="14150" y="6945"/>
                  <a:pt x="14825" y="6950"/>
                  <a:pt x="15503" y="6995"/>
                </a:cubicBezTo>
                <a:cubicBezTo>
                  <a:pt x="15741" y="7011"/>
                  <a:pt x="15983" y="7028"/>
                  <a:pt x="16222" y="7020"/>
                </a:cubicBezTo>
                <a:cubicBezTo>
                  <a:pt x="16591" y="7007"/>
                  <a:pt x="16969" y="6997"/>
                  <a:pt x="17338" y="6970"/>
                </a:cubicBezTo>
                <a:cubicBezTo>
                  <a:pt x="17447" y="6962"/>
                  <a:pt x="17554" y="6949"/>
                  <a:pt x="17661" y="6945"/>
                </a:cubicBezTo>
                <a:cubicBezTo>
                  <a:pt x="17990" y="6933"/>
                  <a:pt x="18338" y="6935"/>
                  <a:pt x="18653" y="6921"/>
                </a:cubicBezTo>
                <a:cubicBezTo>
                  <a:pt x="18694" y="6919"/>
                  <a:pt x="18736" y="6924"/>
                  <a:pt x="18777" y="69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kill Practice: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0.7,      , 0.751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least to greates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0.27,      , 0.6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219320" y="2590920"/>
          <a:ext cx="3823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3823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971800" y="2666880"/>
          <a:ext cx="5302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66688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371600" y="4876920"/>
          <a:ext cx="453960" cy="88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876920"/>
                    <a:ext cx="45396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819520" y="4952880"/>
          <a:ext cx="32364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952880"/>
                    <a:ext cx="32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5334120"/>
            <a:ext cx="76212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3200" y="2035080"/>
            <a:ext cx="144720" cy="216000"/>
          </a:xfrm>
          <a:custGeom>
            <a:avLst/>
            <a:gdLst/>
            <a:ahLst/>
            <a:rect l="l" t="t" r="r" b="b"/>
            <a:pathLst>
              <a:path w="398" h="597">
                <a:moveTo>
                  <a:pt x="372" y="5655"/>
                </a:moveTo>
                <a:cubicBezTo>
                  <a:pt x="571" y="5762"/>
                  <a:pt x="662" y="5939"/>
                  <a:pt x="744" y="6152"/>
                </a:cubicBezTo>
                <a:cubicBezTo>
                  <a:pt x="752" y="6185"/>
                  <a:pt x="761" y="6218"/>
                  <a:pt x="769" y="625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000" y="1884240"/>
            <a:ext cx="374760" cy="527040"/>
          </a:xfrm>
          <a:custGeom>
            <a:avLst/>
            <a:gdLst/>
            <a:ahLst/>
            <a:rect l="l" t="t" r="r" b="b"/>
            <a:pathLst>
              <a:path w="1043" h="1464">
                <a:moveTo>
                  <a:pt x="521" y="6598"/>
                </a:moveTo>
                <a:cubicBezTo>
                  <a:pt x="862" y="6557"/>
                  <a:pt x="1121" y="6472"/>
                  <a:pt x="1191" y="6077"/>
                </a:cubicBezTo>
                <a:cubicBezTo>
                  <a:pt x="1249" y="5750"/>
                  <a:pt x="1067" y="5328"/>
                  <a:pt x="719" y="5234"/>
                </a:cubicBezTo>
                <a:cubicBezTo>
                  <a:pt x="201" y="5094"/>
                  <a:pt x="107" y="5693"/>
                  <a:pt x="149" y="6052"/>
                </a:cubicBezTo>
                <a:cubicBezTo>
                  <a:pt x="206" y="6537"/>
                  <a:pt x="488" y="6682"/>
                  <a:pt x="893" y="662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27080" y="2367000"/>
            <a:ext cx="571680" cy="187200"/>
          </a:xfrm>
          <a:custGeom>
            <a:avLst/>
            <a:gdLst/>
            <a:ahLst/>
            <a:rect l="l" t="t" r="r" b="b"/>
            <a:pathLst>
              <a:path w="1588" h="522">
                <a:moveTo>
                  <a:pt x="3150" y="6672"/>
                </a:moveTo>
                <a:cubicBezTo>
                  <a:pt x="3088" y="6611"/>
                  <a:pt x="3015" y="6620"/>
                  <a:pt x="2952" y="6697"/>
                </a:cubicBezTo>
                <a:cubicBezTo>
                  <a:pt x="2875" y="6791"/>
                  <a:pt x="2866" y="6908"/>
                  <a:pt x="2853" y="7020"/>
                </a:cubicBezTo>
                <a:cubicBezTo>
                  <a:pt x="3025" y="7098"/>
                  <a:pt x="3171" y="6981"/>
                  <a:pt x="3200" y="6772"/>
                </a:cubicBezTo>
                <a:cubicBezTo>
                  <a:pt x="3217" y="6653"/>
                  <a:pt x="3079" y="6535"/>
                  <a:pt x="3026" y="6623"/>
                </a:cubicBezTo>
              </a:path>
              <a:path w="1588" h="522">
                <a:moveTo>
                  <a:pt x="3423" y="6846"/>
                </a:moveTo>
                <a:cubicBezTo>
                  <a:pt x="3423" y="6871"/>
                  <a:pt x="3423" y="6879"/>
                  <a:pt x="3423" y="6896"/>
                </a:cubicBezTo>
              </a:path>
              <a:path w="1588" h="522">
                <a:moveTo>
                  <a:pt x="3572" y="6722"/>
                </a:moveTo>
                <a:cubicBezTo>
                  <a:pt x="3603" y="6702"/>
                  <a:pt x="3597" y="6697"/>
                  <a:pt x="3597" y="6648"/>
                </a:cubicBezTo>
                <a:cubicBezTo>
                  <a:pt x="3702" y="6639"/>
                  <a:pt x="3772" y="6601"/>
                  <a:pt x="3870" y="6573"/>
                </a:cubicBezTo>
                <a:cubicBezTo>
                  <a:pt x="3860" y="6709"/>
                  <a:pt x="3845" y="6867"/>
                  <a:pt x="3795" y="6995"/>
                </a:cubicBezTo>
                <a:cubicBezTo>
                  <a:pt x="3787" y="7003"/>
                  <a:pt x="3778" y="7012"/>
                  <a:pt x="3770" y="7020"/>
                </a:cubicBezTo>
              </a:path>
              <a:path w="1588" h="522">
                <a:moveTo>
                  <a:pt x="4217" y="6672"/>
                </a:moveTo>
                <a:cubicBezTo>
                  <a:pt x="4178" y="6672"/>
                  <a:pt x="4143" y="6660"/>
                  <a:pt x="4118" y="6697"/>
                </a:cubicBezTo>
                <a:cubicBezTo>
                  <a:pt x="4078" y="6756"/>
                  <a:pt x="4048" y="6800"/>
                  <a:pt x="4043" y="6871"/>
                </a:cubicBezTo>
                <a:cubicBezTo>
                  <a:pt x="4043" y="6879"/>
                  <a:pt x="4043" y="6888"/>
                  <a:pt x="4043" y="6896"/>
                </a:cubicBezTo>
                <a:cubicBezTo>
                  <a:pt x="4148" y="6873"/>
                  <a:pt x="4211" y="6873"/>
                  <a:pt x="4316" y="6896"/>
                </a:cubicBezTo>
                <a:cubicBezTo>
                  <a:pt x="4282" y="7015"/>
                  <a:pt x="4206" y="7094"/>
                  <a:pt x="4068" y="7094"/>
                </a:cubicBezTo>
                <a:cubicBezTo>
                  <a:pt x="4024" y="7094"/>
                  <a:pt x="4022" y="7046"/>
                  <a:pt x="4018" y="7020"/>
                </a:cubicBezTo>
              </a:path>
              <a:path w="1588" h="522">
                <a:moveTo>
                  <a:pt x="4192" y="6697"/>
                </a:moveTo>
                <a:cubicBezTo>
                  <a:pt x="4270" y="6697"/>
                  <a:pt x="4337" y="6677"/>
                  <a:pt x="4415" y="6672"/>
                </a:cubicBezTo>
                <a:cubicBezTo>
                  <a:pt x="4423" y="6672"/>
                  <a:pt x="4432" y="6672"/>
                  <a:pt x="4440" y="667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19240" y="2473200"/>
            <a:ext cx="5135760" cy="2448000"/>
          </a:xfrm>
          <a:custGeom>
            <a:avLst/>
            <a:gdLst/>
            <a:ahLst/>
            <a:rect l="l" t="t" r="r" b="b"/>
            <a:pathLst>
              <a:path w="14264" h="6797">
                <a:moveTo>
                  <a:pt x="19621" y="7342"/>
                </a:moveTo>
                <a:cubicBezTo>
                  <a:pt x="19577" y="7424"/>
                  <a:pt x="19556" y="7471"/>
                  <a:pt x="19546" y="7565"/>
                </a:cubicBezTo>
              </a:path>
              <a:path w="14264" h="6797">
                <a:moveTo>
                  <a:pt x="20687" y="7342"/>
                </a:moveTo>
                <a:cubicBezTo>
                  <a:pt x="20770" y="7301"/>
                  <a:pt x="20786" y="7293"/>
                  <a:pt x="20836" y="7268"/>
                </a:cubicBezTo>
              </a:path>
              <a:path w="14264" h="6797">
                <a:moveTo>
                  <a:pt x="20836" y="7268"/>
                </a:moveTo>
                <a:lnTo>
                  <a:pt x="20836" y="7268"/>
                </a:lnTo>
              </a:path>
              <a:path w="14264" h="6797">
                <a:moveTo>
                  <a:pt x="20638" y="6921"/>
                </a:moveTo>
                <a:cubicBezTo>
                  <a:pt x="20722" y="6864"/>
                  <a:pt x="20752" y="6877"/>
                  <a:pt x="20861" y="6871"/>
                </a:cubicBezTo>
              </a:path>
              <a:path w="14264" h="6797">
                <a:moveTo>
                  <a:pt x="20861" y="6871"/>
                </a:moveTo>
                <a:lnTo>
                  <a:pt x="20861" y="6871"/>
                </a:lnTo>
              </a:path>
              <a:path w="14264" h="6797">
                <a:moveTo>
                  <a:pt x="21183" y="7268"/>
                </a:moveTo>
                <a:lnTo>
                  <a:pt x="21183" y="7268"/>
                </a:lnTo>
              </a:path>
              <a:path w="14264" h="6797">
                <a:moveTo>
                  <a:pt x="21878" y="7045"/>
                </a:moveTo>
                <a:cubicBezTo>
                  <a:pt x="22041" y="7020"/>
                  <a:pt x="22224" y="6964"/>
                  <a:pt x="22374" y="7020"/>
                </a:cubicBezTo>
              </a:path>
              <a:path w="14264" h="6797">
                <a:moveTo>
                  <a:pt x="21927" y="7193"/>
                </a:moveTo>
                <a:cubicBezTo>
                  <a:pt x="21893" y="7268"/>
                  <a:pt x="21861" y="7342"/>
                  <a:pt x="21828" y="7417"/>
                </a:cubicBezTo>
              </a:path>
              <a:path w="14264" h="6797">
                <a:moveTo>
                  <a:pt x="19844" y="8558"/>
                </a:moveTo>
                <a:lnTo>
                  <a:pt x="19844" y="8558"/>
                </a:lnTo>
              </a:path>
              <a:path w="14264" h="6797">
                <a:moveTo>
                  <a:pt x="19968" y="8285"/>
                </a:moveTo>
                <a:cubicBezTo>
                  <a:pt x="19976" y="8301"/>
                  <a:pt x="19985" y="8318"/>
                  <a:pt x="19993" y="8334"/>
                </a:cubicBezTo>
              </a:path>
              <a:path w="14264" h="6797">
                <a:moveTo>
                  <a:pt x="21456" y="8161"/>
                </a:moveTo>
                <a:cubicBezTo>
                  <a:pt x="21639" y="8147"/>
                  <a:pt x="21821" y="8135"/>
                  <a:pt x="22002" y="8111"/>
                </a:cubicBezTo>
              </a:path>
              <a:path w="14264" h="6797">
                <a:moveTo>
                  <a:pt x="9153" y="7045"/>
                </a:moveTo>
                <a:lnTo>
                  <a:pt x="9153" y="7045"/>
                </a:lnTo>
                <a:lnTo>
                  <a:pt x="9153" y="7045"/>
                </a:lnTo>
              </a:path>
              <a:path w="14264" h="6797">
                <a:moveTo>
                  <a:pt x="11261" y="8458"/>
                </a:moveTo>
                <a:lnTo>
                  <a:pt x="11261" y="8458"/>
                </a:lnTo>
              </a:path>
              <a:path w="14264" h="6797">
                <a:moveTo>
                  <a:pt x="14610" y="7987"/>
                </a:moveTo>
                <a:cubicBezTo>
                  <a:pt x="14610" y="8039"/>
                  <a:pt x="14611" y="8057"/>
                  <a:pt x="14635" y="8086"/>
                </a:cubicBezTo>
              </a:path>
              <a:path w="14264" h="6797">
                <a:moveTo>
                  <a:pt x="14858" y="8632"/>
                </a:moveTo>
                <a:cubicBezTo>
                  <a:pt x="14858" y="8657"/>
                  <a:pt x="14858" y="8665"/>
                  <a:pt x="14883" y="8657"/>
                </a:cubicBezTo>
              </a:path>
              <a:path w="14264" h="6797">
                <a:moveTo>
                  <a:pt x="16297" y="11137"/>
                </a:moveTo>
                <a:cubicBezTo>
                  <a:pt x="16253" y="11338"/>
                  <a:pt x="16295" y="11361"/>
                  <a:pt x="16123" y="11385"/>
                </a:cubicBezTo>
              </a:path>
              <a:path w="14264" h="6797">
                <a:moveTo>
                  <a:pt x="9947" y="11385"/>
                </a:moveTo>
                <a:cubicBezTo>
                  <a:pt x="9911" y="11499"/>
                  <a:pt x="9918" y="11568"/>
                  <a:pt x="9823" y="11584"/>
                </a:cubicBezTo>
              </a:path>
              <a:path w="14264" h="6797">
                <a:moveTo>
                  <a:pt x="11311" y="11088"/>
                </a:moveTo>
                <a:cubicBezTo>
                  <a:pt x="11336" y="11137"/>
                  <a:pt x="11345" y="11154"/>
                  <a:pt x="11361" y="11187"/>
                </a:cubicBezTo>
              </a:path>
              <a:path w="14264" h="6797">
                <a:moveTo>
                  <a:pt x="12080" y="10641"/>
                </a:moveTo>
                <a:cubicBezTo>
                  <a:pt x="12180" y="10621"/>
                  <a:pt x="12277" y="10601"/>
                  <a:pt x="12378" y="10592"/>
                </a:cubicBezTo>
              </a:path>
              <a:path w="14264" h="6797">
                <a:moveTo>
                  <a:pt x="12799" y="11187"/>
                </a:moveTo>
                <a:cubicBezTo>
                  <a:pt x="12789" y="11302"/>
                  <a:pt x="12765" y="11380"/>
                  <a:pt x="12725" y="11485"/>
                </a:cubicBezTo>
              </a:path>
              <a:path w="14264" h="6797">
                <a:moveTo>
                  <a:pt x="8384" y="10443"/>
                </a:moveTo>
                <a:cubicBezTo>
                  <a:pt x="8376" y="10443"/>
                  <a:pt x="8367" y="10443"/>
                  <a:pt x="8359" y="10443"/>
                </a:cubicBezTo>
              </a:path>
              <a:path w="14264" h="6797">
                <a:moveTo>
                  <a:pt x="12154" y="10170"/>
                </a:moveTo>
                <a:cubicBezTo>
                  <a:pt x="12226" y="10372"/>
                  <a:pt x="12253" y="10458"/>
                  <a:pt x="12030" y="10418"/>
                </a:cubicBezTo>
              </a:path>
              <a:path w="14264" h="6797">
                <a:moveTo>
                  <a:pt x="14908" y="10195"/>
                </a:moveTo>
                <a:cubicBezTo>
                  <a:pt x="14934" y="10311"/>
                  <a:pt x="14966" y="10397"/>
                  <a:pt x="14858" y="10443"/>
                </a:cubicBezTo>
              </a:path>
              <a:path w="14264" h="6797">
                <a:moveTo>
                  <a:pt x="17388" y="9947"/>
                </a:moveTo>
                <a:cubicBezTo>
                  <a:pt x="17388" y="9914"/>
                  <a:pt x="17396" y="9905"/>
                  <a:pt x="17438" y="9922"/>
                </a:cubicBezTo>
              </a:path>
              <a:path w="14264" h="6797">
                <a:moveTo>
                  <a:pt x="8111" y="13618"/>
                </a:moveTo>
                <a:cubicBezTo>
                  <a:pt x="8111" y="13634"/>
                  <a:pt x="8111" y="13651"/>
                  <a:pt x="8111" y="136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24120" y="3463920"/>
            <a:ext cx="1857240" cy="1465200"/>
          </a:xfrm>
          <a:custGeom>
            <a:avLst/>
            <a:gdLst/>
            <a:ahLst/>
            <a:rect l="l" t="t" r="r" b="b"/>
            <a:pathLst>
              <a:path w="5161" h="4069">
                <a:moveTo>
                  <a:pt x="7938" y="10889"/>
                </a:moveTo>
                <a:cubicBezTo>
                  <a:pt x="7789" y="10922"/>
                  <a:pt x="7688" y="11091"/>
                  <a:pt x="7640" y="11237"/>
                </a:cubicBezTo>
                <a:cubicBezTo>
                  <a:pt x="7618" y="11389"/>
                  <a:pt x="7600" y="11428"/>
                  <a:pt x="7665" y="11509"/>
                </a:cubicBezTo>
                <a:cubicBezTo>
                  <a:pt x="7874" y="11452"/>
                  <a:pt x="8148" y="11301"/>
                  <a:pt x="8086" y="11013"/>
                </a:cubicBezTo>
                <a:cubicBezTo>
                  <a:pt x="8061" y="10898"/>
                  <a:pt x="7906" y="10875"/>
                  <a:pt x="7863" y="10939"/>
                </a:cubicBezTo>
              </a:path>
              <a:path w="5161" h="4069">
                <a:moveTo>
                  <a:pt x="8186" y="11212"/>
                </a:moveTo>
                <a:cubicBezTo>
                  <a:pt x="8186" y="11257"/>
                  <a:pt x="8186" y="11432"/>
                  <a:pt x="8186" y="11385"/>
                </a:cubicBezTo>
              </a:path>
              <a:path w="5161" h="4069">
                <a:moveTo>
                  <a:pt x="8458" y="11013"/>
                </a:moveTo>
                <a:cubicBezTo>
                  <a:pt x="8553" y="11013"/>
                  <a:pt x="8638" y="10960"/>
                  <a:pt x="8731" y="10939"/>
                </a:cubicBezTo>
                <a:cubicBezTo>
                  <a:pt x="8739" y="10939"/>
                  <a:pt x="8748" y="10939"/>
                  <a:pt x="8756" y="10939"/>
                </a:cubicBezTo>
                <a:cubicBezTo>
                  <a:pt x="8745" y="11105"/>
                  <a:pt x="8707" y="11251"/>
                  <a:pt x="8657" y="11410"/>
                </a:cubicBezTo>
              </a:path>
              <a:path w="5161" h="4069">
                <a:moveTo>
                  <a:pt x="9203" y="10815"/>
                </a:moveTo>
                <a:cubicBezTo>
                  <a:pt x="9169" y="10826"/>
                  <a:pt x="8991" y="10841"/>
                  <a:pt x="8979" y="10864"/>
                </a:cubicBezTo>
                <a:cubicBezTo>
                  <a:pt x="8946" y="10924"/>
                  <a:pt x="8946" y="11033"/>
                  <a:pt x="8979" y="11088"/>
                </a:cubicBezTo>
                <a:cubicBezTo>
                  <a:pt x="9073" y="11050"/>
                  <a:pt x="9266" y="10974"/>
                  <a:pt x="9252" y="11162"/>
                </a:cubicBezTo>
                <a:cubicBezTo>
                  <a:pt x="9244" y="11274"/>
                  <a:pt x="9019" y="11500"/>
                  <a:pt x="8930" y="11336"/>
                </a:cubicBezTo>
                <a:cubicBezTo>
                  <a:pt x="8930" y="11311"/>
                  <a:pt x="8930" y="11286"/>
                  <a:pt x="8930" y="11261"/>
                </a:cubicBezTo>
              </a:path>
              <a:path w="5161" h="4069">
                <a:moveTo>
                  <a:pt x="9575" y="10765"/>
                </a:moveTo>
                <a:cubicBezTo>
                  <a:pt x="9575" y="10939"/>
                  <a:pt x="9575" y="11112"/>
                  <a:pt x="9575" y="11286"/>
                </a:cubicBezTo>
              </a:path>
              <a:path w="5161" h="4069">
                <a:moveTo>
                  <a:pt x="10914" y="10716"/>
                </a:moveTo>
                <a:cubicBezTo>
                  <a:pt x="10827" y="10846"/>
                  <a:pt x="10730" y="10942"/>
                  <a:pt x="10765" y="11137"/>
                </a:cubicBezTo>
                <a:cubicBezTo>
                  <a:pt x="10782" y="11170"/>
                  <a:pt x="10798" y="11204"/>
                  <a:pt x="10815" y="11237"/>
                </a:cubicBezTo>
                <a:cubicBezTo>
                  <a:pt x="10971" y="11159"/>
                  <a:pt x="11143" y="11001"/>
                  <a:pt x="11038" y="10790"/>
                </a:cubicBezTo>
                <a:cubicBezTo>
                  <a:pt x="10975" y="10747"/>
                  <a:pt x="10963" y="10731"/>
                  <a:pt x="10914" y="10740"/>
                </a:cubicBezTo>
              </a:path>
              <a:path w="5161" h="4069">
                <a:moveTo>
                  <a:pt x="11485" y="10691"/>
                </a:moveTo>
                <a:cubicBezTo>
                  <a:pt x="11584" y="10691"/>
                  <a:pt x="11664" y="10675"/>
                  <a:pt x="11757" y="10641"/>
                </a:cubicBezTo>
                <a:cubicBezTo>
                  <a:pt x="11811" y="10748"/>
                  <a:pt x="11777" y="10892"/>
                  <a:pt x="11757" y="11013"/>
                </a:cubicBezTo>
                <a:cubicBezTo>
                  <a:pt x="11747" y="11074"/>
                  <a:pt x="11730" y="11193"/>
                  <a:pt x="11757" y="11137"/>
                </a:cubicBezTo>
              </a:path>
              <a:path w="5161" h="4069">
                <a:moveTo>
                  <a:pt x="12055" y="10716"/>
                </a:moveTo>
                <a:cubicBezTo>
                  <a:pt x="12000" y="10770"/>
                  <a:pt x="11980" y="10791"/>
                  <a:pt x="11956" y="10840"/>
                </a:cubicBezTo>
                <a:cubicBezTo>
                  <a:pt x="12033" y="10855"/>
                  <a:pt x="12166" y="10885"/>
                  <a:pt x="12204" y="10964"/>
                </a:cubicBezTo>
                <a:cubicBezTo>
                  <a:pt x="12289" y="11140"/>
                  <a:pt x="11967" y="11027"/>
                  <a:pt x="11931" y="11013"/>
                </a:cubicBezTo>
              </a:path>
              <a:path w="5161" h="4069">
                <a:moveTo>
                  <a:pt x="12526" y="10616"/>
                </a:moveTo>
                <a:cubicBezTo>
                  <a:pt x="12388" y="10805"/>
                  <a:pt x="12343" y="10912"/>
                  <a:pt x="12427" y="11137"/>
                </a:cubicBezTo>
                <a:cubicBezTo>
                  <a:pt x="12568" y="11081"/>
                  <a:pt x="12846" y="10932"/>
                  <a:pt x="12700" y="10716"/>
                </a:cubicBezTo>
                <a:cubicBezTo>
                  <a:pt x="12647" y="10637"/>
                  <a:pt x="12535" y="10666"/>
                  <a:pt x="12502" y="10691"/>
                </a:cubicBezTo>
              </a:path>
              <a:path w="5161" h="4069">
                <a:moveTo>
                  <a:pt x="8037" y="10145"/>
                </a:moveTo>
                <a:cubicBezTo>
                  <a:pt x="8021" y="10113"/>
                  <a:pt x="7997" y="10098"/>
                  <a:pt x="7962" y="10071"/>
                </a:cubicBezTo>
                <a:cubicBezTo>
                  <a:pt x="7825" y="10071"/>
                  <a:pt x="7840" y="10251"/>
                  <a:pt x="7813" y="10344"/>
                </a:cubicBezTo>
                <a:cubicBezTo>
                  <a:pt x="7790" y="10416"/>
                  <a:pt x="7780" y="10438"/>
                  <a:pt x="7838" y="10468"/>
                </a:cubicBezTo>
                <a:cubicBezTo>
                  <a:pt x="7926" y="10397"/>
                  <a:pt x="8162" y="10250"/>
                  <a:pt x="8086" y="10096"/>
                </a:cubicBezTo>
                <a:cubicBezTo>
                  <a:pt x="8063" y="10049"/>
                  <a:pt x="7976" y="10156"/>
                  <a:pt x="7962" y="10170"/>
                </a:cubicBezTo>
              </a:path>
              <a:path w="5161" h="4069">
                <a:moveTo>
                  <a:pt x="8632" y="10096"/>
                </a:moveTo>
                <a:cubicBezTo>
                  <a:pt x="8692" y="10084"/>
                  <a:pt x="8748" y="10068"/>
                  <a:pt x="8806" y="10046"/>
                </a:cubicBezTo>
                <a:cubicBezTo>
                  <a:pt x="8862" y="10162"/>
                  <a:pt x="8789" y="10294"/>
                  <a:pt x="8756" y="10418"/>
                </a:cubicBezTo>
              </a:path>
              <a:path w="5161" h="4069">
                <a:moveTo>
                  <a:pt x="8930" y="10120"/>
                </a:moveTo>
                <a:cubicBezTo>
                  <a:pt x="8908" y="10158"/>
                  <a:pt x="8889" y="10183"/>
                  <a:pt x="8880" y="10220"/>
                </a:cubicBezTo>
                <a:cubicBezTo>
                  <a:pt x="8946" y="10252"/>
                  <a:pt x="9048" y="10292"/>
                  <a:pt x="9004" y="10393"/>
                </a:cubicBezTo>
                <a:cubicBezTo>
                  <a:pt x="8979" y="10451"/>
                  <a:pt x="8922" y="10443"/>
                  <a:pt x="8880" y="10468"/>
                </a:cubicBezTo>
              </a:path>
              <a:path w="5161" h="4069">
                <a:moveTo>
                  <a:pt x="8930" y="10120"/>
                </a:moveTo>
                <a:cubicBezTo>
                  <a:pt x="8997" y="10120"/>
                  <a:pt x="9118" y="10066"/>
                  <a:pt x="9153" y="10071"/>
                </a:cubicBezTo>
                <a:cubicBezTo>
                  <a:pt x="9153" y="10079"/>
                  <a:pt x="9153" y="10088"/>
                  <a:pt x="9153" y="10096"/>
                </a:cubicBezTo>
              </a:path>
              <a:path w="5161" h="4069">
                <a:moveTo>
                  <a:pt x="9426" y="10046"/>
                </a:moveTo>
                <a:cubicBezTo>
                  <a:pt x="9418" y="10163"/>
                  <a:pt x="9401" y="10275"/>
                  <a:pt x="9401" y="10393"/>
                </a:cubicBezTo>
                <a:cubicBezTo>
                  <a:pt x="9401" y="10401"/>
                  <a:pt x="9401" y="10410"/>
                  <a:pt x="9401" y="10418"/>
                </a:cubicBezTo>
              </a:path>
              <a:path w="5161" h="4069">
                <a:moveTo>
                  <a:pt x="9773" y="10790"/>
                </a:moveTo>
                <a:cubicBezTo>
                  <a:pt x="9773" y="10815"/>
                  <a:pt x="9773" y="10823"/>
                  <a:pt x="9773" y="10840"/>
                </a:cubicBezTo>
              </a:path>
              <a:path w="5161" h="4069">
                <a:moveTo>
                  <a:pt x="9872" y="10443"/>
                </a:moveTo>
                <a:cubicBezTo>
                  <a:pt x="9882" y="10612"/>
                  <a:pt x="9924" y="10676"/>
                  <a:pt x="9798" y="10790"/>
                </a:cubicBezTo>
              </a:path>
              <a:path w="5161" h="4069">
                <a:moveTo>
                  <a:pt x="11212" y="9748"/>
                </a:moveTo>
                <a:cubicBezTo>
                  <a:pt x="11212" y="9669"/>
                  <a:pt x="11272" y="9660"/>
                  <a:pt x="11336" y="9624"/>
                </a:cubicBezTo>
                <a:cubicBezTo>
                  <a:pt x="11349" y="9699"/>
                  <a:pt x="11380" y="9775"/>
                  <a:pt x="11286" y="9798"/>
                </a:cubicBezTo>
                <a:cubicBezTo>
                  <a:pt x="11322" y="9798"/>
                  <a:pt x="11393" y="9791"/>
                  <a:pt x="11385" y="9847"/>
                </a:cubicBezTo>
                <a:cubicBezTo>
                  <a:pt x="11369" y="9952"/>
                  <a:pt x="11306" y="9980"/>
                  <a:pt x="11212" y="9996"/>
                </a:cubicBezTo>
              </a:path>
              <a:path w="5161" h="4069">
                <a:moveTo>
                  <a:pt x="11088" y="10071"/>
                </a:moveTo>
                <a:cubicBezTo>
                  <a:pt x="11235" y="10044"/>
                  <a:pt x="11382" y="9995"/>
                  <a:pt x="11534" y="9971"/>
                </a:cubicBezTo>
                <a:cubicBezTo>
                  <a:pt x="11542" y="9971"/>
                  <a:pt x="11551" y="9971"/>
                  <a:pt x="11559" y="9971"/>
                </a:cubicBezTo>
              </a:path>
              <a:path w="5161" h="4069">
                <a:moveTo>
                  <a:pt x="11237" y="10170"/>
                </a:moveTo>
                <a:cubicBezTo>
                  <a:pt x="11152" y="10310"/>
                  <a:pt x="11318" y="10237"/>
                  <a:pt x="11385" y="10220"/>
                </a:cubicBezTo>
                <a:cubicBezTo>
                  <a:pt x="11393" y="10220"/>
                  <a:pt x="11402" y="10220"/>
                  <a:pt x="11410" y="10220"/>
                </a:cubicBezTo>
              </a:path>
              <a:path w="5161" h="4069">
                <a:moveTo>
                  <a:pt x="11435" y="10096"/>
                </a:moveTo>
                <a:cubicBezTo>
                  <a:pt x="11435" y="10193"/>
                  <a:pt x="11394" y="10300"/>
                  <a:pt x="11410" y="10393"/>
                </a:cubicBezTo>
                <a:cubicBezTo>
                  <a:pt x="11418" y="10410"/>
                  <a:pt x="11427" y="10426"/>
                  <a:pt x="11435" y="10443"/>
                </a:cubicBezTo>
              </a:path>
              <a:path w="5161" h="4069">
                <a:moveTo>
                  <a:pt x="7863" y="13171"/>
                </a:moveTo>
                <a:cubicBezTo>
                  <a:pt x="7700" y="13207"/>
                  <a:pt x="7606" y="13381"/>
                  <a:pt x="7565" y="13543"/>
                </a:cubicBezTo>
                <a:cubicBezTo>
                  <a:pt x="7565" y="13584"/>
                  <a:pt x="7565" y="13626"/>
                  <a:pt x="7565" y="13667"/>
                </a:cubicBezTo>
                <a:cubicBezTo>
                  <a:pt x="7745" y="13668"/>
                  <a:pt x="7925" y="13544"/>
                  <a:pt x="7913" y="13320"/>
                </a:cubicBezTo>
                <a:cubicBezTo>
                  <a:pt x="7909" y="13249"/>
                  <a:pt x="7838" y="13231"/>
                  <a:pt x="7789" y="132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84840" y="2276640"/>
            <a:ext cx="3268440" cy="1768320"/>
          </a:xfrm>
          <a:custGeom>
            <a:avLst/>
            <a:gdLst/>
            <a:ahLst/>
            <a:rect l="l" t="t" r="r" b="b"/>
            <a:pathLst>
              <a:path w="9080" h="4913">
                <a:moveTo>
                  <a:pt x="19496" y="6722"/>
                </a:moveTo>
                <a:cubicBezTo>
                  <a:pt x="19476" y="6700"/>
                  <a:pt x="19590" y="6680"/>
                  <a:pt x="19645" y="6672"/>
                </a:cubicBezTo>
                <a:cubicBezTo>
                  <a:pt x="19775" y="6653"/>
                  <a:pt x="19626" y="6791"/>
                  <a:pt x="19596" y="6821"/>
                </a:cubicBezTo>
                <a:cubicBezTo>
                  <a:pt x="19684" y="6834"/>
                  <a:pt x="19693" y="6844"/>
                  <a:pt x="19745" y="6896"/>
                </a:cubicBezTo>
                <a:cubicBezTo>
                  <a:pt x="19687" y="7011"/>
                  <a:pt x="19602" y="7015"/>
                  <a:pt x="19472" y="6995"/>
                </a:cubicBezTo>
              </a:path>
              <a:path w="9080" h="4913">
                <a:moveTo>
                  <a:pt x="19224" y="7169"/>
                </a:moveTo>
                <a:cubicBezTo>
                  <a:pt x="19346" y="7163"/>
                  <a:pt x="19564" y="7093"/>
                  <a:pt x="19670" y="7169"/>
                </a:cubicBezTo>
                <a:cubicBezTo>
                  <a:pt x="19670" y="7177"/>
                  <a:pt x="19670" y="7185"/>
                  <a:pt x="19670" y="7193"/>
                </a:cubicBezTo>
              </a:path>
              <a:path w="9080" h="4913">
                <a:moveTo>
                  <a:pt x="19372" y="7268"/>
                </a:moveTo>
                <a:cubicBezTo>
                  <a:pt x="19372" y="7318"/>
                  <a:pt x="19372" y="7367"/>
                  <a:pt x="19372" y="7417"/>
                </a:cubicBezTo>
                <a:cubicBezTo>
                  <a:pt x="19481" y="7427"/>
                  <a:pt x="19498" y="7429"/>
                  <a:pt x="19596" y="7392"/>
                </a:cubicBezTo>
              </a:path>
              <a:path w="9080" h="4913">
                <a:moveTo>
                  <a:pt x="20092" y="7218"/>
                </a:moveTo>
                <a:cubicBezTo>
                  <a:pt x="20141" y="7218"/>
                  <a:pt x="20158" y="7218"/>
                  <a:pt x="20191" y="7218"/>
                </a:cubicBezTo>
              </a:path>
              <a:path w="9080" h="4913">
                <a:moveTo>
                  <a:pt x="20117" y="7293"/>
                </a:moveTo>
                <a:cubicBezTo>
                  <a:pt x="20158" y="7293"/>
                  <a:pt x="20183" y="7293"/>
                  <a:pt x="20216" y="7293"/>
                </a:cubicBezTo>
              </a:path>
              <a:path w="9080" h="4913">
                <a:moveTo>
                  <a:pt x="20117" y="7169"/>
                </a:moveTo>
                <a:cubicBezTo>
                  <a:pt x="20093" y="7203"/>
                  <a:pt x="20129" y="7253"/>
                  <a:pt x="20166" y="7317"/>
                </a:cubicBezTo>
              </a:path>
              <a:path w="9080" h="4913">
                <a:moveTo>
                  <a:pt x="20191" y="7193"/>
                </a:moveTo>
                <a:cubicBezTo>
                  <a:pt x="20118" y="7252"/>
                  <a:pt x="20108" y="7262"/>
                  <a:pt x="20067" y="7342"/>
                </a:cubicBezTo>
              </a:path>
              <a:path w="9080" h="4913">
                <a:moveTo>
                  <a:pt x="20414" y="7243"/>
                </a:moveTo>
                <a:cubicBezTo>
                  <a:pt x="20471" y="7275"/>
                  <a:pt x="20621" y="7330"/>
                  <a:pt x="20538" y="7417"/>
                </a:cubicBezTo>
                <a:cubicBezTo>
                  <a:pt x="20452" y="7481"/>
                  <a:pt x="20436" y="7506"/>
                  <a:pt x="20365" y="7491"/>
                </a:cubicBezTo>
                <a:cubicBezTo>
                  <a:pt x="20357" y="7491"/>
                  <a:pt x="20348" y="7491"/>
                  <a:pt x="20340" y="7491"/>
                </a:cubicBezTo>
                <a:cubicBezTo>
                  <a:pt x="20426" y="7480"/>
                  <a:pt x="20515" y="7442"/>
                  <a:pt x="20563" y="7491"/>
                </a:cubicBezTo>
              </a:path>
              <a:path w="9080" h="4913">
                <a:moveTo>
                  <a:pt x="20737" y="7293"/>
                </a:moveTo>
                <a:cubicBezTo>
                  <a:pt x="20737" y="7344"/>
                  <a:pt x="20791" y="7400"/>
                  <a:pt x="20786" y="7441"/>
                </a:cubicBezTo>
                <a:cubicBezTo>
                  <a:pt x="20740" y="7441"/>
                  <a:pt x="20714" y="7429"/>
                  <a:pt x="20687" y="7392"/>
                </a:cubicBezTo>
              </a:path>
              <a:path w="9080" h="4913">
                <a:moveTo>
                  <a:pt x="20340" y="7144"/>
                </a:moveTo>
                <a:cubicBezTo>
                  <a:pt x="20456" y="7144"/>
                  <a:pt x="20571" y="7144"/>
                  <a:pt x="20687" y="7144"/>
                </a:cubicBezTo>
              </a:path>
              <a:path w="9080" h="4913">
                <a:moveTo>
                  <a:pt x="20365" y="6846"/>
                </a:moveTo>
                <a:cubicBezTo>
                  <a:pt x="20419" y="6851"/>
                  <a:pt x="20591" y="6852"/>
                  <a:pt x="20513" y="6970"/>
                </a:cubicBezTo>
                <a:cubicBezTo>
                  <a:pt x="20458" y="6998"/>
                  <a:pt x="20435" y="7006"/>
                  <a:pt x="20389" y="6995"/>
                </a:cubicBezTo>
                <a:cubicBezTo>
                  <a:pt x="20455" y="7021"/>
                  <a:pt x="20475" y="7036"/>
                  <a:pt x="20538" y="7045"/>
                </a:cubicBezTo>
              </a:path>
              <a:path w="9080" h="4913">
                <a:moveTo>
                  <a:pt x="20687" y="6846"/>
                </a:moveTo>
                <a:cubicBezTo>
                  <a:pt x="20698" y="6890"/>
                  <a:pt x="20780" y="6955"/>
                  <a:pt x="20786" y="6970"/>
                </a:cubicBezTo>
                <a:cubicBezTo>
                  <a:pt x="20786" y="7020"/>
                  <a:pt x="20786" y="7036"/>
                  <a:pt x="20737" y="7020"/>
                </a:cubicBezTo>
              </a:path>
              <a:path w="9080" h="4913">
                <a:moveTo>
                  <a:pt x="21059" y="7193"/>
                </a:moveTo>
                <a:cubicBezTo>
                  <a:pt x="21125" y="7193"/>
                  <a:pt x="21116" y="7174"/>
                  <a:pt x="21183" y="7193"/>
                </a:cubicBezTo>
              </a:path>
              <a:path w="9080" h="4913">
                <a:moveTo>
                  <a:pt x="21059" y="7268"/>
                </a:moveTo>
                <a:cubicBezTo>
                  <a:pt x="21109" y="7268"/>
                  <a:pt x="21142" y="7268"/>
                  <a:pt x="21183" y="7268"/>
                </a:cubicBezTo>
              </a:path>
              <a:path w="9080" h="4913">
                <a:moveTo>
                  <a:pt x="21853" y="6722"/>
                </a:moveTo>
                <a:cubicBezTo>
                  <a:pt x="21876" y="6699"/>
                  <a:pt x="21948" y="6683"/>
                  <a:pt x="22002" y="6672"/>
                </a:cubicBezTo>
                <a:cubicBezTo>
                  <a:pt x="21990" y="6777"/>
                  <a:pt x="21973" y="6846"/>
                  <a:pt x="21927" y="6945"/>
                </a:cubicBezTo>
              </a:path>
              <a:path w="9080" h="4913">
                <a:moveTo>
                  <a:pt x="22200" y="6697"/>
                </a:moveTo>
                <a:cubicBezTo>
                  <a:pt x="22192" y="6714"/>
                  <a:pt x="22183" y="6730"/>
                  <a:pt x="22175" y="6747"/>
                </a:cubicBezTo>
                <a:cubicBezTo>
                  <a:pt x="22273" y="6812"/>
                  <a:pt x="22370" y="6863"/>
                  <a:pt x="22225" y="6896"/>
                </a:cubicBezTo>
              </a:path>
              <a:path w="9080" h="4913">
                <a:moveTo>
                  <a:pt x="22299" y="6648"/>
                </a:moveTo>
                <a:cubicBezTo>
                  <a:pt x="22357" y="6648"/>
                  <a:pt x="22366" y="6648"/>
                  <a:pt x="22399" y="6648"/>
                </a:cubicBezTo>
              </a:path>
              <a:path w="9080" h="4913">
                <a:moveTo>
                  <a:pt x="22225" y="7193"/>
                </a:moveTo>
                <a:cubicBezTo>
                  <a:pt x="22157" y="7274"/>
                  <a:pt x="22113" y="7300"/>
                  <a:pt x="22126" y="7392"/>
                </a:cubicBezTo>
                <a:cubicBezTo>
                  <a:pt x="22172" y="7369"/>
                  <a:pt x="22336" y="7327"/>
                  <a:pt x="22275" y="7243"/>
                </a:cubicBezTo>
                <a:cubicBezTo>
                  <a:pt x="22267" y="7243"/>
                  <a:pt x="22258" y="7243"/>
                  <a:pt x="22250" y="7243"/>
                </a:cubicBezTo>
              </a:path>
              <a:path w="9080" h="4913">
                <a:moveTo>
                  <a:pt x="22547" y="7193"/>
                </a:moveTo>
                <a:cubicBezTo>
                  <a:pt x="22449" y="7259"/>
                  <a:pt x="22478" y="7225"/>
                  <a:pt x="22423" y="7342"/>
                </a:cubicBezTo>
                <a:cubicBezTo>
                  <a:pt x="22450" y="7354"/>
                  <a:pt x="22701" y="7375"/>
                  <a:pt x="22647" y="7268"/>
                </a:cubicBezTo>
                <a:cubicBezTo>
                  <a:pt x="22622" y="7251"/>
                  <a:pt x="22597" y="7235"/>
                  <a:pt x="22572" y="7218"/>
                </a:cubicBezTo>
              </a:path>
              <a:path w="9080" h="4913">
                <a:moveTo>
                  <a:pt x="19372" y="8086"/>
                </a:moveTo>
                <a:cubicBezTo>
                  <a:pt x="19434" y="8071"/>
                  <a:pt x="19458" y="8030"/>
                  <a:pt x="19472" y="7962"/>
                </a:cubicBezTo>
                <a:cubicBezTo>
                  <a:pt x="19472" y="7946"/>
                  <a:pt x="19472" y="7929"/>
                  <a:pt x="19472" y="7913"/>
                </a:cubicBezTo>
                <a:cubicBezTo>
                  <a:pt x="19408" y="7913"/>
                  <a:pt x="19274" y="7911"/>
                  <a:pt x="19348" y="8012"/>
                </a:cubicBezTo>
                <a:cubicBezTo>
                  <a:pt x="19369" y="8040"/>
                  <a:pt x="19451" y="7992"/>
                  <a:pt x="19472" y="7987"/>
                </a:cubicBezTo>
                <a:cubicBezTo>
                  <a:pt x="19472" y="8078"/>
                  <a:pt x="19484" y="8157"/>
                  <a:pt x="19472" y="8235"/>
                </a:cubicBezTo>
                <a:cubicBezTo>
                  <a:pt x="19472" y="8243"/>
                  <a:pt x="19472" y="8252"/>
                  <a:pt x="19472" y="8260"/>
                </a:cubicBezTo>
              </a:path>
              <a:path w="9080" h="4913">
                <a:moveTo>
                  <a:pt x="19124" y="8384"/>
                </a:moveTo>
                <a:cubicBezTo>
                  <a:pt x="19252" y="8368"/>
                  <a:pt x="19528" y="8293"/>
                  <a:pt x="19645" y="8359"/>
                </a:cubicBezTo>
                <a:cubicBezTo>
                  <a:pt x="19645" y="8367"/>
                  <a:pt x="19645" y="8376"/>
                  <a:pt x="19645" y="8384"/>
                </a:cubicBezTo>
              </a:path>
              <a:path w="9080" h="4913">
                <a:moveTo>
                  <a:pt x="19199" y="8607"/>
                </a:moveTo>
                <a:cubicBezTo>
                  <a:pt x="19241" y="8615"/>
                  <a:pt x="19356" y="8636"/>
                  <a:pt x="19323" y="8706"/>
                </a:cubicBezTo>
                <a:cubicBezTo>
                  <a:pt x="19266" y="8763"/>
                  <a:pt x="19239" y="8783"/>
                  <a:pt x="19174" y="8781"/>
                </a:cubicBezTo>
                <a:cubicBezTo>
                  <a:pt x="19166" y="8773"/>
                  <a:pt x="19157" y="8764"/>
                  <a:pt x="19149" y="8756"/>
                </a:cubicBezTo>
                <a:cubicBezTo>
                  <a:pt x="19298" y="8736"/>
                  <a:pt x="19284" y="8739"/>
                  <a:pt x="19348" y="8806"/>
                </a:cubicBezTo>
                <a:cubicBezTo>
                  <a:pt x="19356" y="8806"/>
                  <a:pt x="19364" y="8806"/>
                  <a:pt x="19372" y="8806"/>
                </a:cubicBezTo>
              </a:path>
              <a:path w="9080" h="4913">
                <a:moveTo>
                  <a:pt x="19645" y="8533"/>
                </a:moveTo>
                <a:cubicBezTo>
                  <a:pt x="19595" y="8553"/>
                  <a:pt x="19476" y="8576"/>
                  <a:pt x="19521" y="8607"/>
                </a:cubicBezTo>
                <a:cubicBezTo>
                  <a:pt x="19619" y="8656"/>
                  <a:pt x="19651" y="8671"/>
                  <a:pt x="19695" y="8731"/>
                </a:cubicBezTo>
                <a:cubicBezTo>
                  <a:pt x="19626" y="8868"/>
                  <a:pt x="19564" y="8713"/>
                  <a:pt x="19521" y="8657"/>
                </a:cubicBezTo>
              </a:path>
              <a:path w="9080" h="4913">
                <a:moveTo>
                  <a:pt x="19645" y="8533"/>
                </a:moveTo>
                <a:cubicBezTo>
                  <a:pt x="19723" y="8533"/>
                  <a:pt x="19772" y="8534"/>
                  <a:pt x="19844" y="8558"/>
                </a:cubicBezTo>
              </a:path>
              <a:path w="9080" h="4913">
                <a:moveTo>
                  <a:pt x="20092" y="8210"/>
                </a:moveTo>
                <a:cubicBezTo>
                  <a:pt x="20049" y="8261"/>
                  <a:pt x="20018" y="8334"/>
                  <a:pt x="19968" y="8359"/>
                </a:cubicBezTo>
              </a:path>
              <a:path w="9080" h="4913">
                <a:moveTo>
                  <a:pt x="20290" y="8334"/>
                </a:moveTo>
                <a:cubicBezTo>
                  <a:pt x="20259" y="8375"/>
                  <a:pt x="20252" y="8393"/>
                  <a:pt x="20290" y="8434"/>
                </a:cubicBezTo>
                <a:cubicBezTo>
                  <a:pt x="20321" y="8468"/>
                  <a:pt x="20369" y="8367"/>
                  <a:pt x="20389" y="8409"/>
                </a:cubicBezTo>
                <a:cubicBezTo>
                  <a:pt x="20403" y="8438"/>
                  <a:pt x="20389" y="8597"/>
                  <a:pt x="20389" y="8533"/>
                </a:cubicBezTo>
              </a:path>
              <a:path w="9080" h="4913">
                <a:moveTo>
                  <a:pt x="20290" y="8235"/>
                </a:moveTo>
                <a:cubicBezTo>
                  <a:pt x="20356" y="8235"/>
                  <a:pt x="20423" y="8235"/>
                  <a:pt x="20489" y="8235"/>
                </a:cubicBezTo>
              </a:path>
              <a:path w="9080" h="4913">
                <a:moveTo>
                  <a:pt x="20265" y="7913"/>
                </a:moveTo>
                <a:cubicBezTo>
                  <a:pt x="20265" y="7944"/>
                  <a:pt x="20270" y="8037"/>
                  <a:pt x="20315" y="8037"/>
                </a:cubicBezTo>
                <a:cubicBezTo>
                  <a:pt x="20340" y="8029"/>
                  <a:pt x="20364" y="8020"/>
                  <a:pt x="20389" y="8012"/>
                </a:cubicBezTo>
              </a:path>
              <a:path w="9080" h="4913">
                <a:moveTo>
                  <a:pt x="20414" y="7938"/>
                </a:moveTo>
                <a:cubicBezTo>
                  <a:pt x="20414" y="8019"/>
                  <a:pt x="20369" y="8109"/>
                  <a:pt x="20389" y="8186"/>
                </a:cubicBezTo>
                <a:cubicBezTo>
                  <a:pt x="20397" y="8194"/>
                  <a:pt x="20406" y="8202"/>
                  <a:pt x="20414" y="8210"/>
                </a:cubicBezTo>
              </a:path>
              <a:path w="9080" h="4913">
                <a:moveTo>
                  <a:pt x="20687" y="8235"/>
                </a:moveTo>
                <a:cubicBezTo>
                  <a:pt x="20745" y="8235"/>
                  <a:pt x="20803" y="8235"/>
                  <a:pt x="20861" y="8235"/>
                </a:cubicBezTo>
              </a:path>
              <a:path w="9080" h="4913">
                <a:moveTo>
                  <a:pt x="21605" y="7813"/>
                </a:moveTo>
                <a:cubicBezTo>
                  <a:pt x="21655" y="7789"/>
                  <a:pt x="21694" y="7789"/>
                  <a:pt x="21754" y="7789"/>
                </a:cubicBezTo>
                <a:cubicBezTo>
                  <a:pt x="21754" y="7839"/>
                  <a:pt x="21722" y="7874"/>
                  <a:pt x="21754" y="7888"/>
                </a:cubicBezTo>
                <a:cubicBezTo>
                  <a:pt x="21807" y="7911"/>
                  <a:pt x="21891" y="7994"/>
                  <a:pt x="21779" y="8037"/>
                </a:cubicBezTo>
                <a:cubicBezTo>
                  <a:pt x="21712" y="8037"/>
                  <a:pt x="21696" y="8037"/>
                  <a:pt x="21654" y="8037"/>
                </a:cubicBezTo>
              </a:path>
              <a:path w="9080" h="4913">
                <a:moveTo>
                  <a:pt x="22101" y="7739"/>
                </a:moveTo>
                <a:cubicBezTo>
                  <a:pt x="22066" y="7826"/>
                  <a:pt x="21981" y="8001"/>
                  <a:pt x="22151" y="7987"/>
                </a:cubicBezTo>
                <a:cubicBezTo>
                  <a:pt x="22252" y="7979"/>
                  <a:pt x="22255" y="7863"/>
                  <a:pt x="22225" y="7913"/>
                </a:cubicBezTo>
                <a:cubicBezTo>
                  <a:pt x="22208" y="7946"/>
                  <a:pt x="22192" y="7979"/>
                  <a:pt x="22175" y="8012"/>
                </a:cubicBezTo>
              </a:path>
              <a:path w="9080" h="4913">
                <a:moveTo>
                  <a:pt x="14982" y="7590"/>
                </a:moveTo>
                <a:cubicBezTo>
                  <a:pt x="15093" y="7590"/>
                  <a:pt x="15195" y="7572"/>
                  <a:pt x="15304" y="7565"/>
                </a:cubicBezTo>
                <a:cubicBezTo>
                  <a:pt x="15395" y="7565"/>
                  <a:pt x="15403" y="7565"/>
                  <a:pt x="15453" y="7565"/>
                </a:cubicBezTo>
                <a:cubicBezTo>
                  <a:pt x="15442" y="7703"/>
                  <a:pt x="15395" y="7828"/>
                  <a:pt x="15379" y="7962"/>
                </a:cubicBezTo>
                <a:cubicBezTo>
                  <a:pt x="15379" y="7970"/>
                  <a:pt x="15379" y="7979"/>
                  <a:pt x="15379" y="7987"/>
                </a:cubicBezTo>
              </a:path>
              <a:path w="9080" h="4913">
                <a:moveTo>
                  <a:pt x="15850" y="7516"/>
                </a:moveTo>
                <a:cubicBezTo>
                  <a:pt x="15829" y="7552"/>
                  <a:pt x="15715" y="7617"/>
                  <a:pt x="15751" y="7689"/>
                </a:cubicBezTo>
                <a:cubicBezTo>
                  <a:pt x="15803" y="7792"/>
                  <a:pt x="16080" y="7767"/>
                  <a:pt x="16049" y="7938"/>
                </a:cubicBezTo>
                <a:cubicBezTo>
                  <a:pt x="16018" y="8105"/>
                  <a:pt x="15874" y="7935"/>
                  <a:pt x="15850" y="7913"/>
                </a:cubicBezTo>
              </a:path>
              <a:path w="9080" h="4913">
                <a:moveTo>
                  <a:pt x="15925" y="7516"/>
                </a:moveTo>
                <a:cubicBezTo>
                  <a:pt x="16074" y="7497"/>
                  <a:pt x="16222" y="7475"/>
                  <a:pt x="16371" y="7466"/>
                </a:cubicBezTo>
              </a:path>
              <a:path w="9080" h="4913">
                <a:moveTo>
                  <a:pt x="14362" y="8359"/>
                </a:moveTo>
                <a:cubicBezTo>
                  <a:pt x="14253" y="8386"/>
                  <a:pt x="14195" y="8524"/>
                  <a:pt x="14188" y="8632"/>
                </a:cubicBezTo>
                <a:cubicBezTo>
                  <a:pt x="14196" y="8649"/>
                  <a:pt x="14205" y="8665"/>
                  <a:pt x="14213" y="8682"/>
                </a:cubicBezTo>
                <a:cubicBezTo>
                  <a:pt x="14408" y="8720"/>
                  <a:pt x="14552" y="8616"/>
                  <a:pt x="14585" y="8384"/>
                </a:cubicBezTo>
                <a:cubicBezTo>
                  <a:pt x="14595" y="8314"/>
                  <a:pt x="14507" y="8334"/>
                  <a:pt x="14436" y="8334"/>
                </a:cubicBezTo>
              </a:path>
              <a:path w="9080" h="4913">
                <a:moveTo>
                  <a:pt x="15205" y="8310"/>
                </a:moveTo>
                <a:cubicBezTo>
                  <a:pt x="15330" y="8292"/>
                  <a:pt x="15448" y="8285"/>
                  <a:pt x="15577" y="8285"/>
                </a:cubicBezTo>
                <a:cubicBezTo>
                  <a:pt x="15568" y="8321"/>
                  <a:pt x="15472" y="8629"/>
                  <a:pt x="15478" y="8632"/>
                </a:cubicBezTo>
                <a:cubicBezTo>
                  <a:pt x="15495" y="8624"/>
                  <a:pt x="15511" y="8615"/>
                  <a:pt x="15528" y="8607"/>
                </a:cubicBezTo>
              </a:path>
              <a:path w="9080" h="4913">
                <a:moveTo>
                  <a:pt x="16098" y="8310"/>
                </a:moveTo>
                <a:cubicBezTo>
                  <a:pt x="16037" y="8343"/>
                  <a:pt x="15999" y="8379"/>
                  <a:pt x="15949" y="8409"/>
                </a:cubicBezTo>
                <a:cubicBezTo>
                  <a:pt x="16058" y="8470"/>
                  <a:pt x="16167" y="8486"/>
                  <a:pt x="16197" y="8607"/>
                </a:cubicBezTo>
                <a:cubicBezTo>
                  <a:pt x="16022" y="8658"/>
                  <a:pt x="16049" y="8638"/>
                  <a:pt x="15949" y="8483"/>
                </a:cubicBezTo>
              </a:path>
              <a:path w="9080" h="4913">
                <a:moveTo>
                  <a:pt x="16148" y="8260"/>
                </a:moveTo>
                <a:cubicBezTo>
                  <a:pt x="16255" y="8260"/>
                  <a:pt x="16363" y="8260"/>
                  <a:pt x="16470" y="8260"/>
                </a:cubicBezTo>
              </a:path>
              <a:path w="9080" h="4913">
                <a:moveTo>
                  <a:pt x="16743" y="8285"/>
                </a:moveTo>
                <a:cubicBezTo>
                  <a:pt x="16731" y="8426"/>
                  <a:pt x="16736" y="8624"/>
                  <a:pt x="16694" y="8756"/>
                </a:cubicBezTo>
                <a:cubicBezTo>
                  <a:pt x="16686" y="8756"/>
                  <a:pt x="16677" y="8756"/>
                  <a:pt x="16669" y="8756"/>
                </a:cubicBezTo>
              </a:path>
              <a:path w="9080" h="4913">
                <a:moveTo>
                  <a:pt x="14436" y="8979"/>
                </a:moveTo>
                <a:cubicBezTo>
                  <a:pt x="14293" y="9072"/>
                  <a:pt x="14068" y="9219"/>
                  <a:pt x="14089" y="9426"/>
                </a:cubicBezTo>
                <a:cubicBezTo>
                  <a:pt x="14106" y="9442"/>
                  <a:pt x="14122" y="9459"/>
                  <a:pt x="14139" y="9475"/>
                </a:cubicBezTo>
                <a:cubicBezTo>
                  <a:pt x="14316" y="9400"/>
                  <a:pt x="14555" y="9275"/>
                  <a:pt x="14461" y="9029"/>
                </a:cubicBezTo>
                <a:cubicBezTo>
                  <a:pt x="14445" y="9021"/>
                  <a:pt x="14428" y="9012"/>
                  <a:pt x="14412" y="9004"/>
                </a:cubicBezTo>
              </a:path>
              <a:path w="9080" h="4913">
                <a:moveTo>
                  <a:pt x="15255" y="8954"/>
                </a:moveTo>
                <a:cubicBezTo>
                  <a:pt x="15294" y="8949"/>
                  <a:pt x="15533" y="8887"/>
                  <a:pt x="15453" y="9029"/>
                </a:cubicBezTo>
                <a:cubicBezTo>
                  <a:pt x="15369" y="9113"/>
                  <a:pt x="15355" y="9140"/>
                  <a:pt x="15280" y="9153"/>
                </a:cubicBezTo>
                <a:cubicBezTo>
                  <a:pt x="15279" y="9121"/>
                  <a:pt x="15478" y="9105"/>
                  <a:pt x="15478" y="9252"/>
                </a:cubicBezTo>
                <a:cubicBezTo>
                  <a:pt x="15479" y="9466"/>
                  <a:pt x="15245" y="9394"/>
                  <a:pt x="15180" y="9302"/>
                </a:cubicBezTo>
              </a:path>
              <a:path w="9080" h="4913">
                <a:moveTo>
                  <a:pt x="15776" y="8979"/>
                </a:moveTo>
                <a:cubicBezTo>
                  <a:pt x="15736" y="9098"/>
                  <a:pt x="15608" y="9320"/>
                  <a:pt x="15776" y="9401"/>
                </a:cubicBezTo>
                <a:cubicBezTo>
                  <a:pt x="15927" y="9473"/>
                  <a:pt x="16080" y="9309"/>
                  <a:pt x="16123" y="9203"/>
                </a:cubicBezTo>
                <a:cubicBezTo>
                  <a:pt x="16012" y="9267"/>
                  <a:pt x="15962" y="9350"/>
                  <a:pt x="15875" y="9451"/>
                </a:cubicBezTo>
              </a:path>
              <a:path w="9080" h="4913">
                <a:moveTo>
                  <a:pt x="14883" y="9302"/>
                </a:moveTo>
                <a:cubicBezTo>
                  <a:pt x="14846" y="9320"/>
                  <a:pt x="14842" y="9330"/>
                  <a:pt x="14833" y="9376"/>
                </a:cubicBezTo>
                <a:cubicBezTo>
                  <a:pt x="14858" y="9376"/>
                  <a:pt x="14866" y="9376"/>
                  <a:pt x="14858" y="9351"/>
                </a:cubicBezTo>
              </a:path>
              <a:path w="9080" h="4913">
                <a:moveTo>
                  <a:pt x="16743" y="9004"/>
                </a:moveTo>
                <a:cubicBezTo>
                  <a:pt x="16639" y="9004"/>
                  <a:pt x="16593" y="8983"/>
                  <a:pt x="16520" y="9079"/>
                </a:cubicBezTo>
                <a:cubicBezTo>
                  <a:pt x="16468" y="9182"/>
                  <a:pt x="16451" y="9219"/>
                  <a:pt x="16470" y="9302"/>
                </a:cubicBezTo>
                <a:cubicBezTo>
                  <a:pt x="16612" y="9311"/>
                  <a:pt x="16882" y="9272"/>
                  <a:pt x="16793" y="9054"/>
                </a:cubicBezTo>
                <a:cubicBezTo>
                  <a:pt x="16750" y="8949"/>
                  <a:pt x="16634" y="8962"/>
                  <a:pt x="16545" y="8954"/>
                </a:cubicBezTo>
              </a:path>
              <a:path w="9080" h="4913">
                <a:moveTo>
                  <a:pt x="16594" y="7491"/>
                </a:moveTo>
                <a:cubicBezTo>
                  <a:pt x="16500" y="7538"/>
                  <a:pt x="16433" y="7683"/>
                  <a:pt x="16470" y="7813"/>
                </a:cubicBezTo>
                <a:cubicBezTo>
                  <a:pt x="16487" y="7838"/>
                  <a:pt x="16503" y="7863"/>
                  <a:pt x="16520" y="7888"/>
                </a:cubicBezTo>
                <a:cubicBezTo>
                  <a:pt x="16678" y="7848"/>
                  <a:pt x="16723" y="7742"/>
                  <a:pt x="16694" y="7565"/>
                </a:cubicBezTo>
                <a:cubicBezTo>
                  <a:pt x="16685" y="7512"/>
                  <a:pt x="16506" y="7541"/>
                  <a:pt x="16470" y="7541"/>
                </a:cubicBezTo>
              </a:path>
              <a:path w="9080" h="4913">
                <a:moveTo>
                  <a:pt x="15850" y="6623"/>
                </a:moveTo>
                <a:cubicBezTo>
                  <a:pt x="15834" y="6685"/>
                  <a:pt x="15787" y="6750"/>
                  <a:pt x="15776" y="6821"/>
                </a:cubicBezTo>
                <a:cubicBezTo>
                  <a:pt x="15776" y="6896"/>
                  <a:pt x="15776" y="6920"/>
                  <a:pt x="15776" y="6970"/>
                </a:cubicBezTo>
                <a:cubicBezTo>
                  <a:pt x="15884" y="6943"/>
                  <a:pt x="15982" y="6890"/>
                  <a:pt x="15949" y="6747"/>
                </a:cubicBezTo>
                <a:cubicBezTo>
                  <a:pt x="15927" y="6650"/>
                  <a:pt x="15724" y="6710"/>
                  <a:pt x="15677" y="6747"/>
                </a:cubicBezTo>
                <a:cubicBezTo>
                  <a:pt x="15685" y="6747"/>
                  <a:pt x="15693" y="6747"/>
                  <a:pt x="15701" y="6747"/>
                </a:cubicBezTo>
              </a:path>
              <a:path w="9080" h="4913">
                <a:moveTo>
                  <a:pt x="16247" y="6672"/>
                </a:moveTo>
                <a:cubicBezTo>
                  <a:pt x="16228" y="6788"/>
                  <a:pt x="16206" y="6878"/>
                  <a:pt x="16222" y="6995"/>
                </a:cubicBezTo>
                <a:cubicBezTo>
                  <a:pt x="16386" y="7028"/>
                  <a:pt x="16465" y="6954"/>
                  <a:pt x="16470" y="6772"/>
                </a:cubicBezTo>
                <a:cubicBezTo>
                  <a:pt x="16475" y="6600"/>
                  <a:pt x="16331" y="6719"/>
                  <a:pt x="16272" y="6747"/>
                </a:cubicBezTo>
              </a:path>
              <a:path w="9080" h="4913">
                <a:moveTo>
                  <a:pt x="15429" y="6499"/>
                </a:moveTo>
                <a:cubicBezTo>
                  <a:pt x="15529" y="6480"/>
                  <a:pt x="15625" y="6488"/>
                  <a:pt x="15726" y="6474"/>
                </a:cubicBezTo>
                <a:cubicBezTo>
                  <a:pt x="15859" y="6455"/>
                  <a:pt x="15985" y="6454"/>
                  <a:pt x="16123" y="6449"/>
                </a:cubicBezTo>
                <a:cubicBezTo>
                  <a:pt x="16216" y="6446"/>
                  <a:pt x="16329" y="6441"/>
                  <a:pt x="16421" y="6424"/>
                </a:cubicBezTo>
                <a:cubicBezTo>
                  <a:pt x="16514" y="6407"/>
                  <a:pt x="16601" y="6367"/>
                  <a:pt x="16694" y="6350"/>
                </a:cubicBezTo>
                <a:cubicBezTo>
                  <a:pt x="16754" y="6339"/>
                  <a:pt x="16847" y="6330"/>
                  <a:pt x="16892" y="6325"/>
                </a:cubicBezTo>
                <a:cubicBezTo>
                  <a:pt x="17179" y="6294"/>
                  <a:pt x="17507" y="6313"/>
                  <a:pt x="17785" y="6350"/>
                </a:cubicBezTo>
                <a:cubicBezTo>
                  <a:pt x="17905" y="6366"/>
                  <a:pt x="18038" y="6365"/>
                  <a:pt x="18157" y="6375"/>
                </a:cubicBezTo>
                <a:cubicBezTo>
                  <a:pt x="18271" y="6384"/>
                  <a:pt x="18390" y="6375"/>
                  <a:pt x="18504" y="6375"/>
                </a:cubicBezTo>
              </a:path>
              <a:path w="9080" h="4913">
                <a:moveTo>
                  <a:pt x="14337" y="6573"/>
                </a:moveTo>
                <a:cubicBezTo>
                  <a:pt x="14314" y="6602"/>
                  <a:pt x="14291" y="6631"/>
                  <a:pt x="14288" y="6697"/>
                </a:cubicBezTo>
                <a:cubicBezTo>
                  <a:pt x="14283" y="6817"/>
                  <a:pt x="14281" y="6939"/>
                  <a:pt x="14263" y="7045"/>
                </a:cubicBezTo>
                <a:cubicBezTo>
                  <a:pt x="14245" y="7150"/>
                  <a:pt x="14255" y="7264"/>
                  <a:pt x="14238" y="7367"/>
                </a:cubicBezTo>
                <a:cubicBezTo>
                  <a:pt x="14223" y="7457"/>
                  <a:pt x="14228" y="7553"/>
                  <a:pt x="14213" y="7640"/>
                </a:cubicBezTo>
                <a:cubicBezTo>
                  <a:pt x="14154" y="7990"/>
                  <a:pt x="14237" y="8390"/>
                  <a:pt x="14188" y="8731"/>
                </a:cubicBezTo>
                <a:cubicBezTo>
                  <a:pt x="14173" y="8834"/>
                  <a:pt x="14174" y="8962"/>
                  <a:pt x="14163" y="9054"/>
                </a:cubicBezTo>
                <a:cubicBezTo>
                  <a:pt x="14151" y="9157"/>
                  <a:pt x="14152" y="9308"/>
                  <a:pt x="14139" y="9376"/>
                </a:cubicBezTo>
                <a:cubicBezTo>
                  <a:pt x="14130" y="9422"/>
                  <a:pt x="14139" y="9479"/>
                  <a:pt x="14139" y="9525"/>
                </a:cubicBezTo>
              </a:path>
              <a:path w="9080" h="4913">
                <a:moveTo>
                  <a:pt x="16892" y="10368"/>
                </a:moveTo>
                <a:cubicBezTo>
                  <a:pt x="16877" y="10412"/>
                  <a:pt x="16792" y="10414"/>
                  <a:pt x="16743" y="10492"/>
                </a:cubicBezTo>
                <a:cubicBezTo>
                  <a:pt x="16628" y="10674"/>
                  <a:pt x="16593" y="10834"/>
                  <a:pt x="16570" y="11038"/>
                </a:cubicBezTo>
                <a:cubicBezTo>
                  <a:pt x="16815" y="11141"/>
                  <a:pt x="17055" y="11041"/>
                  <a:pt x="17090" y="10716"/>
                </a:cubicBezTo>
                <a:cubicBezTo>
                  <a:pt x="17107" y="10555"/>
                  <a:pt x="16917" y="10475"/>
                  <a:pt x="16842" y="10517"/>
                </a:cubicBezTo>
              </a:path>
              <a:path w="9080" h="4913">
                <a:moveTo>
                  <a:pt x="17289" y="10790"/>
                </a:moveTo>
                <a:cubicBezTo>
                  <a:pt x="17289" y="10831"/>
                  <a:pt x="17289" y="10873"/>
                  <a:pt x="17289" y="10914"/>
                </a:cubicBezTo>
              </a:path>
              <a:path w="9080" h="4913">
                <a:moveTo>
                  <a:pt x="17537" y="10443"/>
                </a:moveTo>
                <a:cubicBezTo>
                  <a:pt x="17642" y="10443"/>
                  <a:pt x="17691" y="10374"/>
                  <a:pt x="17810" y="10393"/>
                </a:cubicBezTo>
                <a:cubicBezTo>
                  <a:pt x="17889" y="10406"/>
                  <a:pt x="17733" y="10503"/>
                  <a:pt x="17686" y="10567"/>
                </a:cubicBezTo>
                <a:cubicBezTo>
                  <a:pt x="17756" y="10497"/>
                  <a:pt x="17923" y="10508"/>
                  <a:pt x="17909" y="10666"/>
                </a:cubicBezTo>
                <a:cubicBezTo>
                  <a:pt x="17891" y="10862"/>
                  <a:pt x="17662" y="10820"/>
                  <a:pt x="17562" y="10765"/>
                </a:cubicBezTo>
              </a:path>
              <a:path w="9080" h="4913">
                <a:moveTo>
                  <a:pt x="18132" y="10344"/>
                </a:moveTo>
                <a:cubicBezTo>
                  <a:pt x="18092" y="10479"/>
                  <a:pt x="18021" y="10613"/>
                  <a:pt x="18033" y="10740"/>
                </a:cubicBezTo>
                <a:cubicBezTo>
                  <a:pt x="18225" y="10754"/>
                  <a:pt x="18285" y="10670"/>
                  <a:pt x="18405" y="10517"/>
                </a:cubicBezTo>
                <a:cubicBezTo>
                  <a:pt x="18277" y="10581"/>
                  <a:pt x="18244" y="10616"/>
                  <a:pt x="18207" y="10765"/>
                </a:cubicBezTo>
              </a:path>
              <a:path w="9080" h="4913">
                <a:moveTo>
                  <a:pt x="14213" y="9252"/>
                </a:moveTo>
                <a:cubicBezTo>
                  <a:pt x="14257" y="9227"/>
                  <a:pt x="14379" y="9185"/>
                  <a:pt x="14461" y="9178"/>
                </a:cubicBezTo>
                <a:cubicBezTo>
                  <a:pt x="14783" y="9152"/>
                  <a:pt x="15109" y="9193"/>
                  <a:pt x="15429" y="9203"/>
                </a:cubicBezTo>
                <a:cubicBezTo>
                  <a:pt x="15778" y="9214"/>
                  <a:pt x="16146" y="9197"/>
                  <a:pt x="16495" y="9178"/>
                </a:cubicBezTo>
                <a:cubicBezTo>
                  <a:pt x="16760" y="9164"/>
                  <a:pt x="17024" y="9135"/>
                  <a:pt x="17289" y="9128"/>
                </a:cubicBezTo>
                <a:cubicBezTo>
                  <a:pt x="17347" y="9128"/>
                  <a:pt x="17355" y="9128"/>
                  <a:pt x="17388" y="9128"/>
                </a:cubicBezTo>
              </a:path>
              <a:path w="9080" h="4913">
                <a:moveTo>
                  <a:pt x="15280" y="6672"/>
                </a:moveTo>
                <a:cubicBezTo>
                  <a:pt x="15280" y="6841"/>
                  <a:pt x="15282" y="7008"/>
                  <a:pt x="15255" y="7169"/>
                </a:cubicBezTo>
                <a:cubicBezTo>
                  <a:pt x="15241" y="7252"/>
                  <a:pt x="15245" y="7343"/>
                  <a:pt x="15230" y="7417"/>
                </a:cubicBezTo>
                <a:cubicBezTo>
                  <a:pt x="15190" y="7615"/>
                  <a:pt x="15238" y="7840"/>
                  <a:pt x="15205" y="8037"/>
                </a:cubicBezTo>
                <a:cubicBezTo>
                  <a:pt x="15191" y="8119"/>
                  <a:pt x="15193" y="8206"/>
                  <a:pt x="15180" y="8285"/>
                </a:cubicBezTo>
                <a:cubicBezTo>
                  <a:pt x="15154" y="8440"/>
                  <a:pt x="15180" y="8623"/>
                  <a:pt x="15180" y="8781"/>
                </a:cubicBezTo>
              </a:path>
              <a:path w="9080" h="4913">
                <a:moveTo>
                  <a:pt x="14238" y="10691"/>
                </a:moveTo>
                <a:cubicBezTo>
                  <a:pt x="14230" y="10668"/>
                  <a:pt x="14187" y="10644"/>
                  <a:pt x="14163" y="10641"/>
                </a:cubicBezTo>
                <a:cubicBezTo>
                  <a:pt x="14076" y="10630"/>
                  <a:pt x="13970" y="10778"/>
                  <a:pt x="13940" y="10840"/>
                </a:cubicBezTo>
                <a:cubicBezTo>
                  <a:pt x="13882" y="10959"/>
                  <a:pt x="13875" y="11084"/>
                  <a:pt x="13866" y="11212"/>
                </a:cubicBezTo>
                <a:cubicBezTo>
                  <a:pt x="13994" y="11238"/>
                  <a:pt x="14165" y="11197"/>
                  <a:pt x="14263" y="11088"/>
                </a:cubicBezTo>
                <a:cubicBezTo>
                  <a:pt x="14311" y="11034"/>
                  <a:pt x="14388" y="10796"/>
                  <a:pt x="14312" y="10740"/>
                </a:cubicBezTo>
                <a:cubicBezTo>
                  <a:pt x="14281" y="10717"/>
                  <a:pt x="14236" y="10699"/>
                  <a:pt x="14213" y="10691"/>
                </a:cubicBezTo>
              </a:path>
              <a:path w="9080" h="4913">
                <a:moveTo>
                  <a:pt x="14585" y="11088"/>
                </a:moveTo>
                <a:cubicBezTo>
                  <a:pt x="14585" y="11129"/>
                  <a:pt x="14585" y="11203"/>
                  <a:pt x="14585" y="11162"/>
                </a:cubicBezTo>
              </a:path>
              <a:path w="9080" h="4913">
                <a:moveTo>
                  <a:pt x="14784" y="10691"/>
                </a:moveTo>
                <a:cubicBezTo>
                  <a:pt x="14762" y="10713"/>
                  <a:pt x="14753" y="10718"/>
                  <a:pt x="14759" y="10740"/>
                </a:cubicBezTo>
                <a:cubicBezTo>
                  <a:pt x="14775" y="10678"/>
                  <a:pt x="14818" y="10687"/>
                  <a:pt x="14883" y="10666"/>
                </a:cubicBezTo>
                <a:cubicBezTo>
                  <a:pt x="14949" y="10645"/>
                  <a:pt x="15012" y="10626"/>
                  <a:pt x="15081" y="10616"/>
                </a:cubicBezTo>
                <a:cubicBezTo>
                  <a:pt x="15159" y="10745"/>
                  <a:pt x="15067" y="10879"/>
                  <a:pt x="15032" y="11013"/>
                </a:cubicBezTo>
                <a:cubicBezTo>
                  <a:pt x="15013" y="11107"/>
                  <a:pt x="15026" y="11127"/>
                  <a:pt x="14982" y="11162"/>
                </a:cubicBezTo>
              </a:path>
              <a:path w="9080" h="4913">
                <a:moveTo>
                  <a:pt x="15354" y="10691"/>
                </a:moveTo>
                <a:cubicBezTo>
                  <a:pt x="15301" y="10852"/>
                  <a:pt x="15246" y="10966"/>
                  <a:pt x="15230" y="11137"/>
                </a:cubicBezTo>
                <a:cubicBezTo>
                  <a:pt x="15407" y="11169"/>
                  <a:pt x="15566" y="11059"/>
                  <a:pt x="15528" y="10840"/>
                </a:cubicBezTo>
                <a:cubicBezTo>
                  <a:pt x="15510" y="10738"/>
                  <a:pt x="15429" y="10728"/>
                  <a:pt x="15354" y="10716"/>
                </a:cubicBezTo>
              </a:path>
              <a:path w="9080" h="4913">
                <a:moveTo>
                  <a:pt x="13891" y="7045"/>
                </a:moveTo>
                <a:cubicBezTo>
                  <a:pt x="13982" y="7027"/>
                  <a:pt x="14071" y="7014"/>
                  <a:pt x="14163" y="6995"/>
                </a:cubicBezTo>
                <a:cubicBezTo>
                  <a:pt x="14334" y="6961"/>
                  <a:pt x="14510" y="6949"/>
                  <a:pt x="14684" y="6945"/>
                </a:cubicBezTo>
                <a:cubicBezTo>
                  <a:pt x="15008" y="6938"/>
                  <a:pt x="15330" y="6944"/>
                  <a:pt x="15652" y="6921"/>
                </a:cubicBezTo>
                <a:cubicBezTo>
                  <a:pt x="15801" y="6910"/>
                  <a:pt x="15949" y="6881"/>
                  <a:pt x="16098" y="6871"/>
                </a:cubicBezTo>
                <a:cubicBezTo>
                  <a:pt x="16264" y="6860"/>
                  <a:pt x="16429" y="6832"/>
                  <a:pt x="16594" y="6821"/>
                </a:cubicBezTo>
                <a:cubicBezTo>
                  <a:pt x="16736" y="6811"/>
                  <a:pt x="16873" y="6796"/>
                  <a:pt x="17016" y="6796"/>
                </a:cubicBezTo>
                <a:cubicBezTo>
                  <a:pt x="17041" y="6796"/>
                  <a:pt x="17065" y="6796"/>
                  <a:pt x="17090" y="6796"/>
                </a:cubicBezTo>
              </a:path>
              <a:path w="9080" h="4913">
                <a:moveTo>
                  <a:pt x="16073" y="7466"/>
                </a:moveTo>
                <a:cubicBezTo>
                  <a:pt x="16073" y="7563"/>
                  <a:pt x="16080" y="7642"/>
                  <a:pt x="16098" y="7739"/>
                </a:cubicBezTo>
                <a:cubicBezTo>
                  <a:pt x="16126" y="7888"/>
                  <a:pt x="16146" y="8040"/>
                  <a:pt x="16173" y="8186"/>
                </a:cubicBezTo>
                <a:cubicBezTo>
                  <a:pt x="16188" y="8267"/>
                  <a:pt x="16197" y="8324"/>
                  <a:pt x="16197" y="8409"/>
                </a:cubicBezTo>
                <a:cubicBezTo>
                  <a:pt x="16197" y="8489"/>
                  <a:pt x="16173" y="8551"/>
                  <a:pt x="16173" y="8632"/>
                </a:cubicBezTo>
                <a:cubicBezTo>
                  <a:pt x="16173" y="8688"/>
                  <a:pt x="16153" y="8666"/>
                  <a:pt x="16148" y="8706"/>
                </a:cubicBezTo>
                <a:cubicBezTo>
                  <a:pt x="16148" y="8714"/>
                  <a:pt x="16148" y="8723"/>
                  <a:pt x="16148" y="8731"/>
                </a:cubicBezTo>
                <a:cubicBezTo>
                  <a:pt x="16129" y="8639"/>
                  <a:pt x="16123" y="8557"/>
                  <a:pt x="16123" y="8458"/>
                </a:cubicBezTo>
                <a:cubicBezTo>
                  <a:pt x="16123" y="8234"/>
                  <a:pt x="16112" y="8004"/>
                  <a:pt x="16148" y="7789"/>
                </a:cubicBezTo>
                <a:cubicBezTo>
                  <a:pt x="16156" y="7742"/>
                  <a:pt x="16168" y="7705"/>
                  <a:pt x="16173" y="7665"/>
                </a:cubicBezTo>
                <a:cubicBezTo>
                  <a:pt x="16173" y="7632"/>
                  <a:pt x="16173" y="7615"/>
                  <a:pt x="16173" y="7590"/>
                </a:cubicBezTo>
              </a:path>
              <a:path w="9080" h="4913">
                <a:moveTo>
                  <a:pt x="14660" y="8706"/>
                </a:moveTo>
                <a:cubicBezTo>
                  <a:pt x="14873" y="8644"/>
                  <a:pt x="15077" y="8609"/>
                  <a:pt x="15304" y="8582"/>
                </a:cubicBezTo>
                <a:cubicBezTo>
                  <a:pt x="15783" y="8526"/>
                  <a:pt x="16359" y="8426"/>
                  <a:pt x="16842" y="8483"/>
                </a:cubicBezTo>
                <a:cubicBezTo>
                  <a:pt x="16842" y="8491"/>
                  <a:pt x="16842" y="8500"/>
                  <a:pt x="16842" y="8508"/>
                </a:cubicBezTo>
              </a:path>
              <a:path w="9080" h="4913">
                <a:moveTo>
                  <a:pt x="13717" y="9971"/>
                </a:moveTo>
                <a:cubicBezTo>
                  <a:pt x="13717" y="9947"/>
                  <a:pt x="13717" y="9938"/>
                  <a:pt x="13717" y="9922"/>
                </a:cubicBezTo>
                <a:cubicBezTo>
                  <a:pt x="13604" y="9938"/>
                  <a:pt x="13583" y="10032"/>
                  <a:pt x="13568" y="10145"/>
                </a:cubicBezTo>
                <a:cubicBezTo>
                  <a:pt x="13568" y="10178"/>
                  <a:pt x="13568" y="10211"/>
                  <a:pt x="13568" y="10244"/>
                </a:cubicBezTo>
                <a:cubicBezTo>
                  <a:pt x="13678" y="10291"/>
                  <a:pt x="13793" y="10249"/>
                  <a:pt x="13841" y="10120"/>
                </a:cubicBezTo>
                <a:cubicBezTo>
                  <a:pt x="13871" y="10041"/>
                  <a:pt x="13839" y="10028"/>
                  <a:pt x="13791" y="9996"/>
                </a:cubicBezTo>
              </a:path>
              <a:path w="9080" h="4913">
                <a:moveTo>
                  <a:pt x="14114" y="10096"/>
                </a:moveTo>
                <a:cubicBezTo>
                  <a:pt x="14114" y="10137"/>
                  <a:pt x="14114" y="10211"/>
                  <a:pt x="14114" y="10170"/>
                </a:cubicBezTo>
              </a:path>
              <a:path w="9080" h="4913">
                <a:moveTo>
                  <a:pt x="14337" y="9872"/>
                </a:moveTo>
                <a:cubicBezTo>
                  <a:pt x="14418" y="9856"/>
                  <a:pt x="14499" y="9835"/>
                  <a:pt x="14585" y="9823"/>
                </a:cubicBezTo>
                <a:cubicBezTo>
                  <a:pt x="14593" y="9823"/>
                  <a:pt x="14602" y="9823"/>
                  <a:pt x="14610" y="9823"/>
                </a:cubicBezTo>
                <a:cubicBezTo>
                  <a:pt x="14597" y="9941"/>
                  <a:pt x="14569" y="10053"/>
                  <a:pt x="14560" y="10170"/>
                </a:cubicBezTo>
              </a:path>
              <a:path w="9080" h="4913">
                <a:moveTo>
                  <a:pt x="17066" y="9525"/>
                </a:moveTo>
                <a:cubicBezTo>
                  <a:pt x="17055" y="9483"/>
                  <a:pt x="16990" y="9438"/>
                  <a:pt x="16942" y="9475"/>
                </a:cubicBezTo>
                <a:cubicBezTo>
                  <a:pt x="16917" y="9525"/>
                  <a:pt x="16909" y="9542"/>
                  <a:pt x="16892" y="9575"/>
                </a:cubicBezTo>
                <a:cubicBezTo>
                  <a:pt x="16980" y="9617"/>
                  <a:pt x="16998" y="9592"/>
                  <a:pt x="17066" y="9525"/>
                </a:cubicBezTo>
                <a:cubicBezTo>
                  <a:pt x="17066" y="9627"/>
                  <a:pt x="17084" y="9738"/>
                  <a:pt x="17041" y="9823"/>
                </a:cubicBezTo>
              </a:path>
              <a:path w="9080" h="4913">
                <a:moveTo>
                  <a:pt x="16768" y="9922"/>
                </a:moveTo>
                <a:cubicBezTo>
                  <a:pt x="16925" y="9874"/>
                  <a:pt x="17099" y="9848"/>
                  <a:pt x="17264" y="9823"/>
                </a:cubicBezTo>
                <a:cubicBezTo>
                  <a:pt x="17272" y="9823"/>
                  <a:pt x="17281" y="9823"/>
                  <a:pt x="17289" y="9823"/>
                </a:cubicBezTo>
              </a:path>
              <a:path w="9080" h="4913">
                <a:moveTo>
                  <a:pt x="16818" y="10046"/>
                </a:moveTo>
                <a:cubicBezTo>
                  <a:pt x="16899" y="10025"/>
                  <a:pt x="16920" y="10010"/>
                  <a:pt x="16991" y="10046"/>
                </a:cubicBezTo>
                <a:cubicBezTo>
                  <a:pt x="17001" y="10158"/>
                  <a:pt x="16941" y="10244"/>
                  <a:pt x="16793" y="10244"/>
                </a:cubicBezTo>
                <a:cubicBezTo>
                  <a:pt x="16776" y="10236"/>
                  <a:pt x="16760" y="10228"/>
                  <a:pt x="16743" y="10220"/>
                </a:cubicBezTo>
                <a:cubicBezTo>
                  <a:pt x="16857" y="10163"/>
                  <a:pt x="16878" y="10163"/>
                  <a:pt x="16991" y="10220"/>
                </a:cubicBezTo>
              </a:path>
              <a:path w="9080" h="4913">
                <a:moveTo>
                  <a:pt x="17413" y="9947"/>
                </a:moveTo>
                <a:cubicBezTo>
                  <a:pt x="17328" y="9947"/>
                  <a:pt x="17310" y="9970"/>
                  <a:pt x="17264" y="9996"/>
                </a:cubicBezTo>
                <a:cubicBezTo>
                  <a:pt x="17256" y="9996"/>
                  <a:pt x="17247" y="9996"/>
                  <a:pt x="17239" y="9996"/>
                </a:cubicBezTo>
                <a:cubicBezTo>
                  <a:pt x="17239" y="10084"/>
                  <a:pt x="17315" y="10042"/>
                  <a:pt x="17388" y="10071"/>
                </a:cubicBezTo>
                <a:cubicBezTo>
                  <a:pt x="17405" y="10079"/>
                  <a:pt x="17421" y="10088"/>
                  <a:pt x="17438" y="10096"/>
                </a:cubicBezTo>
                <a:cubicBezTo>
                  <a:pt x="17438" y="10175"/>
                  <a:pt x="17345" y="10237"/>
                  <a:pt x="17264" y="10195"/>
                </a:cubicBezTo>
                <a:cubicBezTo>
                  <a:pt x="17247" y="10170"/>
                  <a:pt x="17231" y="10145"/>
                  <a:pt x="17214" y="1012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18040" y="2482920"/>
            <a:ext cx="295200" cy="438120"/>
          </a:xfrm>
          <a:custGeom>
            <a:avLst/>
            <a:gdLst/>
            <a:ahLst/>
            <a:rect l="l" t="t" r="r" b="b"/>
            <a:pathLst>
              <a:path w="820" h="1216">
                <a:moveTo>
                  <a:pt x="14511" y="6945"/>
                </a:moveTo>
                <a:cubicBezTo>
                  <a:pt x="14390" y="6851"/>
                  <a:pt x="14327" y="6899"/>
                  <a:pt x="14213" y="6995"/>
                </a:cubicBezTo>
                <a:cubicBezTo>
                  <a:pt x="14095" y="7113"/>
                  <a:pt x="14055" y="7147"/>
                  <a:pt x="14064" y="7268"/>
                </a:cubicBezTo>
                <a:cubicBezTo>
                  <a:pt x="14268" y="7389"/>
                  <a:pt x="14452" y="7326"/>
                  <a:pt x="14585" y="7094"/>
                </a:cubicBezTo>
                <a:cubicBezTo>
                  <a:pt x="14704" y="6887"/>
                  <a:pt x="14468" y="6921"/>
                  <a:pt x="14362" y="6945"/>
                </a:cubicBezTo>
              </a:path>
              <a:path w="820" h="1216">
                <a:moveTo>
                  <a:pt x="14759" y="7218"/>
                </a:moveTo>
                <a:cubicBezTo>
                  <a:pt x="14759" y="7268"/>
                  <a:pt x="14759" y="7284"/>
                  <a:pt x="14759" y="7317"/>
                </a:cubicBezTo>
              </a:path>
              <a:path w="820" h="1216">
                <a:moveTo>
                  <a:pt x="14114" y="7615"/>
                </a:moveTo>
                <a:cubicBezTo>
                  <a:pt x="14340" y="7484"/>
                  <a:pt x="13981" y="7897"/>
                  <a:pt x="13965" y="7938"/>
                </a:cubicBezTo>
                <a:cubicBezTo>
                  <a:pt x="13957" y="7987"/>
                  <a:pt x="13948" y="8037"/>
                  <a:pt x="13940" y="8086"/>
                </a:cubicBezTo>
                <a:cubicBezTo>
                  <a:pt x="14125" y="8076"/>
                  <a:pt x="14428" y="7956"/>
                  <a:pt x="14387" y="7689"/>
                </a:cubicBezTo>
                <a:cubicBezTo>
                  <a:pt x="14372" y="7588"/>
                  <a:pt x="14231" y="7606"/>
                  <a:pt x="14213" y="761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29160" y="2428920"/>
            <a:ext cx="15264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5081" y="6796"/>
                </a:moveTo>
                <a:cubicBezTo>
                  <a:pt x="15215" y="6796"/>
                  <a:pt x="15323" y="6771"/>
                  <a:pt x="15453" y="6747"/>
                </a:cubicBezTo>
                <a:cubicBezTo>
                  <a:pt x="15549" y="6730"/>
                  <a:pt x="15480" y="6907"/>
                  <a:pt x="15478" y="6921"/>
                </a:cubicBezTo>
                <a:cubicBezTo>
                  <a:pt x="15459" y="7029"/>
                  <a:pt x="15424" y="7116"/>
                  <a:pt x="15404" y="721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84320" y="4732200"/>
            <a:ext cx="285840" cy="196920"/>
          </a:xfrm>
          <a:custGeom>
            <a:avLst/>
            <a:gdLst/>
            <a:ahLst/>
            <a:rect l="l" t="t" r="r" b="b"/>
            <a:pathLst>
              <a:path w="795" h="547">
                <a:moveTo>
                  <a:pt x="8781" y="13146"/>
                </a:moveTo>
                <a:cubicBezTo>
                  <a:pt x="8701" y="13182"/>
                  <a:pt x="8676" y="13194"/>
                  <a:pt x="8607" y="13171"/>
                </a:cubicBezTo>
                <a:cubicBezTo>
                  <a:pt x="8528" y="13145"/>
                  <a:pt x="8504" y="13299"/>
                  <a:pt x="8483" y="13345"/>
                </a:cubicBezTo>
                <a:cubicBezTo>
                  <a:pt x="8577" y="13345"/>
                  <a:pt x="8685" y="13315"/>
                  <a:pt x="8756" y="13395"/>
                </a:cubicBezTo>
                <a:cubicBezTo>
                  <a:pt x="8801" y="13484"/>
                  <a:pt x="8821" y="13507"/>
                  <a:pt x="8781" y="13568"/>
                </a:cubicBezTo>
                <a:cubicBezTo>
                  <a:pt x="8669" y="13592"/>
                  <a:pt x="8560" y="13612"/>
                  <a:pt x="8458" y="13568"/>
                </a:cubicBezTo>
              </a:path>
              <a:path w="795" h="547">
                <a:moveTo>
                  <a:pt x="8012" y="13618"/>
                </a:moveTo>
                <a:cubicBezTo>
                  <a:pt x="8043" y="13526"/>
                  <a:pt x="8024" y="13686"/>
                  <a:pt x="8062" y="13692"/>
                </a:cubicBezTo>
                <a:cubicBezTo>
                  <a:pt x="8129" y="13703"/>
                  <a:pt x="8258" y="13618"/>
                  <a:pt x="8186" y="13568"/>
                </a:cubicBezTo>
                <a:cubicBezTo>
                  <a:pt x="8179" y="13575"/>
                  <a:pt x="8039" y="13735"/>
                  <a:pt x="8161" y="13643"/>
                </a:cubicBezTo>
                <a:cubicBezTo>
                  <a:pt x="8320" y="13523"/>
                  <a:pt x="8086" y="13667"/>
                  <a:pt x="8086" y="136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54120" y="3009960"/>
            <a:ext cx="6188040" cy="1884240"/>
          </a:xfrm>
          <a:custGeom>
            <a:avLst/>
            <a:gdLst/>
            <a:ahLst/>
            <a:rect l="l" t="t" r="r" b="b"/>
            <a:pathLst>
              <a:path w="17191" h="5235">
                <a:moveTo>
                  <a:pt x="20737" y="8359"/>
                </a:moveTo>
                <a:cubicBezTo>
                  <a:pt x="20753" y="8359"/>
                  <a:pt x="20770" y="8359"/>
                  <a:pt x="20786" y="8359"/>
                </a:cubicBezTo>
              </a:path>
              <a:path w="17191" h="5235">
                <a:moveTo>
                  <a:pt x="20786" y="8359"/>
                </a:moveTo>
                <a:lnTo>
                  <a:pt x="20786" y="8359"/>
                </a:lnTo>
              </a:path>
              <a:path w="17191" h="5235">
                <a:moveTo>
                  <a:pt x="21506" y="8359"/>
                </a:moveTo>
                <a:cubicBezTo>
                  <a:pt x="21488" y="8414"/>
                  <a:pt x="21480" y="8461"/>
                  <a:pt x="21456" y="8508"/>
                </a:cubicBezTo>
              </a:path>
              <a:path w="17191" h="5235">
                <a:moveTo>
                  <a:pt x="4341" y="13519"/>
                </a:moveTo>
                <a:cubicBezTo>
                  <a:pt x="4321" y="13559"/>
                  <a:pt x="4312" y="13565"/>
                  <a:pt x="4316" y="1359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813800" y="2982960"/>
            <a:ext cx="223560" cy="81000"/>
          </a:xfrm>
          <a:custGeom>
            <a:avLst/>
            <a:gdLst/>
            <a:ahLst/>
            <a:rect l="l" t="t" r="r" b="b"/>
            <a:pathLst>
              <a:path w="621" h="224">
                <a:moveTo>
                  <a:pt x="21779" y="8285"/>
                </a:moveTo>
                <a:cubicBezTo>
                  <a:pt x="21766" y="8348"/>
                  <a:pt x="21652" y="8450"/>
                  <a:pt x="21729" y="8508"/>
                </a:cubicBezTo>
                <a:cubicBezTo>
                  <a:pt x="21798" y="8560"/>
                  <a:pt x="22002" y="8397"/>
                  <a:pt x="21952" y="8359"/>
                </a:cubicBezTo>
                <a:cubicBezTo>
                  <a:pt x="21901" y="8359"/>
                  <a:pt x="21882" y="8358"/>
                  <a:pt x="21853" y="8334"/>
                </a:cubicBezTo>
              </a:path>
              <a:path w="621" h="224">
                <a:moveTo>
                  <a:pt x="22200" y="8334"/>
                </a:moveTo>
                <a:cubicBezTo>
                  <a:pt x="22154" y="8381"/>
                  <a:pt x="22140" y="8393"/>
                  <a:pt x="22126" y="8434"/>
                </a:cubicBezTo>
                <a:cubicBezTo>
                  <a:pt x="22177" y="8467"/>
                  <a:pt x="22352" y="8529"/>
                  <a:pt x="22324" y="8384"/>
                </a:cubicBezTo>
                <a:cubicBezTo>
                  <a:pt x="22267" y="8326"/>
                  <a:pt x="22240" y="8307"/>
                  <a:pt x="22175" y="831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16160" y="2394000"/>
            <a:ext cx="492120" cy="222120"/>
          </a:xfrm>
          <a:custGeom>
            <a:avLst/>
            <a:gdLst/>
            <a:ahLst/>
            <a:rect l="l" t="t" r="r" b="b"/>
            <a:pathLst>
              <a:path w="1365" h="621">
                <a:moveTo>
                  <a:pt x="8806" y="6772"/>
                </a:moveTo>
                <a:cubicBezTo>
                  <a:pt x="8744" y="6784"/>
                  <a:pt x="8701" y="6804"/>
                  <a:pt x="8682" y="6871"/>
                </a:cubicBezTo>
                <a:cubicBezTo>
                  <a:pt x="8645" y="7005"/>
                  <a:pt x="8660" y="7111"/>
                  <a:pt x="8682" y="7243"/>
                </a:cubicBezTo>
                <a:cubicBezTo>
                  <a:pt x="8891" y="7228"/>
                  <a:pt x="8955" y="7093"/>
                  <a:pt x="8905" y="6871"/>
                </a:cubicBezTo>
                <a:cubicBezTo>
                  <a:pt x="8894" y="6824"/>
                  <a:pt x="8818" y="6821"/>
                  <a:pt x="8781" y="6821"/>
                </a:cubicBezTo>
              </a:path>
              <a:path w="1365" h="621">
                <a:moveTo>
                  <a:pt x="9327" y="6648"/>
                </a:moveTo>
                <a:cubicBezTo>
                  <a:pt x="9408" y="6648"/>
                  <a:pt x="9512" y="6651"/>
                  <a:pt x="9475" y="6772"/>
                </a:cubicBezTo>
                <a:cubicBezTo>
                  <a:pt x="9456" y="6835"/>
                  <a:pt x="9413" y="6883"/>
                  <a:pt x="9401" y="6871"/>
                </a:cubicBezTo>
                <a:cubicBezTo>
                  <a:pt x="9519" y="6855"/>
                  <a:pt x="9678" y="6863"/>
                  <a:pt x="9575" y="7045"/>
                </a:cubicBezTo>
                <a:cubicBezTo>
                  <a:pt x="9513" y="7153"/>
                  <a:pt x="9406" y="7136"/>
                  <a:pt x="9302" y="7144"/>
                </a:cubicBezTo>
              </a:path>
              <a:path w="1365" h="621">
                <a:moveTo>
                  <a:pt x="9773" y="6648"/>
                </a:moveTo>
                <a:cubicBezTo>
                  <a:pt x="9754" y="6762"/>
                  <a:pt x="9719" y="6903"/>
                  <a:pt x="9748" y="7020"/>
                </a:cubicBezTo>
                <a:cubicBezTo>
                  <a:pt x="9793" y="7109"/>
                  <a:pt x="9799" y="7139"/>
                  <a:pt x="9872" y="7144"/>
                </a:cubicBezTo>
                <a:cubicBezTo>
                  <a:pt x="9929" y="7097"/>
                  <a:pt x="10162" y="6905"/>
                  <a:pt x="9996" y="6821"/>
                </a:cubicBezTo>
                <a:cubicBezTo>
                  <a:pt x="9971" y="6821"/>
                  <a:pt x="9947" y="6821"/>
                  <a:pt x="9922" y="6821"/>
                </a:cubicBezTo>
                <a:cubicBezTo>
                  <a:pt x="9844" y="6930"/>
                  <a:pt x="9823" y="6980"/>
                  <a:pt x="9823" y="7119"/>
                </a:cubicBezTo>
              </a:path>
              <a:path w="1365" h="621">
                <a:moveTo>
                  <a:pt x="9153" y="7169"/>
                </a:moveTo>
                <a:cubicBezTo>
                  <a:pt x="9128" y="7169"/>
                  <a:pt x="9120" y="7169"/>
                  <a:pt x="9103" y="7169"/>
                </a:cubicBezTo>
                <a:cubicBezTo>
                  <a:pt x="9116" y="7129"/>
                  <a:pt x="9132" y="7065"/>
                  <a:pt x="9103" y="7094"/>
                </a:cubicBezTo>
                <a:cubicBezTo>
                  <a:pt x="9096" y="7101"/>
                  <a:pt x="9102" y="7170"/>
                  <a:pt x="9128" y="711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39920" y="4697280"/>
            <a:ext cx="428400" cy="214560"/>
          </a:xfrm>
          <a:custGeom>
            <a:avLst/>
            <a:gdLst/>
            <a:ahLst/>
            <a:rect l="l" t="t" r="r" b="b"/>
            <a:pathLst>
              <a:path w="1191" h="597">
                <a:moveTo>
                  <a:pt x="4093" y="13146"/>
                </a:moveTo>
                <a:cubicBezTo>
                  <a:pt x="4081" y="13061"/>
                  <a:pt x="4084" y="13084"/>
                  <a:pt x="3994" y="13047"/>
                </a:cubicBezTo>
                <a:cubicBezTo>
                  <a:pt x="3808" y="13155"/>
                  <a:pt x="3730" y="13344"/>
                  <a:pt x="3721" y="13568"/>
                </a:cubicBezTo>
                <a:cubicBezTo>
                  <a:pt x="3729" y="13593"/>
                  <a:pt x="3738" y="13618"/>
                  <a:pt x="3746" y="13643"/>
                </a:cubicBezTo>
                <a:cubicBezTo>
                  <a:pt x="3954" y="13550"/>
                  <a:pt x="4100" y="13424"/>
                  <a:pt x="4118" y="13171"/>
                </a:cubicBezTo>
                <a:cubicBezTo>
                  <a:pt x="4120" y="13136"/>
                  <a:pt x="4039" y="13126"/>
                  <a:pt x="4018" y="13122"/>
                </a:cubicBezTo>
              </a:path>
              <a:path w="1191" h="597">
                <a:moveTo>
                  <a:pt x="4762" y="13097"/>
                </a:moveTo>
                <a:cubicBezTo>
                  <a:pt x="4745" y="13149"/>
                  <a:pt x="4761" y="13101"/>
                  <a:pt x="4837" y="13047"/>
                </a:cubicBezTo>
                <a:cubicBezTo>
                  <a:pt x="4926" y="13175"/>
                  <a:pt x="4963" y="13335"/>
                  <a:pt x="4837" y="13469"/>
                </a:cubicBezTo>
                <a:cubicBezTo>
                  <a:pt x="4732" y="13532"/>
                  <a:pt x="4711" y="13550"/>
                  <a:pt x="4638" y="13568"/>
                </a:cubicBezTo>
                <a:cubicBezTo>
                  <a:pt x="4656" y="13481"/>
                  <a:pt x="4685" y="13409"/>
                  <a:pt x="4787" y="13419"/>
                </a:cubicBezTo>
                <a:cubicBezTo>
                  <a:pt x="4864" y="13426"/>
                  <a:pt x="4899" y="13533"/>
                  <a:pt x="4911" y="13593"/>
                </a:cubicBezTo>
              </a:path>
              <a:path w="1191" h="597">
                <a:moveTo>
                  <a:pt x="4242" y="13519"/>
                </a:moveTo>
                <a:cubicBezTo>
                  <a:pt x="4242" y="13646"/>
                  <a:pt x="4269" y="13555"/>
                  <a:pt x="4316" y="13469"/>
                </a:cubicBezTo>
                <a:cubicBezTo>
                  <a:pt x="4287" y="13492"/>
                  <a:pt x="4200" y="13655"/>
                  <a:pt x="4316" y="13593"/>
                </a:cubicBezTo>
                <a:cubicBezTo>
                  <a:pt x="4372" y="13564"/>
                  <a:pt x="4394" y="13470"/>
                  <a:pt x="4341" y="1359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45080" y="4732200"/>
            <a:ext cx="642960" cy="9720"/>
          </a:xfrm>
          <a:custGeom>
            <a:avLst/>
            <a:gdLst/>
            <a:ahLst/>
            <a:rect l="l" t="t" r="r" b="b"/>
            <a:pathLst>
              <a:path w="1787" h="26">
                <a:moveTo>
                  <a:pt x="15404" y="13171"/>
                </a:moveTo>
                <a:cubicBezTo>
                  <a:pt x="15487" y="13152"/>
                  <a:pt x="15562" y="13146"/>
                  <a:pt x="15652" y="13146"/>
                </a:cubicBezTo>
                <a:cubicBezTo>
                  <a:pt x="15827" y="13146"/>
                  <a:pt x="15997" y="13171"/>
                  <a:pt x="16173" y="13171"/>
                </a:cubicBezTo>
                <a:cubicBezTo>
                  <a:pt x="16491" y="13171"/>
                  <a:pt x="16832" y="13198"/>
                  <a:pt x="17140" y="13146"/>
                </a:cubicBezTo>
                <a:cubicBezTo>
                  <a:pt x="17215" y="13146"/>
                  <a:pt x="17207" y="13151"/>
                  <a:pt x="17066" y="1317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732200"/>
            <a:ext cx="644400" cy="36720"/>
          </a:xfrm>
          <a:custGeom>
            <a:avLst/>
            <a:gdLst/>
            <a:ahLst/>
            <a:rect l="l" t="t" r="r" b="b"/>
            <a:pathLst>
              <a:path w="1787" h="101">
                <a:moveTo>
                  <a:pt x="15453" y="13196"/>
                </a:moveTo>
                <a:cubicBezTo>
                  <a:pt x="15638" y="13147"/>
                  <a:pt x="15798" y="13146"/>
                  <a:pt x="15999" y="13146"/>
                </a:cubicBezTo>
                <a:cubicBezTo>
                  <a:pt x="16327" y="13146"/>
                  <a:pt x="16622" y="13188"/>
                  <a:pt x="16942" y="13221"/>
                </a:cubicBezTo>
                <a:cubicBezTo>
                  <a:pt x="17056" y="13233"/>
                  <a:pt x="17144" y="13205"/>
                  <a:pt x="17239" y="1324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45280" y="534816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22349" y="14883"/>
                </a:moveTo>
                <a:cubicBezTo>
                  <a:pt x="22349" y="14918"/>
                  <a:pt x="22354" y="14917"/>
                  <a:pt x="22374" y="1485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81800" y="5205240"/>
            <a:ext cx="428400" cy="250920"/>
          </a:xfrm>
          <a:custGeom>
            <a:avLst/>
            <a:gdLst/>
            <a:ahLst/>
            <a:rect l="l" t="t" r="r" b="b"/>
            <a:pathLst>
              <a:path w="1192" h="696">
                <a:moveTo>
                  <a:pt x="15875" y="14560"/>
                </a:moveTo>
                <a:cubicBezTo>
                  <a:pt x="15957" y="14402"/>
                  <a:pt x="15691" y="14728"/>
                  <a:pt x="15602" y="14883"/>
                </a:cubicBezTo>
                <a:cubicBezTo>
                  <a:pt x="15525" y="15037"/>
                  <a:pt x="15492" y="15055"/>
                  <a:pt x="15503" y="15156"/>
                </a:cubicBezTo>
                <a:cubicBezTo>
                  <a:pt x="15691" y="15050"/>
                  <a:pt x="15971" y="14849"/>
                  <a:pt x="15925" y="14585"/>
                </a:cubicBezTo>
                <a:cubicBezTo>
                  <a:pt x="15858" y="14563"/>
                  <a:pt x="15840" y="14551"/>
                  <a:pt x="15801" y="14585"/>
                </a:cubicBezTo>
              </a:path>
              <a:path w="1192" h="696">
                <a:moveTo>
                  <a:pt x="16148" y="15007"/>
                </a:moveTo>
                <a:cubicBezTo>
                  <a:pt x="16140" y="15038"/>
                  <a:pt x="16086" y="15133"/>
                  <a:pt x="16148" y="15032"/>
                </a:cubicBezTo>
              </a:path>
              <a:path w="1192" h="696">
                <a:moveTo>
                  <a:pt x="16495" y="14461"/>
                </a:moveTo>
                <a:cubicBezTo>
                  <a:pt x="16450" y="14529"/>
                  <a:pt x="16555" y="14418"/>
                  <a:pt x="16619" y="14461"/>
                </a:cubicBezTo>
                <a:cubicBezTo>
                  <a:pt x="16872" y="14632"/>
                  <a:pt x="16578" y="14917"/>
                  <a:pt x="16421" y="15007"/>
                </a:cubicBezTo>
                <a:cubicBezTo>
                  <a:pt x="16404" y="15007"/>
                  <a:pt x="16388" y="15007"/>
                  <a:pt x="16371" y="15007"/>
                </a:cubicBezTo>
                <a:cubicBezTo>
                  <a:pt x="16422" y="14905"/>
                  <a:pt x="16502" y="14696"/>
                  <a:pt x="16594" y="14908"/>
                </a:cubicBezTo>
                <a:cubicBezTo>
                  <a:pt x="16627" y="14983"/>
                  <a:pt x="16636" y="15076"/>
                  <a:pt x="16644" y="1515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86680" y="5241960"/>
            <a:ext cx="107640" cy="1872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7711" y="14560"/>
                </a:moveTo>
                <a:cubicBezTo>
                  <a:pt x="17544" y="14685"/>
                  <a:pt x="17496" y="14848"/>
                  <a:pt x="17462" y="15056"/>
                </a:cubicBezTo>
                <a:cubicBezTo>
                  <a:pt x="17629" y="15056"/>
                  <a:pt x="17780" y="14945"/>
                  <a:pt x="17760" y="14734"/>
                </a:cubicBezTo>
                <a:cubicBezTo>
                  <a:pt x="17724" y="14661"/>
                  <a:pt x="17736" y="14628"/>
                  <a:pt x="17686" y="1463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8160" y="5241960"/>
            <a:ext cx="411120" cy="22392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18107" y="14932"/>
                </a:moveTo>
                <a:cubicBezTo>
                  <a:pt x="18107" y="14974"/>
                  <a:pt x="18107" y="14982"/>
                  <a:pt x="18107" y="15007"/>
                </a:cubicBezTo>
              </a:path>
              <a:path w="1142" h="621">
                <a:moveTo>
                  <a:pt x="18430" y="14585"/>
                </a:moveTo>
                <a:cubicBezTo>
                  <a:pt x="18587" y="14553"/>
                  <a:pt x="18701" y="14645"/>
                  <a:pt x="18653" y="14833"/>
                </a:cubicBezTo>
                <a:cubicBezTo>
                  <a:pt x="18615" y="14982"/>
                  <a:pt x="18524" y="14988"/>
                  <a:pt x="18405" y="15007"/>
                </a:cubicBezTo>
                <a:cubicBezTo>
                  <a:pt x="18416" y="14921"/>
                  <a:pt x="18453" y="14845"/>
                  <a:pt x="18554" y="14908"/>
                </a:cubicBezTo>
                <a:cubicBezTo>
                  <a:pt x="18641" y="14962"/>
                  <a:pt x="18621" y="15009"/>
                  <a:pt x="18703" y="14982"/>
                </a:cubicBezTo>
              </a:path>
              <a:path w="1142" h="621">
                <a:moveTo>
                  <a:pt x="18901" y="14585"/>
                </a:moveTo>
                <a:cubicBezTo>
                  <a:pt x="19017" y="14618"/>
                  <a:pt x="19098" y="14654"/>
                  <a:pt x="19224" y="14660"/>
                </a:cubicBezTo>
                <a:cubicBezTo>
                  <a:pt x="19232" y="14660"/>
                  <a:pt x="19240" y="14660"/>
                  <a:pt x="19248" y="14660"/>
                </a:cubicBezTo>
                <a:cubicBezTo>
                  <a:pt x="19216" y="14789"/>
                  <a:pt x="19185" y="14942"/>
                  <a:pt x="19149" y="15081"/>
                </a:cubicBezTo>
                <a:cubicBezTo>
                  <a:pt x="19141" y="15114"/>
                  <a:pt x="19132" y="15147"/>
                  <a:pt x="19124" y="1518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26200" y="5268960"/>
            <a:ext cx="169920" cy="18720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20042" y="14660"/>
                </a:moveTo>
                <a:cubicBezTo>
                  <a:pt x="19993" y="14562"/>
                  <a:pt x="19922" y="14787"/>
                  <a:pt x="19869" y="14883"/>
                </a:cubicBezTo>
                <a:cubicBezTo>
                  <a:pt x="19804" y="15012"/>
                  <a:pt x="19779" y="15039"/>
                  <a:pt x="19794" y="15131"/>
                </a:cubicBezTo>
                <a:cubicBezTo>
                  <a:pt x="19965" y="15165"/>
                  <a:pt x="20045" y="15027"/>
                  <a:pt x="20092" y="14858"/>
                </a:cubicBezTo>
                <a:cubicBezTo>
                  <a:pt x="20108" y="14800"/>
                  <a:pt x="20078" y="14702"/>
                  <a:pt x="20042" y="14684"/>
                </a:cubicBezTo>
                <a:cubicBezTo>
                  <a:pt x="20034" y="14684"/>
                  <a:pt x="20025" y="14684"/>
                  <a:pt x="20017" y="14684"/>
                </a:cubicBezTo>
              </a:path>
              <a:path w="472" h="522">
                <a:moveTo>
                  <a:pt x="20241" y="14957"/>
                </a:moveTo>
                <a:cubicBezTo>
                  <a:pt x="20254" y="14992"/>
                  <a:pt x="20265" y="15144"/>
                  <a:pt x="20265" y="1503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29680" y="5214960"/>
            <a:ext cx="241200" cy="357120"/>
          </a:xfrm>
          <a:custGeom>
            <a:avLst/>
            <a:gdLst/>
            <a:ahLst/>
            <a:rect l="l" t="t" r="r" b="b"/>
            <a:pathLst>
              <a:path w="670" h="993">
                <a:moveTo>
                  <a:pt x="20786" y="14585"/>
                </a:moveTo>
                <a:cubicBezTo>
                  <a:pt x="20767" y="14526"/>
                  <a:pt x="20708" y="14572"/>
                  <a:pt x="20662" y="14585"/>
                </a:cubicBezTo>
                <a:cubicBezTo>
                  <a:pt x="20613" y="14599"/>
                  <a:pt x="20638" y="14680"/>
                  <a:pt x="20638" y="14734"/>
                </a:cubicBezTo>
                <a:cubicBezTo>
                  <a:pt x="20638" y="14742"/>
                  <a:pt x="20638" y="14751"/>
                  <a:pt x="20638" y="14759"/>
                </a:cubicBezTo>
                <a:cubicBezTo>
                  <a:pt x="20689" y="14759"/>
                  <a:pt x="20714" y="14741"/>
                  <a:pt x="20762" y="14734"/>
                </a:cubicBezTo>
                <a:cubicBezTo>
                  <a:pt x="20830" y="14725"/>
                  <a:pt x="20914" y="14775"/>
                  <a:pt x="20910" y="14858"/>
                </a:cubicBezTo>
                <a:cubicBezTo>
                  <a:pt x="20906" y="14944"/>
                  <a:pt x="20802" y="14977"/>
                  <a:pt x="20737" y="14982"/>
                </a:cubicBezTo>
                <a:cubicBezTo>
                  <a:pt x="20712" y="14982"/>
                  <a:pt x="20704" y="14982"/>
                  <a:pt x="20687" y="14982"/>
                </a:cubicBezTo>
              </a:path>
              <a:path w="670" h="993">
                <a:moveTo>
                  <a:pt x="20786" y="14536"/>
                </a:moveTo>
                <a:cubicBezTo>
                  <a:pt x="20778" y="14528"/>
                  <a:pt x="20770" y="14519"/>
                  <a:pt x="20762" y="14511"/>
                </a:cubicBezTo>
                <a:cubicBezTo>
                  <a:pt x="20819" y="14511"/>
                  <a:pt x="20857" y="14491"/>
                  <a:pt x="20910" y="14486"/>
                </a:cubicBezTo>
                <a:cubicBezTo>
                  <a:pt x="20918" y="14486"/>
                  <a:pt x="20927" y="14486"/>
                  <a:pt x="20935" y="14486"/>
                </a:cubicBezTo>
              </a:path>
              <a:path w="670" h="993">
                <a:moveTo>
                  <a:pt x="21233" y="15131"/>
                </a:moveTo>
                <a:cubicBezTo>
                  <a:pt x="21261" y="15138"/>
                  <a:pt x="21319" y="15161"/>
                  <a:pt x="21307" y="15205"/>
                </a:cubicBezTo>
                <a:cubicBezTo>
                  <a:pt x="21278" y="15306"/>
                  <a:pt x="21165" y="15582"/>
                  <a:pt x="21183" y="15478"/>
                </a:cubicBezTo>
                <a:cubicBezTo>
                  <a:pt x="21191" y="15462"/>
                  <a:pt x="21200" y="15445"/>
                  <a:pt x="21208" y="1542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13800" y="5268960"/>
            <a:ext cx="115920" cy="142920"/>
          </a:xfrm>
          <a:custGeom>
            <a:avLst/>
            <a:gdLst/>
            <a:ahLst/>
            <a:rect l="l" t="t" r="r" b="b"/>
            <a:pathLst>
              <a:path w="324" h="398">
                <a:moveTo>
                  <a:pt x="21903" y="14684"/>
                </a:moveTo>
                <a:cubicBezTo>
                  <a:pt x="21903" y="14660"/>
                  <a:pt x="21903" y="14651"/>
                  <a:pt x="21903" y="14635"/>
                </a:cubicBezTo>
                <a:cubicBezTo>
                  <a:pt x="21770" y="14671"/>
                  <a:pt x="21666" y="14816"/>
                  <a:pt x="21704" y="14982"/>
                </a:cubicBezTo>
                <a:cubicBezTo>
                  <a:pt x="21721" y="14999"/>
                  <a:pt x="21737" y="15015"/>
                  <a:pt x="21754" y="15032"/>
                </a:cubicBezTo>
                <a:cubicBezTo>
                  <a:pt x="21865" y="14968"/>
                  <a:pt x="22092" y="14854"/>
                  <a:pt x="22002" y="14684"/>
                </a:cubicBezTo>
                <a:cubicBezTo>
                  <a:pt x="21985" y="14668"/>
                  <a:pt x="21969" y="14651"/>
                  <a:pt x="21952" y="1463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43920" y="5205240"/>
            <a:ext cx="16020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22671" y="14461"/>
                </a:moveTo>
                <a:cubicBezTo>
                  <a:pt x="22671" y="14548"/>
                  <a:pt x="22659" y="14649"/>
                  <a:pt x="22647" y="14734"/>
                </a:cubicBezTo>
                <a:cubicBezTo>
                  <a:pt x="22626" y="14886"/>
                  <a:pt x="22594" y="14972"/>
                  <a:pt x="22796" y="14957"/>
                </a:cubicBezTo>
                <a:cubicBezTo>
                  <a:pt x="22887" y="14950"/>
                  <a:pt x="23111" y="14869"/>
                  <a:pt x="23068" y="14734"/>
                </a:cubicBezTo>
                <a:cubicBezTo>
                  <a:pt x="23060" y="14734"/>
                  <a:pt x="23052" y="14734"/>
                  <a:pt x="23044" y="14734"/>
                </a:cubicBezTo>
                <a:cubicBezTo>
                  <a:pt x="22932" y="14753"/>
                  <a:pt x="22840" y="14784"/>
                  <a:pt x="22870" y="14932"/>
                </a:cubicBezTo>
                <a:cubicBezTo>
                  <a:pt x="22878" y="14949"/>
                  <a:pt x="22887" y="14965"/>
                  <a:pt x="22895" y="1498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72120" y="5483160"/>
            <a:ext cx="1616040" cy="534960"/>
          </a:xfrm>
          <a:custGeom>
            <a:avLst/>
            <a:gdLst/>
            <a:ahLst/>
            <a:rect l="l" t="t" r="r" b="b"/>
            <a:pathLst>
              <a:path w="4491" h="1489">
                <a:moveTo>
                  <a:pt x="16942" y="15255"/>
                </a:moveTo>
                <a:cubicBezTo>
                  <a:pt x="16920" y="15344"/>
                  <a:pt x="16919" y="15369"/>
                  <a:pt x="16867" y="15404"/>
                </a:cubicBezTo>
              </a:path>
              <a:path w="4491" h="1489">
                <a:moveTo>
                  <a:pt x="19422" y="15230"/>
                </a:moveTo>
                <a:cubicBezTo>
                  <a:pt x="19389" y="15334"/>
                  <a:pt x="19366" y="15394"/>
                  <a:pt x="19298" y="15478"/>
                </a:cubicBezTo>
              </a:path>
              <a:path w="4491" h="1489">
                <a:moveTo>
                  <a:pt x="17735" y="16321"/>
                </a:moveTo>
                <a:cubicBezTo>
                  <a:pt x="17735" y="16338"/>
                  <a:pt x="17735" y="16354"/>
                  <a:pt x="17735" y="16371"/>
                </a:cubicBezTo>
              </a:path>
              <a:path w="4491" h="1489">
                <a:moveTo>
                  <a:pt x="18976" y="16470"/>
                </a:moveTo>
                <a:cubicBezTo>
                  <a:pt x="18937" y="16616"/>
                  <a:pt x="18945" y="16643"/>
                  <a:pt x="18827" y="16718"/>
                </a:cubicBezTo>
              </a:path>
              <a:path w="4491" h="1489">
                <a:moveTo>
                  <a:pt x="20439" y="16470"/>
                </a:moveTo>
                <a:cubicBezTo>
                  <a:pt x="20449" y="16547"/>
                  <a:pt x="20508" y="16709"/>
                  <a:pt x="20414" y="16570"/>
                </a:cubicBezTo>
              </a:path>
              <a:path w="4491" h="1489">
                <a:moveTo>
                  <a:pt x="21357" y="16396"/>
                </a:moveTo>
                <a:cubicBezTo>
                  <a:pt x="21357" y="16413"/>
                  <a:pt x="21357" y="16429"/>
                  <a:pt x="21357" y="1644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88000" y="5653080"/>
            <a:ext cx="330120" cy="419040"/>
          </a:xfrm>
          <a:custGeom>
            <a:avLst/>
            <a:gdLst/>
            <a:ahLst/>
            <a:rect l="l" t="t" r="r" b="b"/>
            <a:pathLst>
              <a:path w="918" h="1167">
                <a:moveTo>
                  <a:pt x="15900" y="15801"/>
                </a:moveTo>
                <a:cubicBezTo>
                  <a:pt x="15954" y="15774"/>
                  <a:pt x="16011" y="15732"/>
                  <a:pt x="16073" y="15701"/>
                </a:cubicBezTo>
                <a:cubicBezTo>
                  <a:pt x="16126" y="15814"/>
                  <a:pt x="16197" y="16048"/>
                  <a:pt x="15974" y="16073"/>
                </a:cubicBezTo>
                <a:cubicBezTo>
                  <a:pt x="15949" y="16065"/>
                  <a:pt x="15925" y="16057"/>
                  <a:pt x="15900" y="16049"/>
                </a:cubicBezTo>
                <a:cubicBezTo>
                  <a:pt x="15900" y="15909"/>
                  <a:pt x="16010" y="15956"/>
                  <a:pt x="16123" y="15974"/>
                </a:cubicBezTo>
                <a:cubicBezTo>
                  <a:pt x="16285" y="16000"/>
                  <a:pt x="16210" y="16005"/>
                  <a:pt x="16297" y="16049"/>
                </a:cubicBezTo>
              </a:path>
              <a:path w="918" h="1167">
                <a:moveTo>
                  <a:pt x="15801" y="16173"/>
                </a:moveTo>
                <a:cubicBezTo>
                  <a:pt x="16022" y="16173"/>
                  <a:pt x="16253" y="16149"/>
                  <a:pt x="16470" y="16197"/>
                </a:cubicBezTo>
                <a:cubicBezTo>
                  <a:pt x="16487" y="16205"/>
                  <a:pt x="16503" y="16214"/>
                  <a:pt x="16520" y="16222"/>
                </a:cubicBezTo>
              </a:path>
              <a:path w="918" h="1167">
                <a:moveTo>
                  <a:pt x="15801" y="16421"/>
                </a:moveTo>
                <a:cubicBezTo>
                  <a:pt x="15856" y="16497"/>
                  <a:pt x="15838" y="16677"/>
                  <a:pt x="15825" y="16768"/>
                </a:cubicBezTo>
                <a:cubicBezTo>
                  <a:pt x="15802" y="16816"/>
                  <a:pt x="15794" y="16831"/>
                  <a:pt x="15801" y="16867"/>
                </a:cubicBezTo>
              </a:path>
              <a:path w="918" h="1167">
                <a:moveTo>
                  <a:pt x="16247" y="16446"/>
                </a:moveTo>
                <a:cubicBezTo>
                  <a:pt x="16197" y="16558"/>
                  <a:pt x="16163" y="16648"/>
                  <a:pt x="16148" y="16768"/>
                </a:cubicBezTo>
                <a:cubicBezTo>
                  <a:pt x="16274" y="16844"/>
                  <a:pt x="16417" y="16830"/>
                  <a:pt x="16495" y="16669"/>
                </a:cubicBezTo>
                <a:cubicBezTo>
                  <a:pt x="16587" y="16479"/>
                  <a:pt x="16429" y="16470"/>
                  <a:pt x="16297" y="16470"/>
                </a:cubicBezTo>
              </a:path>
              <a:path w="918" h="1167">
                <a:moveTo>
                  <a:pt x="16718" y="16594"/>
                </a:moveTo>
                <a:cubicBezTo>
                  <a:pt x="16718" y="16685"/>
                  <a:pt x="16718" y="16727"/>
                  <a:pt x="16718" y="1681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80120" y="5786280"/>
            <a:ext cx="9828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17413" y="16148"/>
                </a:moveTo>
                <a:cubicBezTo>
                  <a:pt x="17386" y="16113"/>
                  <a:pt x="17392" y="16012"/>
                  <a:pt x="17314" y="16098"/>
                </a:cubicBezTo>
                <a:cubicBezTo>
                  <a:pt x="17199" y="16224"/>
                  <a:pt x="17182" y="16338"/>
                  <a:pt x="17165" y="16495"/>
                </a:cubicBezTo>
                <a:cubicBezTo>
                  <a:pt x="17330" y="16465"/>
                  <a:pt x="17431" y="16384"/>
                  <a:pt x="17438" y="16197"/>
                </a:cubicBezTo>
                <a:cubicBezTo>
                  <a:pt x="17440" y="16129"/>
                  <a:pt x="17360" y="16123"/>
                  <a:pt x="17314" y="1612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91160" y="5742000"/>
            <a:ext cx="250920" cy="169920"/>
          </a:xfrm>
          <a:custGeom>
            <a:avLst/>
            <a:gdLst/>
            <a:ahLst/>
            <a:rect l="l" t="t" r="r" b="b"/>
            <a:pathLst>
              <a:path w="696" h="473">
                <a:moveTo>
                  <a:pt x="18107" y="15974"/>
                </a:moveTo>
                <a:cubicBezTo>
                  <a:pt x="18215" y="16035"/>
                  <a:pt x="18349" y="16152"/>
                  <a:pt x="18281" y="16297"/>
                </a:cubicBezTo>
                <a:cubicBezTo>
                  <a:pt x="18226" y="16415"/>
                  <a:pt x="18126" y="16385"/>
                  <a:pt x="18033" y="16371"/>
                </a:cubicBezTo>
                <a:cubicBezTo>
                  <a:pt x="18060" y="16263"/>
                  <a:pt x="18220" y="16290"/>
                  <a:pt x="18306" y="16321"/>
                </a:cubicBezTo>
                <a:cubicBezTo>
                  <a:pt x="18436" y="16368"/>
                  <a:pt x="18379" y="16436"/>
                  <a:pt x="18430" y="16247"/>
                </a:cubicBezTo>
              </a:path>
              <a:path w="696" h="473">
                <a:moveTo>
                  <a:pt x="18380" y="15974"/>
                </a:moveTo>
                <a:cubicBezTo>
                  <a:pt x="18492" y="15974"/>
                  <a:pt x="18594" y="15956"/>
                  <a:pt x="18703" y="15949"/>
                </a:cubicBezTo>
                <a:cubicBezTo>
                  <a:pt x="18711" y="15949"/>
                  <a:pt x="18720" y="15949"/>
                  <a:pt x="18728" y="15949"/>
                </a:cubicBezTo>
                <a:cubicBezTo>
                  <a:pt x="18728" y="16082"/>
                  <a:pt x="18738" y="16244"/>
                  <a:pt x="18703" y="16371"/>
                </a:cubicBezTo>
                <a:cubicBezTo>
                  <a:pt x="18680" y="16394"/>
                  <a:pt x="18672" y="16398"/>
                  <a:pt x="18678" y="164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991200" y="5742000"/>
            <a:ext cx="206640" cy="312840"/>
          </a:xfrm>
          <a:custGeom>
            <a:avLst/>
            <a:gdLst/>
            <a:ahLst/>
            <a:rect l="l" t="t" r="r" b="b"/>
            <a:pathLst>
              <a:path w="572" h="870">
                <a:moveTo>
                  <a:pt x="19645" y="15949"/>
                </a:moveTo>
                <a:cubicBezTo>
                  <a:pt x="19645" y="16032"/>
                  <a:pt x="19645" y="16114"/>
                  <a:pt x="19645" y="16197"/>
                </a:cubicBezTo>
              </a:path>
              <a:path w="572" h="870">
                <a:moveTo>
                  <a:pt x="19422" y="16371"/>
                </a:moveTo>
                <a:cubicBezTo>
                  <a:pt x="19606" y="16359"/>
                  <a:pt x="19785" y="16323"/>
                  <a:pt x="19968" y="16297"/>
                </a:cubicBezTo>
                <a:cubicBezTo>
                  <a:pt x="19976" y="16297"/>
                  <a:pt x="19985" y="16297"/>
                  <a:pt x="19993" y="16297"/>
                </a:cubicBezTo>
              </a:path>
              <a:path w="572" h="870">
                <a:moveTo>
                  <a:pt x="19720" y="16495"/>
                </a:moveTo>
                <a:cubicBezTo>
                  <a:pt x="19839" y="16514"/>
                  <a:pt x="19980" y="16540"/>
                  <a:pt x="19918" y="16694"/>
                </a:cubicBezTo>
                <a:cubicBezTo>
                  <a:pt x="19866" y="16823"/>
                  <a:pt x="19737" y="16818"/>
                  <a:pt x="19621" y="16818"/>
                </a:cubicBezTo>
                <a:cubicBezTo>
                  <a:pt x="19657" y="16744"/>
                  <a:pt x="19783" y="16730"/>
                  <a:pt x="19869" y="16743"/>
                </a:cubicBezTo>
                <a:cubicBezTo>
                  <a:pt x="19912" y="16765"/>
                  <a:pt x="19924" y="16769"/>
                  <a:pt x="19943" y="1679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83320" y="5786280"/>
            <a:ext cx="9864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20985" y="16073"/>
                </a:moveTo>
                <a:cubicBezTo>
                  <a:pt x="20889" y="16224"/>
                  <a:pt x="20816" y="16319"/>
                  <a:pt x="20786" y="16495"/>
                </a:cubicBezTo>
                <a:cubicBezTo>
                  <a:pt x="20922" y="16471"/>
                  <a:pt x="21100" y="16381"/>
                  <a:pt x="21059" y="16197"/>
                </a:cubicBezTo>
                <a:cubicBezTo>
                  <a:pt x="21005" y="16124"/>
                  <a:pt x="21013" y="16091"/>
                  <a:pt x="20960" y="1609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786800" y="5742000"/>
            <a:ext cx="152280" cy="20484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21704" y="15949"/>
                </a:moveTo>
                <a:cubicBezTo>
                  <a:pt x="21675" y="16078"/>
                  <a:pt x="21573" y="16343"/>
                  <a:pt x="21630" y="16470"/>
                </a:cubicBezTo>
                <a:cubicBezTo>
                  <a:pt x="21717" y="16665"/>
                  <a:pt x="21971" y="16420"/>
                  <a:pt x="22027" y="16346"/>
                </a:cubicBezTo>
                <a:cubicBezTo>
                  <a:pt x="22035" y="16330"/>
                  <a:pt x="22043" y="16313"/>
                  <a:pt x="22051" y="16297"/>
                </a:cubicBezTo>
                <a:cubicBezTo>
                  <a:pt x="21978" y="16345"/>
                  <a:pt x="21824" y="16532"/>
                  <a:pt x="21903" y="16495"/>
                </a:cubicBezTo>
                <a:cubicBezTo>
                  <a:pt x="21936" y="16470"/>
                  <a:pt x="21969" y="16446"/>
                  <a:pt x="22002" y="1642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98840" y="3348000"/>
            <a:ext cx="3822480" cy="527040"/>
          </a:xfrm>
          <a:custGeom>
            <a:avLst/>
            <a:gdLst/>
            <a:ahLst/>
            <a:rect l="l" t="t" r="r" b="b"/>
            <a:pathLst>
              <a:path w="10618" h="1464">
                <a:moveTo>
                  <a:pt x="17760" y="10120"/>
                </a:moveTo>
                <a:cubicBezTo>
                  <a:pt x="17763" y="9978"/>
                  <a:pt x="17775" y="9868"/>
                  <a:pt x="17760" y="9723"/>
                </a:cubicBezTo>
                <a:cubicBezTo>
                  <a:pt x="17747" y="9593"/>
                  <a:pt x="17707" y="9476"/>
                  <a:pt x="17686" y="9351"/>
                </a:cubicBezTo>
                <a:cubicBezTo>
                  <a:pt x="17686" y="9327"/>
                  <a:pt x="17686" y="9318"/>
                  <a:pt x="17686" y="9302"/>
                </a:cubicBezTo>
                <a:cubicBezTo>
                  <a:pt x="17499" y="9313"/>
                  <a:pt x="17325" y="9329"/>
                  <a:pt x="17140" y="9351"/>
                </a:cubicBezTo>
                <a:cubicBezTo>
                  <a:pt x="17062" y="9360"/>
                  <a:pt x="16996" y="9368"/>
                  <a:pt x="16917" y="9376"/>
                </a:cubicBezTo>
                <a:cubicBezTo>
                  <a:pt x="16602" y="9410"/>
                  <a:pt x="16293" y="9467"/>
                  <a:pt x="15974" y="9475"/>
                </a:cubicBezTo>
                <a:cubicBezTo>
                  <a:pt x="15684" y="9482"/>
                  <a:pt x="15392" y="9478"/>
                  <a:pt x="15106" y="9451"/>
                </a:cubicBezTo>
                <a:cubicBezTo>
                  <a:pt x="14957" y="9437"/>
                  <a:pt x="14810" y="9417"/>
                  <a:pt x="14660" y="9401"/>
                </a:cubicBezTo>
                <a:cubicBezTo>
                  <a:pt x="14529" y="9387"/>
                  <a:pt x="14395" y="9365"/>
                  <a:pt x="14263" y="9351"/>
                </a:cubicBezTo>
                <a:cubicBezTo>
                  <a:pt x="14073" y="9330"/>
                  <a:pt x="13884" y="9329"/>
                  <a:pt x="13692" y="9327"/>
                </a:cubicBezTo>
                <a:cubicBezTo>
                  <a:pt x="13359" y="9323"/>
                  <a:pt x="13031" y="9348"/>
                  <a:pt x="12700" y="9351"/>
                </a:cubicBezTo>
                <a:cubicBezTo>
                  <a:pt x="12336" y="9355"/>
                  <a:pt x="12016" y="9397"/>
                  <a:pt x="11658" y="9451"/>
                </a:cubicBezTo>
                <a:cubicBezTo>
                  <a:pt x="11321" y="9502"/>
                  <a:pt x="10977" y="9454"/>
                  <a:pt x="10641" y="9525"/>
                </a:cubicBezTo>
                <a:cubicBezTo>
                  <a:pt x="10486" y="9558"/>
                  <a:pt x="10325" y="9593"/>
                  <a:pt x="10170" y="9624"/>
                </a:cubicBezTo>
                <a:cubicBezTo>
                  <a:pt x="10040" y="9649"/>
                  <a:pt x="9899" y="9670"/>
                  <a:pt x="9773" y="9699"/>
                </a:cubicBezTo>
                <a:cubicBezTo>
                  <a:pt x="9653" y="9727"/>
                  <a:pt x="9547" y="9756"/>
                  <a:pt x="9426" y="9773"/>
                </a:cubicBezTo>
                <a:cubicBezTo>
                  <a:pt x="9171" y="9809"/>
                  <a:pt x="8884" y="9813"/>
                  <a:pt x="8632" y="9823"/>
                </a:cubicBezTo>
                <a:cubicBezTo>
                  <a:pt x="8447" y="9831"/>
                  <a:pt x="8268" y="9831"/>
                  <a:pt x="8086" y="9847"/>
                </a:cubicBezTo>
                <a:cubicBezTo>
                  <a:pt x="7956" y="9859"/>
                  <a:pt x="7780" y="9901"/>
                  <a:pt x="7689" y="9922"/>
                </a:cubicBezTo>
                <a:cubicBezTo>
                  <a:pt x="7613" y="9939"/>
                  <a:pt x="7542" y="9937"/>
                  <a:pt x="7466" y="9971"/>
                </a:cubicBezTo>
                <a:cubicBezTo>
                  <a:pt x="7421" y="9991"/>
                  <a:pt x="7294" y="10050"/>
                  <a:pt x="7268" y="10096"/>
                </a:cubicBezTo>
                <a:cubicBezTo>
                  <a:pt x="7237" y="10152"/>
                  <a:pt x="7230" y="10101"/>
                  <a:pt x="7218" y="10170"/>
                </a:cubicBezTo>
                <a:cubicBezTo>
                  <a:pt x="7204" y="10246"/>
                  <a:pt x="7327" y="10472"/>
                  <a:pt x="7342" y="10567"/>
                </a:cubicBezTo>
                <a:cubicBezTo>
                  <a:pt x="7348" y="10607"/>
                  <a:pt x="7338" y="10650"/>
                  <a:pt x="7342" y="10691"/>
                </a:cubicBezTo>
                <a:cubicBezTo>
                  <a:pt x="7425" y="10706"/>
                  <a:pt x="7507" y="10727"/>
                  <a:pt x="7590" y="10740"/>
                </a:cubicBezTo>
                <a:cubicBezTo>
                  <a:pt x="7683" y="10755"/>
                  <a:pt x="7766" y="10760"/>
                  <a:pt x="7863" y="10765"/>
                </a:cubicBezTo>
                <a:cubicBezTo>
                  <a:pt x="8188" y="10781"/>
                  <a:pt x="8509" y="10744"/>
                  <a:pt x="8830" y="10740"/>
                </a:cubicBezTo>
                <a:cubicBezTo>
                  <a:pt x="9172" y="10736"/>
                  <a:pt x="9553" y="10720"/>
                  <a:pt x="9872" y="10740"/>
                </a:cubicBezTo>
                <a:cubicBezTo>
                  <a:pt x="9994" y="10748"/>
                  <a:pt x="10117" y="10765"/>
                  <a:pt x="10244" y="10765"/>
                </a:cubicBezTo>
                <a:cubicBezTo>
                  <a:pt x="10389" y="10765"/>
                  <a:pt x="10524" y="10746"/>
                  <a:pt x="10666" y="10740"/>
                </a:cubicBezTo>
                <a:cubicBezTo>
                  <a:pt x="10801" y="10734"/>
                  <a:pt x="10907" y="10709"/>
                  <a:pt x="11038" y="10691"/>
                </a:cubicBezTo>
                <a:cubicBezTo>
                  <a:pt x="11172" y="10673"/>
                  <a:pt x="11300" y="10649"/>
                  <a:pt x="11435" y="10641"/>
                </a:cubicBezTo>
                <a:cubicBezTo>
                  <a:pt x="11670" y="10628"/>
                  <a:pt x="11898" y="10671"/>
                  <a:pt x="12129" y="10666"/>
                </a:cubicBezTo>
                <a:cubicBezTo>
                  <a:pt x="12199" y="10664"/>
                  <a:pt x="12301" y="10647"/>
                  <a:pt x="12378" y="10641"/>
                </a:cubicBezTo>
                <a:cubicBezTo>
                  <a:pt x="12485" y="10633"/>
                  <a:pt x="12594" y="10613"/>
                  <a:pt x="12700" y="10616"/>
                </a:cubicBezTo>
                <a:cubicBezTo>
                  <a:pt x="12812" y="10619"/>
                  <a:pt x="12911" y="10638"/>
                  <a:pt x="13022" y="10641"/>
                </a:cubicBezTo>
                <a:cubicBezTo>
                  <a:pt x="13646" y="10657"/>
                  <a:pt x="14266" y="10623"/>
                  <a:pt x="14883" y="10592"/>
                </a:cubicBezTo>
                <a:cubicBezTo>
                  <a:pt x="15033" y="10584"/>
                  <a:pt x="15180" y="10583"/>
                  <a:pt x="15329" y="10567"/>
                </a:cubicBezTo>
                <a:cubicBezTo>
                  <a:pt x="15447" y="10554"/>
                  <a:pt x="15560" y="10530"/>
                  <a:pt x="15677" y="10517"/>
                </a:cubicBezTo>
                <a:cubicBezTo>
                  <a:pt x="15824" y="10501"/>
                  <a:pt x="15975" y="10484"/>
                  <a:pt x="16123" y="10468"/>
                </a:cubicBezTo>
                <a:cubicBezTo>
                  <a:pt x="16223" y="10457"/>
                  <a:pt x="16320" y="10454"/>
                  <a:pt x="16421" y="10443"/>
                </a:cubicBezTo>
                <a:cubicBezTo>
                  <a:pt x="16560" y="10428"/>
                  <a:pt x="16706" y="10400"/>
                  <a:pt x="16842" y="10393"/>
                </a:cubicBezTo>
                <a:cubicBezTo>
                  <a:pt x="16917" y="10389"/>
                  <a:pt x="16973" y="10385"/>
                  <a:pt x="17041" y="10393"/>
                </a:cubicBezTo>
                <a:cubicBezTo>
                  <a:pt x="17137" y="10405"/>
                  <a:pt x="17219" y="10435"/>
                  <a:pt x="17314" y="10443"/>
                </a:cubicBezTo>
                <a:cubicBezTo>
                  <a:pt x="17399" y="10450"/>
                  <a:pt x="17436" y="10446"/>
                  <a:pt x="17512" y="10443"/>
                </a:cubicBezTo>
                <a:cubicBezTo>
                  <a:pt x="17559" y="10441"/>
                  <a:pt x="17728" y="10449"/>
                  <a:pt x="17760" y="10418"/>
                </a:cubicBezTo>
                <a:cubicBezTo>
                  <a:pt x="17818" y="10361"/>
                  <a:pt x="17761" y="10391"/>
                  <a:pt x="17810" y="10294"/>
                </a:cubicBezTo>
                <a:cubicBezTo>
                  <a:pt x="17849" y="10218"/>
                  <a:pt x="17815" y="10168"/>
                  <a:pt x="17835" y="100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64080" y="5581800"/>
            <a:ext cx="2608200" cy="714240"/>
          </a:xfrm>
          <a:custGeom>
            <a:avLst/>
            <a:gdLst/>
            <a:ahLst/>
            <a:rect l="l" t="t" r="r" b="b"/>
            <a:pathLst>
              <a:path w="7244" h="1985">
                <a:moveTo>
                  <a:pt x="22250" y="16793"/>
                </a:moveTo>
                <a:cubicBezTo>
                  <a:pt x="22347" y="16486"/>
                  <a:pt x="22383" y="16195"/>
                  <a:pt x="22399" y="15875"/>
                </a:cubicBezTo>
                <a:cubicBezTo>
                  <a:pt x="22402" y="15820"/>
                  <a:pt x="22395" y="15817"/>
                  <a:pt x="22399" y="15776"/>
                </a:cubicBezTo>
                <a:cubicBezTo>
                  <a:pt x="22399" y="15768"/>
                  <a:pt x="22399" y="15759"/>
                  <a:pt x="22399" y="15751"/>
                </a:cubicBezTo>
                <a:cubicBezTo>
                  <a:pt x="22267" y="15751"/>
                  <a:pt x="22157" y="15761"/>
                  <a:pt x="22027" y="15751"/>
                </a:cubicBezTo>
                <a:cubicBezTo>
                  <a:pt x="21806" y="15735"/>
                  <a:pt x="21577" y="15674"/>
                  <a:pt x="21357" y="15677"/>
                </a:cubicBezTo>
                <a:cubicBezTo>
                  <a:pt x="21280" y="15678"/>
                  <a:pt x="21237" y="15699"/>
                  <a:pt x="21158" y="15701"/>
                </a:cubicBezTo>
                <a:cubicBezTo>
                  <a:pt x="20891" y="15707"/>
                  <a:pt x="20629" y="15680"/>
                  <a:pt x="20365" y="15677"/>
                </a:cubicBezTo>
                <a:cubicBezTo>
                  <a:pt x="19967" y="15672"/>
                  <a:pt x="19570" y="15672"/>
                  <a:pt x="19174" y="15652"/>
                </a:cubicBezTo>
                <a:cubicBezTo>
                  <a:pt x="18983" y="15642"/>
                  <a:pt x="18794" y="15612"/>
                  <a:pt x="18604" y="15602"/>
                </a:cubicBezTo>
                <a:cubicBezTo>
                  <a:pt x="18281" y="15585"/>
                  <a:pt x="17959" y="15544"/>
                  <a:pt x="17636" y="15528"/>
                </a:cubicBezTo>
                <a:cubicBezTo>
                  <a:pt x="17447" y="15519"/>
                  <a:pt x="17253" y="15511"/>
                  <a:pt x="17066" y="15503"/>
                </a:cubicBezTo>
                <a:cubicBezTo>
                  <a:pt x="16825" y="15492"/>
                  <a:pt x="16584" y="15501"/>
                  <a:pt x="16346" y="15528"/>
                </a:cubicBezTo>
                <a:cubicBezTo>
                  <a:pt x="16206" y="15544"/>
                  <a:pt x="16066" y="15588"/>
                  <a:pt x="15925" y="15602"/>
                </a:cubicBezTo>
                <a:cubicBezTo>
                  <a:pt x="15777" y="15616"/>
                  <a:pt x="15626" y="15619"/>
                  <a:pt x="15478" y="15627"/>
                </a:cubicBezTo>
                <a:cubicBezTo>
                  <a:pt x="15437" y="15627"/>
                  <a:pt x="15429" y="15627"/>
                  <a:pt x="15404" y="15627"/>
                </a:cubicBezTo>
                <a:cubicBezTo>
                  <a:pt x="15392" y="16052"/>
                  <a:pt x="15327" y="16449"/>
                  <a:pt x="15255" y="16867"/>
                </a:cubicBezTo>
                <a:cubicBezTo>
                  <a:pt x="15232" y="17000"/>
                  <a:pt x="15162" y="17153"/>
                  <a:pt x="15180" y="17289"/>
                </a:cubicBezTo>
                <a:cubicBezTo>
                  <a:pt x="15197" y="17420"/>
                  <a:pt x="15248" y="17392"/>
                  <a:pt x="15379" y="17438"/>
                </a:cubicBezTo>
                <a:cubicBezTo>
                  <a:pt x="15666" y="17539"/>
                  <a:pt x="16005" y="17470"/>
                  <a:pt x="16297" y="17462"/>
                </a:cubicBezTo>
                <a:cubicBezTo>
                  <a:pt x="16682" y="17452"/>
                  <a:pt x="17055" y="17405"/>
                  <a:pt x="17438" y="17363"/>
                </a:cubicBezTo>
                <a:cubicBezTo>
                  <a:pt x="17754" y="17328"/>
                  <a:pt x="18063" y="17270"/>
                  <a:pt x="18380" y="17239"/>
                </a:cubicBezTo>
                <a:cubicBezTo>
                  <a:pt x="18796" y="17199"/>
                  <a:pt x="19207" y="17140"/>
                  <a:pt x="19621" y="17090"/>
                </a:cubicBezTo>
                <a:cubicBezTo>
                  <a:pt x="20052" y="17038"/>
                  <a:pt x="20478" y="16968"/>
                  <a:pt x="20910" y="16917"/>
                </a:cubicBezTo>
                <a:cubicBezTo>
                  <a:pt x="21156" y="16888"/>
                  <a:pt x="21406" y="16870"/>
                  <a:pt x="21654" y="16867"/>
                </a:cubicBezTo>
                <a:cubicBezTo>
                  <a:pt x="21861" y="16864"/>
                  <a:pt x="22068" y="16867"/>
                  <a:pt x="22275" y="1686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bjective:  Students will compare and order decimals, fractions and perc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ow do we handle comparing percents? 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urn them into decimals as well – then continue as usual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rder the following from least to greatest.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0.832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, 77%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76520" y="4267080"/>
                <a:ext cx="5140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29000" y="4343400"/>
                <a:ext cx="609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751040" y="4303800"/>
            <a:ext cx="4008240" cy="733320"/>
          </a:xfrm>
          <a:custGeom>
            <a:avLst/>
            <a:gdLst/>
            <a:ahLst/>
            <a:rect l="l" t="t" r="r" b="b"/>
            <a:pathLst>
              <a:path w="11138" h="2035">
                <a:moveTo>
                  <a:pt x="7987" y="13990"/>
                </a:moveTo>
                <a:cubicBezTo>
                  <a:pt x="7995" y="13990"/>
                  <a:pt x="8004" y="13990"/>
                  <a:pt x="8012" y="13990"/>
                </a:cubicBezTo>
              </a:path>
              <a:path w="11138" h="2035">
                <a:moveTo>
                  <a:pt x="4862" y="11956"/>
                </a:moveTo>
                <a:cubicBezTo>
                  <a:pt x="4862" y="11964"/>
                  <a:pt x="4862" y="11973"/>
                  <a:pt x="4862" y="11981"/>
                </a:cubicBezTo>
              </a:path>
              <a:path w="11138" h="2035">
                <a:moveTo>
                  <a:pt x="15528" y="12427"/>
                </a:moveTo>
                <a:cubicBezTo>
                  <a:pt x="15685" y="12407"/>
                  <a:pt x="15841" y="12387"/>
                  <a:pt x="15999" y="1237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62040" y="4089240"/>
            <a:ext cx="501840" cy="241560"/>
          </a:xfrm>
          <a:custGeom>
            <a:avLst/>
            <a:gdLst/>
            <a:ahLst/>
            <a:rect l="l" t="t" r="r" b="b"/>
            <a:pathLst>
              <a:path w="1390" h="670">
                <a:moveTo>
                  <a:pt x="4514" y="11534"/>
                </a:moveTo>
                <a:cubicBezTo>
                  <a:pt x="4423" y="11675"/>
                  <a:pt x="4319" y="11827"/>
                  <a:pt x="4341" y="12005"/>
                </a:cubicBezTo>
                <a:cubicBezTo>
                  <a:pt x="4349" y="12013"/>
                  <a:pt x="4358" y="12022"/>
                  <a:pt x="4366" y="12030"/>
                </a:cubicBezTo>
                <a:cubicBezTo>
                  <a:pt x="4520" y="11931"/>
                  <a:pt x="4742" y="11782"/>
                  <a:pt x="4638" y="11559"/>
                </a:cubicBezTo>
                <a:cubicBezTo>
                  <a:pt x="4601" y="11481"/>
                  <a:pt x="4518" y="11496"/>
                  <a:pt x="4465" y="11509"/>
                </a:cubicBezTo>
              </a:path>
              <a:path w="1390" h="670">
                <a:moveTo>
                  <a:pt x="4911" y="11559"/>
                </a:moveTo>
                <a:cubicBezTo>
                  <a:pt x="4987" y="11531"/>
                  <a:pt x="5070" y="11534"/>
                  <a:pt x="5159" y="11534"/>
                </a:cubicBezTo>
                <a:cubicBezTo>
                  <a:pt x="5159" y="11685"/>
                  <a:pt x="5153" y="11834"/>
                  <a:pt x="5110" y="11981"/>
                </a:cubicBezTo>
                <a:cubicBezTo>
                  <a:pt x="5088" y="12024"/>
                  <a:pt x="5075" y="12045"/>
                  <a:pt x="5110" y="12005"/>
                </a:cubicBezTo>
              </a:path>
              <a:path w="1390" h="670">
                <a:moveTo>
                  <a:pt x="5383" y="11559"/>
                </a:moveTo>
                <a:cubicBezTo>
                  <a:pt x="5363" y="11599"/>
                  <a:pt x="5328" y="11643"/>
                  <a:pt x="5308" y="11683"/>
                </a:cubicBezTo>
                <a:cubicBezTo>
                  <a:pt x="5385" y="11711"/>
                  <a:pt x="5619" y="11737"/>
                  <a:pt x="5556" y="11881"/>
                </a:cubicBezTo>
                <a:cubicBezTo>
                  <a:pt x="5477" y="11961"/>
                  <a:pt x="5445" y="11985"/>
                  <a:pt x="5358" y="11931"/>
                </a:cubicBezTo>
              </a:path>
              <a:path w="1390" h="670">
                <a:moveTo>
                  <a:pt x="5407" y="11460"/>
                </a:moveTo>
                <a:cubicBezTo>
                  <a:pt x="5474" y="11440"/>
                  <a:pt x="5711" y="11348"/>
                  <a:pt x="5730" y="1138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4286160"/>
            <a:ext cx="608040" cy="777960"/>
          </a:xfrm>
          <a:custGeom>
            <a:avLst/>
            <a:gdLst/>
            <a:ahLst/>
            <a:rect l="l" t="t" r="r" b="b"/>
            <a:pathLst>
              <a:path w="1687" h="2159">
                <a:moveTo>
                  <a:pt x="8086" y="13419"/>
                </a:moveTo>
                <a:cubicBezTo>
                  <a:pt x="8062" y="13419"/>
                  <a:pt x="8054" y="13419"/>
                  <a:pt x="8062" y="13395"/>
                </a:cubicBezTo>
                <a:cubicBezTo>
                  <a:pt x="8149" y="13417"/>
                  <a:pt x="8281" y="13577"/>
                  <a:pt x="8334" y="13643"/>
                </a:cubicBezTo>
                <a:cubicBezTo>
                  <a:pt x="8420" y="13751"/>
                  <a:pt x="8525" y="13935"/>
                  <a:pt x="8582" y="14039"/>
                </a:cubicBezTo>
                <a:cubicBezTo>
                  <a:pt x="8582" y="14064"/>
                  <a:pt x="8582" y="14072"/>
                  <a:pt x="8607" y="14064"/>
                </a:cubicBezTo>
              </a:path>
              <a:path w="1687" h="2159">
                <a:moveTo>
                  <a:pt x="7169" y="12030"/>
                </a:moveTo>
                <a:cubicBezTo>
                  <a:pt x="7147" y="11979"/>
                  <a:pt x="7155" y="11968"/>
                  <a:pt x="7119" y="11956"/>
                </a:cubicBezTo>
                <a:cubicBezTo>
                  <a:pt x="6944" y="11985"/>
                  <a:pt x="6937" y="12149"/>
                  <a:pt x="6921" y="12303"/>
                </a:cubicBezTo>
                <a:cubicBezTo>
                  <a:pt x="6921" y="12436"/>
                  <a:pt x="6917" y="12471"/>
                  <a:pt x="6945" y="12551"/>
                </a:cubicBezTo>
                <a:cubicBezTo>
                  <a:pt x="7144" y="12521"/>
                  <a:pt x="7242" y="12383"/>
                  <a:pt x="7293" y="12179"/>
                </a:cubicBezTo>
                <a:cubicBezTo>
                  <a:pt x="7309" y="12116"/>
                  <a:pt x="7285" y="11964"/>
                  <a:pt x="7218" y="11956"/>
                </a:cubicBezTo>
                <a:cubicBezTo>
                  <a:pt x="7177" y="11956"/>
                  <a:pt x="7168" y="11972"/>
                  <a:pt x="7193" y="12030"/>
                </a:cubicBezTo>
              </a:path>
              <a:path w="1687" h="2159">
                <a:moveTo>
                  <a:pt x="7516" y="12378"/>
                </a:moveTo>
                <a:cubicBezTo>
                  <a:pt x="7495" y="12418"/>
                  <a:pt x="7499" y="12544"/>
                  <a:pt x="7516" y="12477"/>
                </a:cubicBezTo>
                <a:cubicBezTo>
                  <a:pt x="7516" y="12460"/>
                  <a:pt x="7516" y="12444"/>
                  <a:pt x="7516" y="12427"/>
                </a:cubicBezTo>
                <a:cubicBezTo>
                  <a:pt x="7478" y="12440"/>
                  <a:pt x="7491" y="12457"/>
                  <a:pt x="7491" y="12502"/>
                </a:cubicBezTo>
              </a:path>
              <a:path w="1687" h="2159">
                <a:moveTo>
                  <a:pt x="7689" y="12055"/>
                </a:moveTo>
                <a:cubicBezTo>
                  <a:pt x="7658" y="12098"/>
                  <a:pt x="7657" y="12086"/>
                  <a:pt x="7689" y="12129"/>
                </a:cubicBezTo>
                <a:cubicBezTo>
                  <a:pt x="7689" y="12199"/>
                  <a:pt x="7685" y="12041"/>
                  <a:pt x="7689" y="12030"/>
                </a:cubicBezTo>
                <a:cubicBezTo>
                  <a:pt x="7703" y="11993"/>
                  <a:pt x="7880" y="11920"/>
                  <a:pt x="7913" y="11906"/>
                </a:cubicBezTo>
                <a:cubicBezTo>
                  <a:pt x="7921" y="11906"/>
                  <a:pt x="7930" y="11906"/>
                  <a:pt x="7938" y="11906"/>
                </a:cubicBezTo>
                <a:cubicBezTo>
                  <a:pt x="7958" y="12103"/>
                  <a:pt x="7917" y="12279"/>
                  <a:pt x="7888" y="12477"/>
                </a:cubicBezTo>
                <a:cubicBezTo>
                  <a:pt x="7888" y="12502"/>
                  <a:pt x="7888" y="12510"/>
                  <a:pt x="7888" y="12477"/>
                </a:cubicBezTo>
              </a:path>
              <a:path w="1687" h="2159">
                <a:moveTo>
                  <a:pt x="8111" y="11981"/>
                </a:moveTo>
                <a:cubicBezTo>
                  <a:pt x="8103" y="12014"/>
                  <a:pt x="8094" y="12047"/>
                  <a:pt x="8086" y="12080"/>
                </a:cubicBezTo>
                <a:cubicBezTo>
                  <a:pt x="8086" y="11997"/>
                  <a:pt x="8095" y="11996"/>
                  <a:pt x="8186" y="11956"/>
                </a:cubicBezTo>
                <a:cubicBezTo>
                  <a:pt x="8260" y="11924"/>
                  <a:pt x="8330" y="11906"/>
                  <a:pt x="8409" y="11906"/>
                </a:cubicBezTo>
                <a:cubicBezTo>
                  <a:pt x="8409" y="12095"/>
                  <a:pt x="8377" y="12293"/>
                  <a:pt x="8334" y="12477"/>
                </a:cubicBezTo>
                <a:cubicBezTo>
                  <a:pt x="8307" y="12533"/>
                  <a:pt x="8301" y="12542"/>
                  <a:pt x="8334" y="1245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46640" y="4054320"/>
            <a:ext cx="536400" cy="276480"/>
          </a:xfrm>
          <a:custGeom>
            <a:avLst/>
            <a:gdLst/>
            <a:ahLst/>
            <a:rect l="l" t="t" r="r" b="b"/>
            <a:pathLst>
              <a:path w="1489" h="770">
                <a:moveTo>
                  <a:pt x="9823" y="11485"/>
                </a:moveTo>
                <a:cubicBezTo>
                  <a:pt x="9709" y="11566"/>
                  <a:pt x="9590" y="11750"/>
                  <a:pt x="9575" y="11906"/>
                </a:cubicBezTo>
                <a:cubicBezTo>
                  <a:pt x="9583" y="11939"/>
                  <a:pt x="9591" y="11972"/>
                  <a:pt x="9599" y="12005"/>
                </a:cubicBezTo>
                <a:cubicBezTo>
                  <a:pt x="9752" y="12014"/>
                  <a:pt x="9980" y="11995"/>
                  <a:pt x="10046" y="11807"/>
                </a:cubicBezTo>
                <a:cubicBezTo>
                  <a:pt x="10111" y="11623"/>
                  <a:pt x="9960" y="11548"/>
                  <a:pt x="9823" y="11534"/>
                </a:cubicBezTo>
                <a:cubicBezTo>
                  <a:pt x="9790" y="11534"/>
                  <a:pt x="9781" y="11542"/>
                  <a:pt x="9798" y="11584"/>
                </a:cubicBezTo>
              </a:path>
              <a:path w="1489" h="770">
                <a:moveTo>
                  <a:pt x="10344" y="11857"/>
                </a:moveTo>
                <a:cubicBezTo>
                  <a:pt x="10344" y="11978"/>
                  <a:pt x="10321" y="11970"/>
                  <a:pt x="10344" y="11857"/>
                </a:cubicBezTo>
              </a:path>
              <a:path w="1489" h="770">
                <a:moveTo>
                  <a:pt x="10864" y="11435"/>
                </a:moveTo>
                <a:cubicBezTo>
                  <a:pt x="10766" y="11451"/>
                  <a:pt x="10724" y="11501"/>
                  <a:pt x="10641" y="11534"/>
                </a:cubicBezTo>
                <a:cubicBezTo>
                  <a:pt x="10750" y="11661"/>
                  <a:pt x="10895" y="11690"/>
                  <a:pt x="10988" y="11832"/>
                </a:cubicBezTo>
                <a:cubicBezTo>
                  <a:pt x="10823" y="11893"/>
                  <a:pt x="10708" y="11896"/>
                  <a:pt x="10815" y="11658"/>
                </a:cubicBezTo>
                <a:cubicBezTo>
                  <a:pt x="10836" y="11612"/>
                  <a:pt x="11042" y="11384"/>
                  <a:pt x="10864" y="11460"/>
                </a:cubicBezTo>
              </a:path>
              <a:path w="1489" h="770">
                <a:moveTo>
                  <a:pt x="10592" y="11336"/>
                </a:moveTo>
                <a:cubicBezTo>
                  <a:pt x="10749" y="11310"/>
                  <a:pt x="11221" y="11302"/>
                  <a:pt x="11063" y="11286"/>
                </a:cubicBezTo>
                <a:cubicBezTo>
                  <a:pt x="10913" y="11271"/>
                  <a:pt x="10763" y="11290"/>
                  <a:pt x="10616" y="11311"/>
                </a:cubicBezTo>
                <a:cubicBezTo>
                  <a:pt x="10735" y="11311"/>
                  <a:pt x="10847" y="11317"/>
                  <a:pt x="10964" y="11286"/>
                </a:cubicBezTo>
                <a:cubicBezTo>
                  <a:pt x="11007" y="11264"/>
                  <a:pt x="11028" y="11251"/>
                  <a:pt x="10988" y="1128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67200" y="4143240"/>
            <a:ext cx="169920" cy="258840"/>
          </a:xfrm>
          <a:custGeom>
            <a:avLst/>
            <a:gdLst/>
            <a:ahLst/>
            <a:rect l="l" t="t" r="r" b="b"/>
            <a:pathLst>
              <a:path w="472" h="721">
                <a:moveTo>
                  <a:pt x="13891" y="11534"/>
                </a:moveTo>
                <a:cubicBezTo>
                  <a:pt x="13829" y="11409"/>
                  <a:pt x="13713" y="11687"/>
                  <a:pt x="13643" y="11807"/>
                </a:cubicBezTo>
                <a:cubicBezTo>
                  <a:pt x="13538" y="12017"/>
                  <a:pt x="13497" y="12057"/>
                  <a:pt x="13519" y="12204"/>
                </a:cubicBezTo>
                <a:cubicBezTo>
                  <a:pt x="13751" y="12194"/>
                  <a:pt x="14093" y="12094"/>
                  <a:pt x="13990" y="11757"/>
                </a:cubicBezTo>
                <a:cubicBezTo>
                  <a:pt x="13944" y="11607"/>
                  <a:pt x="13807" y="11642"/>
                  <a:pt x="13742" y="1168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81360" y="6000840"/>
            <a:ext cx="249480" cy="420480"/>
          </a:xfrm>
          <a:custGeom>
            <a:avLst/>
            <a:gdLst/>
            <a:ahLst/>
            <a:rect l="l" t="t" r="r" b="b"/>
            <a:pathLst>
              <a:path w="695" h="1167">
                <a:moveTo>
                  <a:pt x="12923" y="16669"/>
                </a:moveTo>
                <a:cubicBezTo>
                  <a:pt x="12806" y="16693"/>
                  <a:pt x="12770" y="16696"/>
                  <a:pt x="12725" y="16768"/>
                </a:cubicBezTo>
                <a:cubicBezTo>
                  <a:pt x="12769" y="16888"/>
                  <a:pt x="12887" y="16905"/>
                  <a:pt x="12948" y="17016"/>
                </a:cubicBezTo>
                <a:cubicBezTo>
                  <a:pt x="12861" y="17057"/>
                  <a:pt x="12637" y="17100"/>
                  <a:pt x="12799" y="16917"/>
                </a:cubicBezTo>
                <a:cubicBezTo>
                  <a:pt x="12877" y="16829"/>
                  <a:pt x="12965" y="16794"/>
                  <a:pt x="13022" y="16694"/>
                </a:cubicBezTo>
              </a:path>
              <a:path w="695" h="1167">
                <a:moveTo>
                  <a:pt x="12750" y="17264"/>
                </a:moveTo>
                <a:cubicBezTo>
                  <a:pt x="12977" y="17211"/>
                  <a:pt x="13189" y="17173"/>
                  <a:pt x="13419" y="17140"/>
                </a:cubicBezTo>
              </a:path>
              <a:path w="695" h="1167">
                <a:moveTo>
                  <a:pt x="13246" y="17388"/>
                </a:moveTo>
                <a:cubicBezTo>
                  <a:pt x="13147" y="17314"/>
                  <a:pt x="13013" y="17392"/>
                  <a:pt x="12923" y="17487"/>
                </a:cubicBezTo>
                <a:cubicBezTo>
                  <a:pt x="12923" y="17495"/>
                  <a:pt x="12923" y="17504"/>
                  <a:pt x="12923" y="17512"/>
                </a:cubicBezTo>
                <a:cubicBezTo>
                  <a:pt x="13046" y="17500"/>
                  <a:pt x="13084" y="17475"/>
                  <a:pt x="13171" y="17388"/>
                </a:cubicBezTo>
                <a:cubicBezTo>
                  <a:pt x="13210" y="17506"/>
                  <a:pt x="13262" y="17596"/>
                  <a:pt x="13246" y="17735"/>
                </a:cubicBezTo>
                <a:cubicBezTo>
                  <a:pt x="13241" y="17778"/>
                  <a:pt x="13221" y="17853"/>
                  <a:pt x="13221" y="1781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4000680"/>
            <a:ext cx="5483160" cy="2357280"/>
          </a:xfrm>
          <a:custGeom>
            <a:avLst/>
            <a:gdLst/>
            <a:ahLst/>
            <a:rect l="l" t="t" r="r" b="b"/>
            <a:pathLst>
              <a:path w="15231" h="6550">
                <a:moveTo>
                  <a:pt x="6921" y="14064"/>
                </a:moveTo>
                <a:lnTo>
                  <a:pt x="6921" y="14064"/>
                </a:lnTo>
              </a:path>
              <a:path w="15231" h="6550">
                <a:moveTo>
                  <a:pt x="6921" y="14064"/>
                </a:moveTo>
                <a:lnTo>
                  <a:pt x="6921" y="14064"/>
                </a:lnTo>
              </a:path>
              <a:path w="15231" h="6550">
                <a:moveTo>
                  <a:pt x="22076" y="11931"/>
                </a:moveTo>
                <a:lnTo>
                  <a:pt x="22076" y="11931"/>
                </a:lnTo>
                <a:lnTo>
                  <a:pt x="22076" y="11931"/>
                </a:lnTo>
                <a:lnTo>
                  <a:pt x="22076" y="11931"/>
                </a:lnTo>
              </a:path>
              <a:path w="15231" h="6550">
                <a:moveTo>
                  <a:pt x="22151" y="11112"/>
                </a:moveTo>
                <a:cubicBezTo>
                  <a:pt x="22143" y="11112"/>
                  <a:pt x="22134" y="11112"/>
                  <a:pt x="22126" y="11112"/>
                </a:cubicBezTo>
              </a:path>
              <a:path w="15231" h="6550">
                <a:moveTo>
                  <a:pt x="14312" y="12080"/>
                </a:moveTo>
                <a:cubicBezTo>
                  <a:pt x="14312" y="12131"/>
                  <a:pt x="14313" y="12150"/>
                  <a:pt x="14337" y="12179"/>
                </a:cubicBezTo>
              </a:path>
              <a:path w="15231" h="6550">
                <a:moveTo>
                  <a:pt x="14635" y="11584"/>
                </a:moveTo>
                <a:cubicBezTo>
                  <a:pt x="14513" y="11845"/>
                  <a:pt x="14841" y="11741"/>
                  <a:pt x="14908" y="11981"/>
                </a:cubicBezTo>
                <a:cubicBezTo>
                  <a:pt x="14891" y="12006"/>
                  <a:pt x="14875" y="12030"/>
                  <a:pt x="14858" y="12055"/>
                </a:cubicBezTo>
                <a:cubicBezTo>
                  <a:pt x="14564" y="12003"/>
                  <a:pt x="14730" y="11858"/>
                  <a:pt x="14883" y="11683"/>
                </a:cubicBezTo>
                <a:cubicBezTo>
                  <a:pt x="14921" y="11644"/>
                  <a:pt x="14938" y="11643"/>
                  <a:pt x="14932" y="11609"/>
                </a:cubicBezTo>
              </a:path>
              <a:path w="15231" h="6550">
                <a:moveTo>
                  <a:pt x="15304" y="11584"/>
                </a:moveTo>
                <a:cubicBezTo>
                  <a:pt x="15371" y="11573"/>
                  <a:pt x="15550" y="11495"/>
                  <a:pt x="15577" y="11609"/>
                </a:cubicBezTo>
                <a:cubicBezTo>
                  <a:pt x="15605" y="11728"/>
                  <a:pt x="15478" y="11745"/>
                  <a:pt x="15404" y="11782"/>
                </a:cubicBezTo>
                <a:cubicBezTo>
                  <a:pt x="15412" y="11774"/>
                  <a:pt x="15421" y="11765"/>
                  <a:pt x="15429" y="11757"/>
                </a:cubicBezTo>
                <a:cubicBezTo>
                  <a:pt x="15619" y="11803"/>
                  <a:pt x="15893" y="11899"/>
                  <a:pt x="15553" y="12055"/>
                </a:cubicBezTo>
                <a:cubicBezTo>
                  <a:pt x="15413" y="12079"/>
                  <a:pt x="15370" y="12092"/>
                  <a:pt x="15304" y="12005"/>
                </a:cubicBezTo>
              </a:path>
              <a:path w="15231" h="6550">
                <a:moveTo>
                  <a:pt x="16148" y="11509"/>
                </a:moveTo>
                <a:cubicBezTo>
                  <a:pt x="16318" y="11547"/>
                  <a:pt x="16571" y="11622"/>
                  <a:pt x="16520" y="11857"/>
                </a:cubicBezTo>
                <a:cubicBezTo>
                  <a:pt x="16478" y="12051"/>
                  <a:pt x="16231" y="11975"/>
                  <a:pt x="16123" y="11956"/>
                </a:cubicBezTo>
                <a:cubicBezTo>
                  <a:pt x="16281" y="11797"/>
                  <a:pt x="16437" y="11940"/>
                  <a:pt x="16594" y="12080"/>
                </a:cubicBezTo>
              </a:path>
              <a:path w="15231" h="6550">
                <a:moveTo>
                  <a:pt x="13742" y="12526"/>
                </a:moveTo>
                <a:cubicBezTo>
                  <a:pt x="13555" y="12714"/>
                  <a:pt x="13492" y="12806"/>
                  <a:pt x="13593" y="13047"/>
                </a:cubicBezTo>
                <a:cubicBezTo>
                  <a:pt x="13647" y="13030"/>
                  <a:pt x="14303" y="12732"/>
                  <a:pt x="13990" y="12601"/>
                </a:cubicBezTo>
                <a:cubicBezTo>
                  <a:pt x="13838" y="12623"/>
                  <a:pt x="13799" y="12622"/>
                  <a:pt x="13717" y="12675"/>
                </a:cubicBezTo>
              </a:path>
              <a:path w="15231" h="6550">
                <a:moveTo>
                  <a:pt x="14635" y="12452"/>
                </a:moveTo>
                <a:cubicBezTo>
                  <a:pt x="14737" y="12452"/>
                  <a:pt x="14821" y="12409"/>
                  <a:pt x="14932" y="12402"/>
                </a:cubicBezTo>
                <a:cubicBezTo>
                  <a:pt x="14949" y="12402"/>
                  <a:pt x="14965" y="12402"/>
                  <a:pt x="14982" y="12402"/>
                </a:cubicBezTo>
                <a:cubicBezTo>
                  <a:pt x="14982" y="12552"/>
                  <a:pt x="14851" y="12743"/>
                  <a:pt x="14858" y="12849"/>
                </a:cubicBezTo>
                <a:cubicBezTo>
                  <a:pt x="14875" y="12849"/>
                  <a:pt x="14891" y="12849"/>
                  <a:pt x="14908" y="12849"/>
                </a:cubicBezTo>
              </a:path>
              <a:path w="15231" h="6550">
                <a:moveTo>
                  <a:pt x="15379" y="12477"/>
                </a:moveTo>
                <a:cubicBezTo>
                  <a:pt x="15343" y="12690"/>
                  <a:pt x="15547" y="12586"/>
                  <a:pt x="15652" y="12774"/>
                </a:cubicBezTo>
                <a:cubicBezTo>
                  <a:pt x="15772" y="12990"/>
                  <a:pt x="15346" y="12765"/>
                  <a:pt x="15329" y="12750"/>
                </a:cubicBezTo>
              </a:path>
              <a:path w="15231" h="6550">
                <a:moveTo>
                  <a:pt x="14387" y="12849"/>
                </a:moveTo>
                <a:cubicBezTo>
                  <a:pt x="14420" y="12915"/>
                  <a:pt x="14481" y="12817"/>
                  <a:pt x="14387" y="12849"/>
                </a:cubicBezTo>
              </a:path>
              <a:path w="15231" h="6550">
                <a:moveTo>
                  <a:pt x="13791" y="13221"/>
                </a:moveTo>
                <a:cubicBezTo>
                  <a:pt x="13609" y="13276"/>
                  <a:pt x="13507" y="13539"/>
                  <a:pt x="13444" y="13717"/>
                </a:cubicBezTo>
                <a:cubicBezTo>
                  <a:pt x="13436" y="13767"/>
                  <a:pt x="13427" y="13816"/>
                  <a:pt x="13419" y="13866"/>
                </a:cubicBezTo>
                <a:cubicBezTo>
                  <a:pt x="13583" y="13893"/>
                  <a:pt x="13890" y="13783"/>
                  <a:pt x="13767" y="13519"/>
                </a:cubicBezTo>
                <a:cubicBezTo>
                  <a:pt x="13670" y="13441"/>
                  <a:pt x="13660" y="13422"/>
                  <a:pt x="13593" y="13395"/>
                </a:cubicBezTo>
              </a:path>
              <a:path w="15231" h="6550">
                <a:moveTo>
                  <a:pt x="14436" y="13891"/>
                </a:moveTo>
                <a:cubicBezTo>
                  <a:pt x="14436" y="13919"/>
                  <a:pt x="14434" y="13929"/>
                  <a:pt x="14412" y="13940"/>
                </a:cubicBezTo>
                <a:cubicBezTo>
                  <a:pt x="14454" y="13908"/>
                  <a:pt x="14493" y="13866"/>
                  <a:pt x="14412" y="13866"/>
                </a:cubicBezTo>
              </a:path>
              <a:path w="15231" h="6550">
                <a:moveTo>
                  <a:pt x="14883" y="13395"/>
                </a:moveTo>
                <a:cubicBezTo>
                  <a:pt x="14875" y="13428"/>
                  <a:pt x="14866" y="13461"/>
                  <a:pt x="14858" y="13494"/>
                </a:cubicBezTo>
                <a:cubicBezTo>
                  <a:pt x="14758" y="13561"/>
                  <a:pt x="14951" y="13317"/>
                  <a:pt x="14982" y="13295"/>
                </a:cubicBezTo>
                <a:cubicBezTo>
                  <a:pt x="15068" y="13234"/>
                  <a:pt x="15133" y="13246"/>
                  <a:pt x="15230" y="13246"/>
                </a:cubicBezTo>
                <a:cubicBezTo>
                  <a:pt x="15256" y="13412"/>
                  <a:pt x="15216" y="13624"/>
                  <a:pt x="15156" y="13791"/>
                </a:cubicBezTo>
                <a:cubicBezTo>
                  <a:pt x="15148" y="13799"/>
                  <a:pt x="15139" y="13808"/>
                  <a:pt x="15131" y="13816"/>
                </a:cubicBezTo>
              </a:path>
              <a:path w="15231" h="6550">
                <a:moveTo>
                  <a:pt x="15553" y="13370"/>
                </a:moveTo>
                <a:cubicBezTo>
                  <a:pt x="15553" y="13490"/>
                  <a:pt x="15607" y="13267"/>
                  <a:pt x="15652" y="13221"/>
                </a:cubicBezTo>
                <a:cubicBezTo>
                  <a:pt x="15738" y="13135"/>
                  <a:pt x="15887" y="13132"/>
                  <a:pt x="15999" y="13122"/>
                </a:cubicBezTo>
                <a:cubicBezTo>
                  <a:pt x="15999" y="13314"/>
                  <a:pt x="15969" y="13570"/>
                  <a:pt x="15875" y="13742"/>
                </a:cubicBezTo>
                <a:cubicBezTo>
                  <a:pt x="15842" y="13775"/>
                  <a:pt x="15809" y="13808"/>
                  <a:pt x="15776" y="13841"/>
                </a:cubicBezTo>
              </a:path>
              <a:path w="15231" h="6550">
                <a:moveTo>
                  <a:pt x="13692" y="14362"/>
                </a:moveTo>
                <a:cubicBezTo>
                  <a:pt x="13596" y="14386"/>
                  <a:pt x="13479" y="14742"/>
                  <a:pt x="13469" y="14808"/>
                </a:cubicBezTo>
                <a:cubicBezTo>
                  <a:pt x="13477" y="14858"/>
                  <a:pt x="13486" y="14907"/>
                  <a:pt x="13494" y="14957"/>
                </a:cubicBezTo>
                <a:cubicBezTo>
                  <a:pt x="13726" y="14968"/>
                  <a:pt x="13980" y="14829"/>
                  <a:pt x="13915" y="14511"/>
                </a:cubicBezTo>
                <a:cubicBezTo>
                  <a:pt x="13884" y="14357"/>
                  <a:pt x="13760" y="14411"/>
                  <a:pt x="13667" y="14436"/>
                </a:cubicBezTo>
              </a:path>
              <a:path w="15231" h="6550">
                <a:moveTo>
                  <a:pt x="14387" y="14660"/>
                </a:moveTo>
                <a:cubicBezTo>
                  <a:pt x="14387" y="14728"/>
                  <a:pt x="14384" y="14747"/>
                  <a:pt x="14412" y="14784"/>
                </a:cubicBezTo>
              </a:path>
              <a:path w="15231" h="6550">
                <a:moveTo>
                  <a:pt x="14684" y="11584"/>
                </a:moveTo>
                <a:cubicBezTo>
                  <a:pt x="14676" y="11592"/>
                  <a:pt x="14668" y="11601"/>
                  <a:pt x="14660" y="11609"/>
                </a:cubicBezTo>
                <a:cubicBezTo>
                  <a:pt x="14721" y="11609"/>
                  <a:pt x="14724" y="11573"/>
                  <a:pt x="14784" y="11559"/>
                </a:cubicBezTo>
                <a:cubicBezTo>
                  <a:pt x="14845" y="11545"/>
                  <a:pt x="14901" y="11598"/>
                  <a:pt x="14957" y="11609"/>
                </a:cubicBezTo>
              </a:path>
              <a:path w="15231" h="6550">
                <a:moveTo>
                  <a:pt x="13816" y="11361"/>
                </a:moveTo>
                <a:cubicBezTo>
                  <a:pt x="13811" y="11421"/>
                  <a:pt x="13809" y="11478"/>
                  <a:pt x="13791" y="11534"/>
                </a:cubicBezTo>
                <a:cubicBezTo>
                  <a:pt x="13779" y="11572"/>
                  <a:pt x="13727" y="11620"/>
                  <a:pt x="13717" y="11658"/>
                </a:cubicBezTo>
                <a:cubicBezTo>
                  <a:pt x="13697" y="11733"/>
                  <a:pt x="13695" y="11830"/>
                  <a:pt x="13692" y="11906"/>
                </a:cubicBezTo>
                <a:cubicBezTo>
                  <a:pt x="13689" y="11992"/>
                  <a:pt x="13670" y="12067"/>
                  <a:pt x="13667" y="12154"/>
                </a:cubicBezTo>
                <a:cubicBezTo>
                  <a:pt x="13665" y="12201"/>
                  <a:pt x="13644" y="12292"/>
                  <a:pt x="13643" y="12303"/>
                </a:cubicBezTo>
                <a:cubicBezTo>
                  <a:pt x="13624" y="12458"/>
                  <a:pt x="13656" y="12625"/>
                  <a:pt x="13667" y="12774"/>
                </a:cubicBezTo>
                <a:cubicBezTo>
                  <a:pt x="13676" y="12890"/>
                  <a:pt x="13688" y="13008"/>
                  <a:pt x="13692" y="13122"/>
                </a:cubicBezTo>
                <a:cubicBezTo>
                  <a:pt x="13702" y="13427"/>
                  <a:pt x="13700" y="13740"/>
                  <a:pt x="13667" y="14039"/>
                </a:cubicBezTo>
                <a:cubicBezTo>
                  <a:pt x="13656" y="14136"/>
                  <a:pt x="13674" y="14244"/>
                  <a:pt x="13692" y="14337"/>
                </a:cubicBezTo>
                <a:cubicBezTo>
                  <a:pt x="13708" y="14421"/>
                  <a:pt x="13717" y="14495"/>
                  <a:pt x="13717" y="14585"/>
                </a:cubicBezTo>
                <a:cubicBezTo>
                  <a:pt x="13717" y="14700"/>
                  <a:pt x="13755" y="14797"/>
                  <a:pt x="13767" y="14908"/>
                </a:cubicBezTo>
                <a:cubicBezTo>
                  <a:pt x="13774" y="14970"/>
                  <a:pt x="13767" y="14999"/>
                  <a:pt x="13791" y="15032"/>
                </a:cubicBezTo>
                <a:cubicBezTo>
                  <a:pt x="13791" y="15024"/>
                  <a:pt x="13791" y="15015"/>
                  <a:pt x="13791" y="15007"/>
                </a:cubicBezTo>
              </a:path>
              <a:path w="15231" h="6550">
                <a:moveTo>
                  <a:pt x="13221" y="12725"/>
                </a:moveTo>
                <a:cubicBezTo>
                  <a:pt x="13587" y="12684"/>
                  <a:pt x="13961" y="12664"/>
                  <a:pt x="14337" y="12650"/>
                </a:cubicBezTo>
                <a:cubicBezTo>
                  <a:pt x="15009" y="12624"/>
                  <a:pt x="15673" y="12556"/>
                  <a:pt x="16346" y="12551"/>
                </a:cubicBezTo>
                <a:cubicBezTo>
                  <a:pt x="16587" y="12549"/>
                  <a:pt x="16663" y="12558"/>
                  <a:pt x="16867" y="12576"/>
                </a:cubicBezTo>
              </a:path>
              <a:path w="15231" h="6550">
                <a:moveTo>
                  <a:pt x="11906" y="17587"/>
                </a:moveTo>
                <a:cubicBezTo>
                  <a:pt x="11906" y="17645"/>
                  <a:pt x="11922" y="17669"/>
                  <a:pt x="11881" y="17661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57240" y="4419720"/>
            <a:ext cx="135000" cy="260280"/>
          </a:xfrm>
          <a:custGeom>
            <a:avLst/>
            <a:gdLst/>
            <a:ahLst/>
            <a:rect l="l" t="t" r="r" b="b"/>
            <a:pathLst>
              <a:path w="373" h="721">
                <a:moveTo>
                  <a:pt x="5457" y="12278"/>
                </a:moveTo>
                <a:cubicBezTo>
                  <a:pt x="5365" y="12290"/>
                  <a:pt x="5319" y="12332"/>
                  <a:pt x="5283" y="12427"/>
                </a:cubicBezTo>
                <a:cubicBezTo>
                  <a:pt x="5250" y="12512"/>
                  <a:pt x="5203" y="12636"/>
                  <a:pt x="5184" y="12725"/>
                </a:cubicBezTo>
                <a:cubicBezTo>
                  <a:pt x="5169" y="12796"/>
                  <a:pt x="5179" y="12803"/>
                  <a:pt x="5184" y="12874"/>
                </a:cubicBezTo>
                <a:cubicBezTo>
                  <a:pt x="5185" y="12891"/>
                  <a:pt x="5207" y="12983"/>
                  <a:pt x="5234" y="12998"/>
                </a:cubicBezTo>
                <a:cubicBezTo>
                  <a:pt x="5282" y="13024"/>
                  <a:pt x="5389" y="12992"/>
                  <a:pt x="5432" y="12973"/>
                </a:cubicBezTo>
                <a:cubicBezTo>
                  <a:pt x="5500" y="12943"/>
                  <a:pt x="5526" y="12892"/>
                  <a:pt x="5531" y="12824"/>
                </a:cubicBezTo>
                <a:cubicBezTo>
                  <a:pt x="5532" y="12807"/>
                  <a:pt x="5490" y="12730"/>
                  <a:pt x="5482" y="12725"/>
                </a:cubicBezTo>
                <a:cubicBezTo>
                  <a:pt x="5462" y="12712"/>
                  <a:pt x="5349" y="12694"/>
                  <a:pt x="5333" y="12700"/>
                </a:cubicBezTo>
                <a:cubicBezTo>
                  <a:pt x="5325" y="12708"/>
                  <a:pt x="5316" y="12717"/>
                  <a:pt x="5308" y="1272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51040" y="4929120"/>
            <a:ext cx="303120" cy="420840"/>
          </a:xfrm>
          <a:custGeom>
            <a:avLst/>
            <a:gdLst/>
            <a:ahLst/>
            <a:rect l="l" t="t" r="r" b="b"/>
            <a:pathLst>
              <a:path w="844" h="1167">
                <a:moveTo>
                  <a:pt x="4862" y="13816"/>
                </a:moveTo>
                <a:cubicBezTo>
                  <a:pt x="5108" y="13804"/>
                  <a:pt x="5366" y="13772"/>
                  <a:pt x="5606" y="13717"/>
                </a:cubicBezTo>
                <a:cubicBezTo>
                  <a:pt x="5656" y="13706"/>
                  <a:pt x="5657" y="13692"/>
                  <a:pt x="5705" y="13692"/>
                </a:cubicBezTo>
              </a:path>
              <a:path w="844" h="1167">
                <a:moveTo>
                  <a:pt x="5407" y="14015"/>
                </a:moveTo>
                <a:cubicBezTo>
                  <a:pt x="5388" y="13954"/>
                  <a:pt x="5275" y="14002"/>
                  <a:pt x="5234" y="14039"/>
                </a:cubicBezTo>
                <a:cubicBezTo>
                  <a:pt x="5145" y="14151"/>
                  <a:pt x="5119" y="14178"/>
                  <a:pt x="5085" y="14263"/>
                </a:cubicBezTo>
                <a:cubicBezTo>
                  <a:pt x="5203" y="14380"/>
                  <a:pt x="5447" y="14402"/>
                  <a:pt x="5531" y="14560"/>
                </a:cubicBezTo>
                <a:cubicBezTo>
                  <a:pt x="5629" y="14744"/>
                  <a:pt x="5500" y="14838"/>
                  <a:pt x="5358" y="14858"/>
                </a:cubicBezTo>
                <a:cubicBezTo>
                  <a:pt x="5187" y="14650"/>
                  <a:pt x="5367" y="14489"/>
                  <a:pt x="5457" y="14263"/>
                </a:cubicBezTo>
                <a:cubicBezTo>
                  <a:pt x="5497" y="14162"/>
                  <a:pt x="5580" y="13990"/>
                  <a:pt x="5432" y="1399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83000" y="4456080"/>
            <a:ext cx="455760" cy="973080"/>
          </a:xfrm>
          <a:custGeom>
            <a:avLst/>
            <a:gdLst/>
            <a:ahLst/>
            <a:rect l="l" t="t" r="r" b="b"/>
            <a:pathLst>
              <a:path w="1266" h="2704">
                <a:moveTo>
                  <a:pt x="9674" y="13816"/>
                </a:moveTo>
                <a:cubicBezTo>
                  <a:pt x="9774" y="13736"/>
                  <a:pt x="9870" y="13718"/>
                  <a:pt x="9996" y="13692"/>
                </a:cubicBezTo>
                <a:cubicBezTo>
                  <a:pt x="10309" y="13627"/>
                  <a:pt x="10626" y="13586"/>
                  <a:pt x="10939" y="13519"/>
                </a:cubicBezTo>
              </a:path>
              <a:path w="1266" h="2704">
                <a:moveTo>
                  <a:pt x="10244" y="12452"/>
                </a:moveTo>
                <a:cubicBezTo>
                  <a:pt x="10244" y="12361"/>
                  <a:pt x="10144" y="12361"/>
                  <a:pt x="10071" y="12402"/>
                </a:cubicBezTo>
                <a:cubicBezTo>
                  <a:pt x="9997" y="12476"/>
                  <a:pt x="9972" y="12500"/>
                  <a:pt x="9971" y="12576"/>
                </a:cubicBezTo>
                <a:cubicBezTo>
                  <a:pt x="10051" y="12650"/>
                  <a:pt x="10386" y="12762"/>
                  <a:pt x="10393" y="12874"/>
                </a:cubicBezTo>
                <a:cubicBezTo>
                  <a:pt x="10404" y="13050"/>
                  <a:pt x="10186" y="13022"/>
                  <a:pt x="10096" y="12998"/>
                </a:cubicBezTo>
                <a:cubicBezTo>
                  <a:pt x="10118" y="12837"/>
                  <a:pt x="10223" y="12742"/>
                  <a:pt x="10294" y="12601"/>
                </a:cubicBezTo>
                <a:cubicBezTo>
                  <a:pt x="10311" y="12566"/>
                  <a:pt x="10392" y="12396"/>
                  <a:pt x="10319" y="12378"/>
                </a:cubicBezTo>
                <a:cubicBezTo>
                  <a:pt x="10284" y="12378"/>
                  <a:pt x="10280" y="12387"/>
                  <a:pt x="10319" y="12427"/>
                </a:cubicBezTo>
              </a:path>
              <a:path w="1266" h="2704">
                <a:moveTo>
                  <a:pt x="10418" y="14114"/>
                </a:moveTo>
                <a:cubicBezTo>
                  <a:pt x="10394" y="14078"/>
                  <a:pt x="10280" y="14043"/>
                  <a:pt x="10220" y="14089"/>
                </a:cubicBezTo>
                <a:cubicBezTo>
                  <a:pt x="10129" y="14159"/>
                  <a:pt x="10021" y="14419"/>
                  <a:pt x="10021" y="14536"/>
                </a:cubicBezTo>
                <a:cubicBezTo>
                  <a:pt x="10029" y="14561"/>
                  <a:pt x="10038" y="14585"/>
                  <a:pt x="10046" y="14610"/>
                </a:cubicBezTo>
                <a:cubicBezTo>
                  <a:pt x="10223" y="14596"/>
                  <a:pt x="10342" y="14539"/>
                  <a:pt x="10418" y="14362"/>
                </a:cubicBezTo>
                <a:cubicBezTo>
                  <a:pt x="10438" y="14263"/>
                  <a:pt x="10446" y="14247"/>
                  <a:pt x="10443" y="14188"/>
                </a:cubicBezTo>
                <a:cubicBezTo>
                  <a:pt x="10443" y="14387"/>
                  <a:pt x="10493" y="14589"/>
                  <a:pt x="10443" y="14784"/>
                </a:cubicBezTo>
                <a:cubicBezTo>
                  <a:pt x="10420" y="14873"/>
                  <a:pt x="10203" y="15136"/>
                  <a:pt x="10393" y="1503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06800" y="6143760"/>
            <a:ext cx="492120" cy="258480"/>
          </a:xfrm>
          <a:custGeom>
            <a:avLst/>
            <a:gdLst/>
            <a:ahLst/>
            <a:rect l="l" t="t" r="r" b="b"/>
            <a:pathLst>
              <a:path w="1365" h="720">
                <a:moveTo>
                  <a:pt x="8731" y="17537"/>
                </a:moveTo>
                <a:cubicBezTo>
                  <a:pt x="8739" y="17714"/>
                  <a:pt x="8786" y="17729"/>
                  <a:pt x="8632" y="17785"/>
                </a:cubicBezTo>
              </a:path>
              <a:path w="1365" h="720">
                <a:moveTo>
                  <a:pt x="9550" y="17090"/>
                </a:moveTo>
                <a:cubicBezTo>
                  <a:pt x="9482" y="16993"/>
                  <a:pt x="9350" y="17214"/>
                  <a:pt x="9327" y="17264"/>
                </a:cubicBezTo>
                <a:cubicBezTo>
                  <a:pt x="9284" y="17413"/>
                  <a:pt x="9261" y="17445"/>
                  <a:pt x="9302" y="17537"/>
                </a:cubicBezTo>
                <a:cubicBezTo>
                  <a:pt x="9484" y="17520"/>
                  <a:pt x="9753" y="17482"/>
                  <a:pt x="9674" y="17214"/>
                </a:cubicBezTo>
                <a:cubicBezTo>
                  <a:pt x="9661" y="17170"/>
                  <a:pt x="9591" y="17125"/>
                  <a:pt x="9550" y="17115"/>
                </a:cubicBezTo>
              </a:path>
              <a:path w="1365" h="720">
                <a:moveTo>
                  <a:pt x="9947" y="17413"/>
                </a:moveTo>
                <a:cubicBezTo>
                  <a:pt x="9963" y="17413"/>
                  <a:pt x="9980" y="17413"/>
                  <a:pt x="9996" y="1741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48160" y="4491000"/>
            <a:ext cx="768600" cy="839880"/>
          </a:xfrm>
          <a:custGeom>
            <a:avLst/>
            <a:gdLst/>
            <a:ahLst/>
            <a:rect l="l" t="t" r="r" b="b"/>
            <a:pathLst>
              <a:path w="2134" h="2332">
                <a:moveTo>
                  <a:pt x="15180" y="14163"/>
                </a:moveTo>
                <a:cubicBezTo>
                  <a:pt x="15054" y="14163"/>
                  <a:pt x="14970" y="14210"/>
                  <a:pt x="14858" y="14263"/>
                </a:cubicBezTo>
                <a:cubicBezTo>
                  <a:pt x="14955" y="14419"/>
                  <a:pt x="15117" y="14512"/>
                  <a:pt x="15230" y="14660"/>
                </a:cubicBezTo>
                <a:cubicBezTo>
                  <a:pt x="15047" y="14764"/>
                  <a:pt x="14903" y="14697"/>
                  <a:pt x="15032" y="14461"/>
                </a:cubicBezTo>
                <a:cubicBezTo>
                  <a:pt x="15132" y="14321"/>
                  <a:pt x="15151" y="14298"/>
                  <a:pt x="15205" y="14213"/>
                </a:cubicBezTo>
              </a:path>
              <a:path w="2134" h="2332">
                <a:moveTo>
                  <a:pt x="16049" y="14213"/>
                </a:moveTo>
                <a:cubicBezTo>
                  <a:pt x="15974" y="14213"/>
                  <a:pt x="15925" y="14206"/>
                  <a:pt x="15850" y="14213"/>
                </a:cubicBezTo>
                <a:cubicBezTo>
                  <a:pt x="15773" y="14220"/>
                  <a:pt x="15717" y="14363"/>
                  <a:pt x="15776" y="14436"/>
                </a:cubicBezTo>
                <a:cubicBezTo>
                  <a:pt x="15843" y="14518"/>
                  <a:pt x="16183" y="14586"/>
                  <a:pt x="16073" y="14734"/>
                </a:cubicBezTo>
                <a:cubicBezTo>
                  <a:pt x="15973" y="14868"/>
                  <a:pt x="15869" y="14800"/>
                  <a:pt x="15751" y="14759"/>
                </a:cubicBezTo>
                <a:cubicBezTo>
                  <a:pt x="15792" y="14566"/>
                  <a:pt x="15904" y="14470"/>
                  <a:pt x="16049" y="14337"/>
                </a:cubicBezTo>
                <a:cubicBezTo>
                  <a:pt x="16073" y="14312"/>
                  <a:pt x="16081" y="14304"/>
                  <a:pt x="16049" y="14288"/>
                </a:cubicBezTo>
              </a:path>
              <a:path w="2134" h="2332">
                <a:moveTo>
                  <a:pt x="16743" y="14188"/>
                </a:moveTo>
                <a:cubicBezTo>
                  <a:pt x="16659" y="14169"/>
                  <a:pt x="16530" y="14174"/>
                  <a:pt x="16470" y="14263"/>
                </a:cubicBezTo>
                <a:cubicBezTo>
                  <a:pt x="16462" y="14288"/>
                  <a:pt x="16454" y="14312"/>
                  <a:pt x="16446" y="14337"/>
                </a:cubicBezTo>
                <a:cubicBezTo>
                  <a:pt x="16565" y="14438"/>
                  <a:pt x="16698" y="14508"/>
                  <a:pt x="16818" y="14610"/>
                </a:cubicBezTo>
                <a:cubicBezTo>
                  <a:pt x="16772" y="14646"/>
                  <a:pt x="16533" y="14755"/>
                  <a:pt x="16520" y="14610"/>
                </a:cubicBezTo>
                <a:cubicBezTo>
                  <a:pt x="16502" y="14406"/>
                  <a:pt x="16793" y="14382"/>
                  <a:pt x="16842" y="14238"/>
                </a:cubicBezTo>
                <a:cubicBezTo>
                  <a:pt x="16834" y="14238"/>
                  <a:pt x="16826" y="14238"/>
                  <a:pt x="16818" y="14238"/>
                </a:cubicBezTo>
              </a:path>
              <a:path w="2134" h="2332">
                <a:moveTo>
                  <a:pt x="16446" y="13990"/>
                </a:moveTo>
                <a:cubicBezTo>
                  <a:pt x="16606" y="13990"/>
                  <a:pt x="16758" y="13980"/>
                  <a:pt x="16917" y="13965"/>
                </a:cubicBezTo>
                <a:cubicBezTo>
                  <a:pt x="16958" y="13965"/>
                  <a:pt x="16966" y="13965"/>
                  <a:pt x="16991" y="13965"/>
                </a:cubicBezTo>
              </a:path>
              <a:path w="2134" h="2332">
                <a:moveTo>
                  <a:pt x="16694" y="13295"/>
                </a:moveTo>
                <a:cubicBezTo>
                  <a:pt x="16682" y="13261"/>
                  <a:pt x="16631" y="13256"/>
                  <a:pt x="16594" y="13295"/>
                </a:cubicBezTo>
                <a:cubicBezTo>
                  <a:pt x="16520" y="13373"/>
                  <a:pt x="16463" y="13568"/>
                  <a:pt x="16520" y="13667"/>
                </a:cubicBezTo>
                <a:cubicBezTo>
                  <a:pt x="16574" y="13761"/>
                  <a:pt x="16820" y="13617"/>
                  <a:pt x="16842" y="13543"/>
                </a:cubicBezTo>
                <a:cubicBezTo>
                  <a:pt x="16874" y="13439"/>
                  <a:pt x="16857" y="13335"/>
                  <a:pt x="16743" y="13320"/>
                </a:cubicBezTo>
                <a:cubicBezTo>
                  <a:pt x="16665" y="13320"/>
                  <a:pt x="16647" y="13335"/>
                  <a:pt x="16619" y="13295"/>
                </a:cubicBezTo>
              </a:path>
              <a:path w="2134" h="2332">
                <a:moveTo>
                  <a:pt x="16570" y="12502"/>
                </a:moveTo>
                <a:cubicBezTo>
                  <a:pt x="16570" y="12494"/>
                  <a:pt x="16570" y="12485"/>
                  <a:pt x="16570" y="12477"/>
                </a:cubicBezTo>
                <a:cubicBezTo>
                  <a:pt x="16511" y="12477"/>
                  <a:pt x="16498" y="12463"/>
                  <a:pt x="16470" y="12526"/>
                </a:cubicBezTo>
                <a:cubicBezTo>
                  <a:pt x="16424" y="12627"/>
                  <a:pt x="16315" y="12898"/>
                  <a:pt x="16545" y="12874"/>
                </a:cubicBezTo>
                <a:cubicBezTo>
                  <a:pt x="16659" y="12862"/>
                  <a:pt x="16838" y="12696"/>
                  <a:pt x="16743" y="12576"/>
                </a:cubicBezTo>
                <a:cubicBezTo>
                  <a:pt x="16702" y="12523"/>
                  <a:pt x="16604" y="12514"/>
                  <a:pt x="16545" y="12502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90840" y="5018040"/>
            <a:ext cx="393480" cy="162000"/>
          </a:xfrm>
          <a:custGeom>
            <a:avLst/>
            <a:gdLst/>
            <a:ahLst/>
            <a:rect l="l" t="t" r="r" b="b"/>
            <a:pathLst>
              <a:path w="1092" h="448">
                <a:moveTo>
                  <a:pt x="7938" y="13965"/>
                </a:moveTo>
                <a:cubicBezTo>
                  <a:pt x="7977" y="13978"/>
                  <a:pt x="7948" y="13977"/>
                  <a:pt x="7987" y="13990"/>
                </a:cubicBezTo>
                <a:cubicBezTo>
                  <a:pt x="7987" y="13928"/>
                  <a:pt x="7956" y="13949"/>
                  <a:pt x="7987" y="13965"/>
                </a:cubicBezTo>
              </a:path>
              <a:path w="1092" h="448">
                <a:moveTo>
                  <a:pt x="8012" y="13990"/>
                </a:moveTo>
                <a:cubicBezTo>
                  <a:pt x="8012" y="14041"/>
                  <a:pt x="7998" y="14047"/>
                  <a:pt x="7962" y="14089"/>
                </a:cubicBezTo>
                <a:cubicBezTo>
                  <a:pt x="7920" y="14138"/>
                  <a:pt x="7878" y="14231"/>
                  <a:pt x="7813" y="14238"/>
                </a:cubicBezTo>
                <a:cubicBezTo>
                  <a:pt x="7773" y="14243"/>
                  <a:pt x="7732" y="14278"/>
                  <a:pt x="7689" y="14263"/>
                </a:cubicBezTo>
                <a:cubicBezTo>
                  <a:pt x="7620" y="14238"/>
                  <a:pt x="7667" y="14165"/>
                  <a:pt x="7615" y="14114"/>
                </a:cubicBezTo>
                <a:cubicBezTo>
                  <a:pt x="7602" y="14102"/>
                  <a:pt x="7553" y="14214"/>
                  <a:pt x="7541" y="14238"/>
                </a:cubicBezTo>
                <a:cubicBezTo>
                  <a:pt x="7506" y="14306"/>
                  <a:pt x="7444" y="14310"/>
                  <a:pt x="7367" y="14337"/>
                </a:cubicBezTo>
                <a:cubicBezTo>
                  <a:pt x="7292" y="14363"/>
                  <a:pt x="7242" y="14411"/>
                  <a:pt x="7169" y="14362"/>
                </a:cubicBezTo>
                <a:cubicBezTo>
                  <a:pt x="7123" y="14331"/>
                  <a:pt x="7093" y="14344"/>
                  <a:pt x="7069" y="14312"/>
                </a:cubicBezTo>
                <a:cubicBezTo>
                  <a:pt x="7040" y="14273"/>
                  <a:pt x="7012" y="14290"/>
                  <a:pt x="6995" y="14238"/>
                </a:cubicBezTo>
                <a:cubicBezTo>
                  <a:pt x="6983" y="14203"/>
                  <a:pt x="6952" y="14177"/>
                  <a:pt x="6945" y="14163"/>
                </a:cubicBezTo>
                <a:cubicBezTo>
                  <a:pt x="6921" y="14116"/>
                  <a:pt x="6973" y="14082"/>
                  <a:pt x="6921" y="1406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74880" y="5724360"/>
            <a:ext cx="3019320" cy="285840"/>
          </a:xfrm>
          <a:custGeom>
            <a:avLst/>
            <a:gdLst/>
            <a:ahLst/>
            <a:rect l="l" t="t" r="r" b="b"/>
            <a:pathLst>
              <a:path w="8385" h="795">
                <a:moveTo>
                  <a:pt x="5209" y="15999"/>
                </a:moveTo>
                <a:cubicBezTo>
                  <a:pt x="5306" y="15971"/>
                  <a:pt x="5410" y="15935"/>
                  <a:pt x="5507" y="15900"/>
                </a:cubicBezTo>
              </a:path>
              <a:path w="8385" h="795">
                <a:moveTo>
                  <a:pt x="5879" y="16371"/>
                </a:moveTo>
                <a:cubicBezTo>
                  <a:pt x="5872" y="16503"/>
                  <a:pt x="5873" y="16562"/>
                  <a:pt x="5804" y="16669"/>
                </a:cubicBezTo>
              </a:path>
              <a:path w="8385" h="795">
                <a:moveTo>
                  <a:pt x="8483" y="16495"/>
                </a:moveTo>
                <a:cubicBezTo>
                  <a:pt x="8466" y="16573"/>
                  <a:pt x="8448" y="16669"/>
                  <a:pt x="8434" y="16669"/>
                </a:cubicBezTo>
              </a:path>
              <a:path w="8385" h="795">
                <a:moveTo>
                  <a:pt x="13593" y="16123"/>
                </a:moveTo>
                <a:lnTo>
                  <a:pt x="13593" y="16123"/>
                </a:lnTo>
                <a:lnTo>
                  <a:pt x="13593" y="16123"/>
                </a:lnTo>
              </a:path>
              <a:path w="8385" h="795">
                <a:moveTo>
                  <a:pt x="13593" y="16123"/>
                </a:moveTo>
                <a:lnTo>
                  <a:pt x="13593" y="16123"/>
                </a:ln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20840" y="5742000"/>
            <a:ext cx="625320" cy="204840"/>
          </a:xfrm>
          <a:custGeom>
            <a:avLst/>
            <a:gdLst/>
            <a:ahLst/>
            <a:rect l="l" t="t" r="r" b="b"/>
            <a:pathLst>
              <a:path w="1737" h="572">
                <a:moveTo>
                  <a:pt x="3944" y="15949"/>
                </a:moveTo>
                <a:cubicBezTo>
                  <a:pt x="3974" y="15949"/>
                  <a:pt x="3801" y="16099"/>
                  <a:pt x="3770" y="16148"/>
                </a:cubicBezTo>
                <a:cubicBezTo>
                  <a:pt x="3674" y="16301"/>
                  <a:pt x="3671" y="16371"/>
                  <a:pt x="3721" y="16520"/>
                </a:cubicBezTo>
                <a:cubicBezTo>
                  <a:pt x="3945" y="16445"/>
                  <a:pt x="4166" y="16340"/>
                  <a:pt x="4118" y="16049"/>
                </a:cubicBezTo>
                <a:cubicBezTo>
                  <a:pt x="4100" y="15937"/>
                  <a:pt x="3983" y="16003"/>
                  <a:pt x="3969" y="16073"/>
                </a:cubicBezTo>
              </a:path>
              <a:path w="1737" h="572">
                <a:moveTo>
                  <a:pt x="4415" y="16321"/>
                </a:moveTo>
                <a:cubicBezTo>
                  <a:pt x="4415" y="16346"/>
                  <a:pt x="4415" y="16354"/>
                  <a:pt x="4415" y="16321"/>
                </a:cubicBezTo>
              </a:path>
              <a:path w="1737" h="572">
                <a:moveTo>
                  <a:pt x="4564" y="16024"/>
                </a:moveTo>
                <a:cubicBezTo>
                  <a:pt x="4672" y="16018"/>
                  <a:pt x="4952" y="15931"/>
                  <a:pt x="4986" y="16098"/>
                </a:cubicBezTo>
                <a:cubicBezTo>
                  <a:pt x="4998" y="16158"/>
                  <a:pt x="4943" y="16280"/>
                  <a:pt x="4936" y="16346"/>
                </a:cubicBezTo>
              </a:path>
              <a:path w="1737" h="572">
                <a:moveTo>
                  <a:pt x="5135" y="15999"/>
                </a:moveTo>
                <a:cubicBezTo>
                  <a:pt x="5154" y="16138"/>
                  <a:pt x="5257" y="16054"/>
                  <a:pt x="5358" y="16123"/>
                </a:cubicBezTo>
                <a:cubicBezTo>
                  <a:pt x="5400" y="16186"/>
                  <a:pt x="5416" y="16198"/>
                  <a:pt x="5407" y="16247"/>
                </a:cubicBezTo>
                <a:cubicBezTo>
                  <a:pt x="5242" y="16310"/>
                  <a:pt x="5294" y="16265"/>
                  <a:pt x="5184" y="1614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697360"/>
            <a:ext cx="581040" cy="21456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6573" y="15925"/>
                </a:moveTo>
                <a:cubicBezTo>
                  <a:pt x="6462" y="16060"/>
                  <a:pt x="6400" y="16181"/>
                  <a:pt x="6350" y="16346"/>
                </a:cubicBezTo>
                <a:cubicBezTo>
                  <a:pt x="6520" y="16377"/>
                  <a:pt x="6692" y="16281"/>
                  <a:pt x="6697" y="16073"/>
                </a:cubicBezTo>
                <a:cubicBezTo>
                  <a:pt x="6701" y="15911"/>
                  <a:pt x="6534" y="15960"/>
                  <a:pt x="6449" y="15974"/>
                </a:cubicBezTo>
              </a:path>
              <a:path w="1613" h="597">
                <a:moveTo>
                  <a:pt x="6995" y="16049"/>
                </a:moveTo>
                <a:cubicBezTo>
                  <a:pt x="7098" y="16003"/>
                  <a:pt x="7225" y="15987"/>
                  <a:pt x="7342" y="15974"/>
                </a:cubicBezTo>
                <a:cubicBezTo>
                  <a:pt x="7342" y="16093"/>
                  <a:pt x="7318" y="16183"/>
                  <a:pt x="7293" y="16297"/>
                </a:cubicBezTo>
                <a:cubicBezTo>
                  <a:pt x="7293" y="16305"/>
                  <a:pt x="7293" y="16313"/>
                  <a:pt x="7293" y="16321"/>
                </a:cubicBezTo>
              </a:path>
              <a:path w="1613" h="597">
                <a:moveTo>
                  <a:pt x="7665" y="15900"/>
                </a:moveTo>
                <a:cubicBezTo>
                  <a:pt x="7764" y="15883"/>
                  <a:pt x="7863" y="15853"/>
                  <a:pt x="7962" y="15825"/>
                </a:cubicBezTo>
                <a:cubicBezTo>
                  <a:pt x="7962" y="15922"/>
                  <a:pt x="7987" y="16119"/>
                  <a:pt x="7913" y="16197"/>
                </a:cubicBezTo>
                <a:cubicBezTo>
                  <a:pt x="7896" y="16197"/>
                  <a:pt x="7880" y="16197"/>
                  <a:pt x="7863" y="16197"/>
                </a:cubicBezTo>
              </a:path>
              <a:path w="1613" h="597">
                <a:moveTo>
                  <a:pt x="6921" y="16396"/>
                </a:moveTo>
                <a:cubicBezTo>
                  <a:pt x="6921" y="16404"/>
                  <a:pt x="6921" y="16413"/>
                  <a:pt x="6921" y="16421"/>
                </a:cubicBezTo>
                <a:cubicBezTo>
                  <a:pt x="6955" y="16409"/>
                  <a:pt x="6971" y="16345"/>
                  <a:pt x="6945" y="16371"/>
                </a:cubicBezTo>
                <a:cubicBezTo>
                  <a:pt x="6945" y="16379"/>
                  <a:pt x="6945" y="16388"/>
                  <a:pt x="6945" y="163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24160" y="5643720"/>
            <a:ext cx="1008000" cy="231480"/>
          </a:xfrm>
          <a:custGeom>
            <a:avLst/>
            <a:gdLst/>
            <a:ahLst/>
            <a:rect l="l" t="t" r="r" b="b"/>
            <a:pathLst>
              <a:path w="2804" h="645">
                <a:moveTo>
                  <a:pt x="9203" y="16024"/>
                </a:moveTo>
                <a:cubicBezTo>
                  <a:pt x="9248" y="15962"/>
                  <a:pt x="9233" y="15969"/>
                  <a:pt x="9178" y="15949"/>
                </a:cubicBezTo>
                <a:cubicBezTo>
                  <a:pt x="9119" y="15928"/>
                  <a:pt x="8988" y="15917"/>
                  <a:pt x="8979" y="15999"/>
                </a:cubicBezTo>
                <a:cubicBezTo>
                  <a:pt x="8967" y="16107"/>
                  <a:pt x="9064" y="16106"/>
                  <a:pt x="9153" y="16148"/>
                </a:cubicBezTo>
                <a:cubicBezTo>
                  <a:pt x="9092" y="16229"/>
                  <a:pt x="9078" y="16230"/>
                  <a:pt x="8979" y="16247"/>
                </a:cubicBezTo>
                <a:cubicBezTo>
                  <a:pt x="8979" y="16107"/>
                  <a:pt x="9040" y="16056"/>
                  <a:pt x="9153" y="15974"/>
                </a:cubicBezTo>
                <a:cubicBezTo>
                  <a:pt x="9170" y="15966"/>
                  <a:pt x="9186" y="15957"/>
                  <a:pt x="9203" y="15949"/>
                </a:cubicBezTo>
              </a:path>
              <a:path w="2804" h="645">
                <a:moveTo>
                  <a:pt x="9178" y="16024"/>
                </a:moveTo>
                <a:cubicBezTo>
                  <a:pt x="9060" y="16103"/>
                  <a:pt x="9025" y="16159"/>
                  <a:pt x="9004" y="16297"/>
                </a:cubicBezTo>
                <a:cubicBezTo>
                  <a:pt x="9130" y="16338"/>
                  <a:pt x="9255" y="16207"/>
                  <a:pt x="9327" y="16098"/>
                </a:cubicBezTo>
                <a:cubicBezTo>
                  <a:pt x="9335" y="16073"/>
                  <a:pt x="9343" y="16049"/>
                  <a:pt x="9351" y="16024"/>
                </a:cubicBezTo>
                <a:cubicBezTo>
                  <a:pt x="9253" y="15991"/>
                  <a:pt x="9168" y="15966"/>
                  <a:pt x="9054" y="15999"/>
                </a:cubicBezTo>
                <a:cubicBezTo>
                  <a:pt x="8976" y="16021"/>
                  <a:pt x="8961" y="16160"/>
                  <a:pt x="8954" y="16222"/>
                </a:cubicBezTo>
                <a:cubicBezTo>
                  <a:pt x="9104" y="16272"/>
                  <a:pt x="9129" y="16213"/>
                  <a:pt x="9227" y="16098"/>
                </a:cubicBezTo>
              </a:path>
              <a:path w="2804" h="645">
                <a:moveTo>
                  <a:pt x="9674" y="16098"/>
                </a:moveTo>
                <a:cubicBezTo>
                  <a:pt x="9652" y="16141"/>
                  <a:pt x="9633" y="16177"/>
                  <a:pt x="9624" y="16222"/>
                </a:cubicBezTo>
                <a:cubicBezTo>
                  <a:pt x="9665" y="16142"/>
                  <a:pt x="9695" y="16099"/>
                  <a:pt x="9748" y="16049"/>
                </a:cubicBezTo>
              </a:path>
              <a:path w="2804" h="645">
                <a:moveTo>
                  <a:pt x="10195" y="15900"/>
                </a:moveTo>
                <a:cubicBezTo>
                  <a:pt x="10136" y="15910"/>
                  <a:pt x="10079" y="15930"/>
                  <a:pt x="10021" y="15949"/>
                </a:cubicBezTo>
                <a:cubicBezTo>
                  <a:pt x="10074" y="16043"/>
                  <a:pt x="10176" y="16110"/>
                  <a:pt x="10244" y="16197"/>
                </a:cubicBezTo>
                <a:cubicBezTo>
                  <a:pt x="10085" y="16271"/>
                  <a:pt x="9990" y="16240"/>
                  <a:pt x="10096" y="16049"/>
                </a:cubicBezTo>
                <a:cubicBezTo>
                  <a:pt x="10156" y="15967"/>
                  <a:pt x="10160" y="15944"/>
                  <a:pt x="10220" y="15925"/>
                </a:cubicBezTo>
              </a:path>
              <a:path w="2804" h="645">
                <a:moveTo>
                  <a:pt x="10468" y="15900"/>
                </a:moveTo>
                <a:cubicBezTo>
                  <a:pt x="10535" y="15882"/>
                  <a:pt x="10824" y="15781"/>
                  <a:pt x="10716" y="15949"/>
                </a:cubicBezTo>
                <a:cubicBezTo>
                  <a:pt x="10660" y="16005"/>
                  <a:pt x="10662" y="16030"/>
                  <a:pt x="10616" y="16024"/>
                </a:cubicBezTo>
                <a:cubicBezTo>
                  <a:pt x="10782" y="16010"/>
                  <a:pt x="10788" y="16016"/>
                  <a:pt x="10939" y="16073"/>
                </a:cubicBezTo>
                <a:cubicBezTo>
                  <a:pt x="10777" y="16203"/>
                  <a:pt x="10682" y="16305"/>
                  <a:pt x="10567" y="16148"/>
                </a:cubicBezTo>
              </a:path>
              <a:path w="2804" h="645">
                <a:moveTo>
                  <a:pt x="11212" y="15701"/>
                </a:moveTo>
                <a:cubicBezTo>
                  <a:pt x="11385" y="15692"/>
                  <a:pt x="11632" y="15743"/>
                  <a:pt x="11584" y="15999"/>
                </a:cubicBezTo>
                <a:cubicBezTo>
                  <a:pt x="11550" y="16181"/>
                  <a:pt x="11382" y="16102"/>
                  <a:pt x="11286" y="16073"/>
                </a:cubicBezTo>
                <a:cubicBezTo>
                  <a:pt x="11404" y="15933"/>
                  <a:pt x="11530" y="15947"/>
                  <a:pt x="11683" y="16049"/>
                </a:cubicBezTo>
                <a:cubicBezTo>
                  <a:pt x="11738" y="16104"/>
                  <a:pt x="11763" y="16155"/>
                  <a:pt x="11757" y="1609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29080" y="5840280"/>
            <a:ext cx="97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2328" y="16222"/>
                </a:moveTo>
                <a:cubicBezTo>
                  <a:pt x="12328" y="16271"/>
                  <a:pt x="12278" y="16592"/>
                  <a:pt x="12328" y="1639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7920" y="5680080"/>
            <a:ext cx="125280" cy="150840"/>
          </a:xfrm>
          <a:custGeom>
            <a:avLst/>
            <a:gdLst/>
            <a:ahLst/>
            <a:rect l="l" t="t" r="r" b="b"/>
            <a:pathLst>
              <a:path w="349" h="422">
                <a:moveTo>
                  <a:pt x="13221" y="15801"/>
                </a:moveTo>
                <a:cubicBezTo>
                  <a:pt x="13190" y="15740"/>
                  <a:pt x="13041" y="16066"/>
                  <a:pt x="13022" y="16123"/>
                </a:cubicBezTo>
                <a:cubicBezTo>
                  <a:pt x="13022" y="16148"/>
                  <a:pt x="13022" y="16172"/>
                  <a:pt x="13022" y="16197"/>
                </a:cubicBezTo>
                <a:cubicBezTo>
                  <a:pt x="13163" y="16160"/>
                  <a:pt x="13418" y="16084"/>
                  <a:pt x="13370" y="15875"/>
                </a:cubicBezTo>
                <a:cubicBezTo>
                  <a:pt x="13340" y="15743"/>
                  <a:pt x="13267" y="15805"/>
                  <a:pt x="13221" y="1585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45040" y="5545080"/>
            <a:ext cx="162000" cy="258840"/>
          </a:xfrm>
          <a:custGeom>
            <a:avLst/>
            <a:gdLst/>
            <a:ahLst/>
            <a:rect l="l" t="t" r="r" b="b"/>
            <a:pathLst>
              <a:path w="447" h="720">
                <a:moveTo>
                  <a:pt x="14312" y="15677"/>
                </a:moveTo>
                <a:cubicBezTo>
                  <a:pt x="14192" y="15691"/>
                  <a:pt x="14137" y="15705"/>
                  <a:pt x="14039" y="15776"/>
                </a:cubicBezTo>
                <a:cubicBezTo>
                  <a:pt x="14163" y="15877"/>
                  <a:pt x="14290" y="15969"/>
                  <a:pt x="14412" y="16073"/>
                </a:cubicBezTo>
                <a:cubicBezTo>
                  <a:pt x="14318" y="16111"/>
                  <a:pt x="14116" y="16164"/>
                  <a:pt x="14213" y="15974"/>
                </a:cubicBezTo>
                <a:cubicBezTo>
                  <a:pt x="14305" y="15859"/>
                  <a:pt x="14331" y="15827"/>
                  <a:pt x="14387" y="15751"/>
                </a:cubicBezTo>
              </a:path>
              <a:path w="447" h="720">
                <a:moveTo>
                  <a:pt x="14015" y="15429"/>
                </a:moveTo>
                <a:cubicBezTo>
                  <a:pt x="14165" y="15429"/>
                  <a:pt x="14311" y="15411"/>
                  <a:pt x="14461" y="15404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7040" y="604512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4762" y="16793"/>
                </a:moveTo>
                <a:cubicBezTo>
                  <a:pt x="4718" y="16853"/>
                  <a:pt x="4717" y="16994"/>
                  <a:pt x="4738" y="17090"/>
                </a:cubicBezTo>
                <a:cubicBezTo>
                  <a:pt x="4781" y="17284"/>
                  <a:pt x="5043" y="17112"/>
                  <a:pt x="5110" y="17016"/>
                </a:cubicBezTo>
                <a:cubicBezTo>
                  <a:pt x="5110" y="16975"/>
                  <a:pt x="5110" y="16967"/>
                  <a:pt x="5110" y="16942"/>
                </a:cubicBezTo>
                <a:cubicBezTo>
                  <a:pt x="4976" y="16975"/>
                  <a:pt x="4940" y="17022"/>
                  <a:pt x="4911" y="1716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70040" y="6215040"/>
            <a:ext cx="169920" cy="27000"/>
          </a:xfrm>
          <a:custGeom>
            <a:avLst/>
            <a:gdLst/>
            <a:ahLst/>
            <a:rect l="l" t="t" r="r" b="b"/>
            <a:pathLst>
              <a:path w="473" h="75">
                <a:moveTo>
                  <a:pt x="4638" y="17338"/>
                </a:moveTo>
                <a:cubicBezTo>
                  <a:pt x="4773" y="17306"/>
                  <a:pt x="5010" y="17213"/>
                  <a:pt x="5110" y="1728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58960" y="6296040"/>
            <a:ext cx="26820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5085" y="17512"/>
                </a:moveTo>
                <a:cubicBezTo>
                  <a:pt x="5012" y="17556"/>
                  <a:pt x="4950" y="17603"/>
                  <a:pt x="4887" y="17661"/>
                </a:cubicBezTo>
                <a:cubicBezTo>
                  <a:pt x="5069" y="17743"/>
                  <a:pt x="5195" y="17760"/>
                  <a:pt x="5135" y="17959"/>
                </a:cubicBezTo>
                <a:cubicBezTo>
                  <a:pt x="4971" y="17922"/>
                  <a:pt x="4992" y="17864"/>
                  <a:pt x="5085" y="17735"/>
                </a:cubicBezTo>
                <a:cubicBezTo>
                  <a:pt x="5089" y="17730"/>
                  <a:pt x="5312" y="17495"/>
                  <a:pt x="5209" y="17487"/>
                </a:cubicBezTo>
                <a:cubicBezTo>
                  <a:pt x="5159" y="17487"/>
                  <a:pt x="5143" y="17487"/>
                  <a:pt x="5110" y="17487"/>
                </a:cubicBezTo>
              </a:path>
              <a:path w="745" h="473">
                <a:moveTo>
                  <a:pt x="5606" y="17661"/>
                </a:moveTo>
                <a:cubicBezTo>
                  <a:pt x="5618" y="17732"/>
                  <a:pt x="5638" y="17785"/>
                  <a:pt x="5606" y="1778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8360" y="6062760"/>
            <a:ext cx="723960" cy="260280"/>
          </a:xfrm>
          <a:custGeom>
            <a:avLst/>
            <a:gdLst/>
            <a:ahLst/>
            <a:rect l="l" t="t" r="r" b="b"/>
            <a:pathLst>
              <a:path w="2011" h="721">
                <a:moveTo>
                  <a:pt x="6300" y="17190"/>
                </a:moveTo>
                <a:cubicBezTo>
                  <a:pt x="6401" y="17165"/>
                  <a:pt x="6533" y="17112"/>
                  <a:pt x="6648" y="17115"/>
                </a:cubicBezTo>
                <a:cubicBezTo>
                  <a:pt x="6664" y="17123"/>
                  <a:pt x="6681" y="17132"/>
                  <a:pt x="6697" y="17140"/>
                </a:cubicBezTo>
                <a:cubicBezTo>
                  <a:pt x="6693" y="17214"/>
                  <a:pt x="6607" y="17512"/>
                  <a:pt x="6648" y="17562"/>
                </a:cubicBezTo>
                <a:cubicBezTo>
                  <a:pt x="6752" y="17562"/>
                  <a:pt x="6813" y="17530"/>
                  <a:pt x="6871" y="17438"/>
                </a:cubicBezTo>
              </a:path>
              <a:path w="2011" h="721">
                <a:moveTo>
                  <a:pt x="7020" y="17066"/>
                </a:moveTo>
                <a:cubicBezTo>
                  <a:pt x="7135" y="17066"/>
                  <a:pt x="7347" y="17002"/>
                  <a:pt x="7367" y="17165"/>
                </a:cubicBezTo>
                <a:cubicBezTo>
                  <a:pt x="7384" y="17299"/>
                  <a:pt x="7363" y="17433"/>
                  <a:pt x="7342" y="17562"/>
                </a:cubicBezTo>
              </a:path>
              <a:path w="2011" h="721">
                <a:moveTo>
                  <a:pt x="7764" y="16842"/>
                </a:moveTo>
                <a:cubicBezTo>
                  <a:pt x="7710" y="16849"/>
                  <a:pt x="7655" y="16848"/>
                  <a:pt x="7640" y="16892"/>
                </a:cubicBezTo>
                <a:cubicBezTo>
                  <a:pt x="7617" y="16961"/>
                  <a:pt x="7598" y="17019"/>
                  <a:pt x="7590" y="17090"/>
                </a:cubicBezTo>
                <a:cubicBezTo>
                  <a:pt x="7684" y="17073"/>
                  <a:pt x="7882" y="17036"/>
                  <a:pt x="7789" y="16892"/>
                </a:cubicBezTo>
                <a:cubicBezTo>
                  <a:pt x="7772" y="16866"/>
                  <a:pt x="7680" y="16867"/>
                  <a:pt x="7739" y="16867"/>
                </a:cubicBezTo>
                <a:cubicBezTo>
                  <a:pt x="7874" y="16930"/>
                  <a:pt x="7961" y="16920"/>
                  <a:pt x="8111" y="16892"/>
                </a:cubicBezTo>
                <a:cubicBezTo>
                  <a:pt x="8093" y="17037"/>
                  <a:pt x="8009" y="17209"/>
                  <a:pt x="7938" y="17338"/>
                </a:cubicBezTo>
                <a:cubicBezTo>
                  <a:pt x="7881" y="17441"/>
                  <a:pt x="7742" y="17537"/>
                  <a:pt x="7838" y="17537"/>
                </a:cubicBezTo>
              </a:path>
              <a:path w="2011" h="721">
                <a:moveTo>
                  <a:pt x="8136" y="17363"/>
                </a:moveTo>
                <a:cubicBezTo>
                  <a:pt x="8081" y="17419"/>
                  <a:pt x="8056" y="17417"/>
                  <a:pt x="8062" y="17462"/>
                </a:cubicBezTo>
                <a:cubicBezTo>
                  <a:pt x="8081" y="17463"/>
                  <a:pt x="8429" y="17376"/>
                  <a:pt x="8310" y="17338"/>
                </a:cubicBezTo>
                <a:cubicBezTo>
                  <a:pt x="8219" y="17338"/>
                  <a:pt x="8194" y="17338"/>
                  <a:pt x="8136" y="17338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4840" y="6072120"/>
            <a:ext cx="500040" cy="196920"/>
          </a:xfrm>
          <a:custGeom>
            <a:avLst/>
            <a:gdLst/>
            <a:ahLst/>
            <a:rect l="l" t="t" r="r" b="b"/>
            <a:pathLst>
              <a:path w="1390" h="547">
                <a:moveTo>
                  <a:pt x="10542" y="16867"/>
                </a:moveTo>
                <a:cubicBezTo>
                  <a:pt x="10412" y="16933"/>
                  <a:pt x="10376" y="16943"/>
                  <a:pt x="10319" y="17016"/>
                </a:cubicBezTo>
                <a:cubicBezTo>
                  <a:pt x="10351" y="17099"/>
                  <a:pt x="10572" y="17259"/>
                  <a:pt x="10517" y="17338"/>
                </a:cubicBezTo>
                <a:cubicBezTo>
                  <a:pt x="10439" y="17390"/>
                  <a:pt x="10411" y="17406"/>
                  <a:pt x="10344" y="17363"/>
                </a:cubicBezTo>
                <a:cubicBezTo>
                  <a:pt x="10394" y="17233"/>
                  <a:pt x="10563" y="17085"/>
                  <a:pt x="10592" y="16966"/>
                </a:cubicBezTo>
                <a:cubicBezTo>
                  <a:pt x="10567" y="16966"/>
                  <a:pt x="10559" y="16966"/>
                  <a:pt x="10592" y="16966"/>
                </a:cubicBezTo>
              </a:path>
              <a:path w="1390" h="547">
                <a:moveTo>
                  <a:pt x="10765" y="16991"/>
                </a:moveTo>
                <a:cubicBezTo>
                  <a:pt x="10822" y="16985"/>
                  <a:pt x="11037" y="16912"/>
                  <a:pt x="11063" y="16991"/>
                </a:cubicBezTo>
                <a:cubicBezTo>
                  <a:pt x="11094" y="17085"/>
                  <a:pt x="10939" y="17119"/>
                  <a:pt x="10889" y="17140"/>
                </a:cubicBezTo>
                <a:cubicBezTo>
                  <a:pt x="11067" y="17164"/>
                  <a:pt x="11073" y="17137"/>
                  <a:pt x="11162" y="17289"/>
                </a:cubicBezTo>
                <a:cubicBezTo>
                  <a:pt x="11022" y="17389"/>
                  <a:pt x="10904" y="17473"/>
                  <a:pt x="10889" y="17289"/>
                </a:cubicBezTo>
              </a:path>
              <a:path w="1390" h="547">
                <a:moveTo>
                  <a:pt x="11385" y="16867"/>
                </a:moveTo>
                <a:cubicBezTo>
                  <a:pt x="11537" y="16935"/>
                  <a:pt x="11799" y="17032"/>
                  <a:pt x="11708" y="17264"/>
                </a:cubicBezTo>
                <a:cubicBezTo>
                  <a:pt x="11645" y="17424"/>
                  <a:pt x="11402" y="17443"/>
                  <a:pt x="11336" y="17363"/>
                </a:cubicBezTo>
                <a:cubicBezTo>
                  <a:pt x="11431" y="17250"/>
                  <a:pt x="11522" y="17170"/>
                  <a:pt x="11633" y="17338"/>
                </a:cubicBezTo>
                <a:cubicBezTo>
                  <a:pt x="11653" y="17379"/>
                  <a:pt x="11662" y="17385"/>
                  <a:pt x="11658" y="1741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947000" y="4884840"/>
            <a:ext cx="465120" cy="160200"/>
          </a:xfrm>
          <a:custGeom>
            <a:avLst/>
            <a:gdLst/>
            <a:ahLst/>
            <a:rect l="l" t="t" r="r" b="b"/>
            <a:pathLst>
              <a:path w="1291" h="448">
                <a:moveTo>
                  <a:pt x="22076" y="13593"/>
                </a:moveTo>
                <a:cubicBezTo>
                  <a:pt x="22340" y="13566"/>
                  <a:pt x="22439" y="13558"/>
                  <a:pt x="22622" y="13568"/>
                </a:cubicBezTo>
              </a:path>
              <a:path w="1291" h="448">
                <a:moveTo>
                  <a:pt x="22275" y="14015"/>
                </a:moveTo>
                <a:cubicBezTo>
                  <a:pt x="22641" y="13984"/>
                  <a:pt x="23004" y="13942"/>
                  <a:pt x="23366" y="1399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3840" y="3813120"/>
            <a:ext cx="133200" cy="16056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23341" y="10592"/>
                </a:moveTo>
                <a:cubicBezTo>
                  <a:pt x="23276" y="10592"/>
                  <a:pt x="23192" y="10566"/>
                  <a:pt x="23168" y="10616"/>
                </a:cubicBezTo>
                <a:cubicBezTo>
                  <a:pt x="23139" y="10677"/>
                  <a:pt x="23106" y="10727"/>
                  <a:pt x="23093" y="10790"/>
                </a:cubicBezTo>
                <a:cubicBezTo>
                  <a:pt x="23211" y="10779"/>
                  <a:pt x="23396" y="10716"/>
                  <a:pt x="23465" y="10864"/>
                </a:cubicBezTo>
                <a:cubicBezTo>
                  <a:pt x="23542" y="11031"/>
                  <a:pt x="23262" y="11052"/>
                  <a:pt x="23168" y="11038"/>
                </a:cubicBezTo>
                <a:cubicBezTo>
                  <a:pt x="23127" y="11018"/>
                  <a:pt x="23121" y="11009"/>
                  <a:pt x="23093" y="11013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86840" y="4143240"/>
            <a:ext cx="115920" cy="349560"/>
          </a:xfrm>
          <a:custGeom>
            <a:avLst/>
            <a:gdLst/>
            <a:ahLst/>
            <a:rect l="l" t="t" r="r" b="b"/>
            <a:pathLst>
              <a:path w="323" h="969">
                <a:moveTo>
                  <a:pt x="23217" y="11509"/>
                </a:moveTo>
                <a:cubicBezTo>
                  <a:pt x="23069" y="11559"/>
                  <a:pt x="23045" y="11659"/>
                  <a:pt x="23019" y="11807"/>
                </a:cubicBezTo>
                <a:cubicBezTo>
                  <a:pt x="23155" y="11847"/>
                  <a:pt x="23386" y="11869"/>
                  <a:pt x="23341" y="11633"/>
                </a:cubicBezTo>
                <a:cubicBezTo>
                  <a:pt x="23289" y="11555"/>
                  <a:pt x="23268" y="11529"/>
                  <a:pt x="23192" y="11534"/>
                </a:cubicBezTo>
              </a:path>
              <a:path w="323" h="969">
                <a:moveTo>
                  <a:pt x="23267" y="11906"/>
                </a:moveTo>
                <a:cubicBezTo>
                  <a:pt x="23267" y="12066"/>
                  <a:pt x="23247" y="12219"/>
                  <a:pt x="23242" y="12378"/>
                </a:cubicBezTo>
                <a:cubicBezTo>
                  <a:pt x="23240" y="12429"/>
                  <a:pt x="23258" y="12463"/>
                  <a:pt x="23217" y="1247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62920" y="4643280"/>
            <a:ext cx="403200" cy="500400"/>
          </a:xfrm>
          <a:custGeom>
            <a:avLst/>
            <a:gdLst/>
            <a:ahLst/>
            <a:rect l="l" t="t" r="r" b="b"/>
            <a:pathLst>
              <a:path w="1117" h="1391">
                <a:moveTo>
                  <a:pt x="22498" y="12923"/>
                </a:moveTo>
                <a:cubicBezTo>
                  <a:pt x="22460" y="12910"/>
                  <a:pt x="22439" y="12999"/>
                  <a:pt x="22399" y="13072"/>
                </a:cubicBezTo>
                <a:cubicBezTo>
                  <a:pt x="22527" y="13104"/>
                  <a:pt x="22660" y="13097"/>
                  <a:pt x="22796" y="13097"/>
                </a:cubicBezTo>
              </a:path>
              <a:path w="1117" h="1391">
                <a:moveTo>
                  <a:pt x="22820" y="12923"/>
                </a:moveTo>
                <a:cubicBezTo>
                  <a:pt x="22789" y="13063"/>
                  <a:pt x="22771" y="13438"/>
                  <a:pt x="22771" y="13295"/>
                </a:cubicBezTo>
              </a:path>
              <a:path w="1117" h="1391">
                <a:moveTo>
                  <a:pt x="23168" y="13072"/>
                </a:moveTo>
                <a:cubicBezTo>
                  <a:pt x="23088" y="13158"/>
                  <a:pt x="22886" y="13383"/>
                  <a:pt x="23143" y="13419"/>
                </a:cubicBezTo>
                <a:cubicBezTo>
                  <a:pt x="23333" y="13446"/>
                  <a:pt x="23457" y="13225"/>
                  <a:pt x="23292" y="13122"/>
                </a:cubicBezTo>
                <a:cubicBezTo>
                  <a:pt x="23267" y="13114"/>
                  <a:pt x="23242" y="13105"/>
                  <a:pt x="23217" y="13097"/>
                </a:cubicBezTo>
              </a:path>
              <a:path w="1117" h="1391">
                <a:moveTo>
                  <a:pt x="22622" y="13494"/>
                </a:moveTo>
                <a:cubicBezTo>
                  <a:pt x="22587" y="13506"/>
                  <a:pt x="22550" y="13600"/>
                  <a:pt x="22523" y="13643"/>
                </a:cubicBezTo>
                <a:cubicBezTo>
                  <a:pt x="22648" y="13672"/>
                  <a:pt x="22712" y="13704"/>
                  <a:pt x="22820" y="13643"/>
                </a:cubicBezTo>
              </a:path>
              <a:path w="1117" h="1391">
                <a:moveTo>
                  <a:pt x="22845" y="13469"/>
                </a:moveTo>
                <a:cubicBezTo>
                  <a:pt x="22845" y="13597"/>
                  <a:pt x="22836" y="13715"/>
                  <a:pt x="22820" y="13841"/>
                </a:cubicBezTo>
              </a:path>
              <a:path w="1117" h="1391">
                <a:moveTo>
                  <a:pt x="23192" y="13543"/>
                </a:moveTo>
                <a:cubicBezTo>
                  <a:pt x="23105" y="13653"/>
                  <a:pt x="23076" y="13676"/>
                  <a:pt x="23068" y="13767"/>
                </a:cubicBezTo>
                <a:cubicBezTo>
                  <a:pt x="23119" y="13784"/>
                  <a:pt x="23428" y="13802"/>
                  <a:pt x="23391" y="13643"/>
                </a:cubicBezTo>
                <a:cubicBezTo>
                  <a:pt x="23306" y="13586"/>
                  <a:pt x="23269" y="13567"/>
                  <a:pt x="23192" y="13568"/>
                </a:cubicBezTo>
              </a:path>
              <a:path w="1117" h="1391">
                <a:moveTo>
                  <a:pt x="23366" y="14064"/>
                </a:moveTo>
                <a:cubicBezTo>
                  <a:pt x="23239" y="14106"/>
                  <a:pt x="23170" y="14172"/>
                  <a:pt x="23068" y="14263"/>
                </a:cubicBezTo>
                <a:cubicBezTo>
                  <a:pt x="23186" y="14295"/>
                  <a:pt x="23528" y="14325"/>
                  <a:pt x="23515" y="14089"/>
                </a:cubicBezTo>
                <a:cubicBezTo>
                  <a:pt x="23434" y="13981"/>
                  <a:pt x="23398" y="13945"/>
                  <a:pt x="23292" y="13940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50080" y="3840120"/>
            <a:ext cx="573120" cy="768240"/>
          </a:xfrm>
          <a:custGeom>
            <a:avLst/>
            <a:gdLst/>
            <a:ahLst/>
            <a:rect l="l" t="t" r="r" b="b"/>
            <a:pathLst>
              <a:path w="1589" h="2134">
                <a:moveTo>
                  <a:pt x="22597" y="11584"/>
                </a:moveTo>
                <a:cubicBezTo>
                  <a:pt x="22529" y="11687"/>
                  <a:pt x="22454" y="11724"/>
                  <a:pt x="22423" y="11857"/>
                </a:cubicBezTo>
                <a:cubicBezTo>
                  <a:pt x="22536" y="11928"/>
                  <a:pt x="22717" y="11976"/>
                  <a:pt x="22771" y="11782"/>
                </a:cubicBezTo>
                <a:cubicBezTo>
                  <a:pt x="22794" y="11699"/>
                  <a:pt x="22668" y="11621"/>
                  <a:pt x="22622" y="11584"/>
                </a:cubicBezTo>
              </a:path>
              <a:path w="1589" h="2134">
                <a:moveTo>
                  <a:pt x="22498" y="11361"/>
                </a:moveTo>
                <a:cubicBezTo>
                  <a:pt x="22662" y="11387"/>
                  <a:pt x="22825" y="11385"/>
                  <a:pt x="22994" y="11385"/>
                </a:cubicBezTo>
                <a:cubicBezTo>
                  <a:pt x="23072" y="11385"/>
                  <a:pt x="23090" y="11370"/>
                  <a:pt x="23118" y="11410"/>
                </a:cubicBezTo>
              </a:path>
              <a:path w="1589" h="2134">
                <a:moveTo>
                  <a:pt x="22399" y="10666"/>
                </a:moveTo>
                <a:cubicBezTo>
                  <a:pt x="22537" y="10666"/>
                  <a:pt x="22658" y="10674"/>
                  <a:pt x="22796" y="10666"/>
                </a:cubicBezTo>
                <a:cubicBezTo>
                  <a:pt x="22942" y="10657"/>
                  <a:pt x="22815" y="10882"/>
                  <a:pt x="22796" y="10939"/>
                </a:cubicBezTo>
                <a:cubicBezTo>
                  <a:pt x="22776" y="10999"/>
                  <a:pt x="22771" y="11010"/>
                  <a:pt x="22771" y="11063"/>
                </a:cubicBezTo>
              </a:path>
              <a:path w="1589" h="2134">
                <a:moveTo>
                  <a:pt x="21828" y="12278"/>
                </a:moveTo>
                <a:cubicBezTo>
                  <a:pt x="21764" y="12278"/>
                  <a:pt x="21701" y="12260"/>
                  <a:pt x="21654" y="12303"/>
                </a:cubicBezTo>
                <a:cubicBezTo>
                  <a:pt x="21629" y="12326"/>
                  <a:pt x="21615" y="12394"/>
                  <a:pt x="21605" y="12402"/>
                </a:cubicBezTo>
                <a:cubicBezTo>
                  <a:pt x="21597" y="12402"/>
                  <a:pt x="21588" y="12402"/>
                  <a:pt x="21580" y="12402"/>
                </a:cubicBezTo>
                <a:cubicBezTo>
                  <a:pt x="21651" y="12455"/>
                  <a:pt x="21732" y="12395"/>
                  <a:pt x="21828" y="12427"/>
                </a:cubicBezTo>
                <a:cubicBezTo>
                  <a:pt x="22002" y="12486"/>
                  <a:pt x="21970" y="12625"/>
                  <a:pt x="21803" y="12650"/>
                </a:cubicBezTo>
                <a:cubicBezTo>
                  <a:pt x="21640" y="12675"/>
                  <a:pt x="21615" y="12641"/>
                  <a:pt x="21605" y="12526"/>
                </a:cubicBezTo>
              </a:path>
              <a:path w="1589" h="2134">
                <a:moveTo>
                  <a:pt x="22448" y="12278"/>
                </a:moveTo>
                <a:cubicBezTo>
                  <a:pt x="22384" y="12381"/>
                  <a:pt x="22248" y="12561"/>
                  <a:pt x="22448" y="12626"/>
                </a:cubicBezTo>
                <a:cubicBezTo>
                  <a:pt x="22618" y="12681"/>
                  <a:pt x="22738" y="12560"/>
                  <a:pt x="22771" y="12427"/>
                </a:cubicBezTo>
                <a:cubicBezTo>
                  <a:pt x="22631" y="12455"/>
                  <a:pt x="22600" y="12509"/>
                  <a:pt x="22523" y="12626"/>
                </a:cubicBezTo>
              </a:path>
              <a:path w="1589" h="2134">
                <a:moveTo>
                  <a:pt x="21530" y="12799"/>
                </a:moveTo>
                <a:cubicBezTo>
                  <a:pt x="21960" y="12799"/>
                  <a:pt x="22390" y="12799"/>
                  <a:pt x="22820" y="12799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67760" y="3848040"/>
            <a:ext cx="776160" cy="474840"/>
          </a:xfrm>
          <a:custGeom>
            <a:avLst/>
            <a:gdLst/>
            <a:ahLst/>
            <a:rect l="l" t="t" r="r" b="b"/>
            <a:pathLst>
              <a:path w="2159" h="1315">
                <a:moveTo>
                  <a:pt x="21530" y="11435"/>
                </a:moveTo>
                <a:cubicBezTo>
                  <a:pt x="21502" y="11549"/>
                  <a:pt x="21332" y="11658"/>
                  <a:pt x="21332" y="11782"/>
                </a:cubicBezTo>
                <a:cubicBezTo>
                  <a:pt x="21332" y="11998"/>
                  <a:pt x="21674" y="11951"/>
                  <a:pt x="21779" y="11906"/>
                </a:cubicBezTo>
                <a:cubicBezTo>
                  <a:pt x="21860" y="11846"/>
                  <a:pt x="21883" y="11841"/>
                  <a:pt x="21903" y="11782"/>
                </a:cubicBezTo>
                <a:cubicBezTo>
                  <a:pt x="21887" y="11687"/>
                  <a:pt x="21790" y="11699"/>
                  <a:pt x="21704" y="11757"/>
                </a:cubicBezTo>
                <a:cubicBezTo>
                  <a:pt x="21632" y="11805"/>
                  <a:pt x="21577" y="11886"/>
                  <a:pt x="21630" y="11956"/>
                </a:cubicBezTo>
              </a:path>
              <a:path w="2159" h="1315">
                <a:moveTo>
                  <a:pt x="21258" y="12005"/>
                </a:moveTo>
                <a:cubicBezTo>
                  <a:pt x="21258" y="11821"/>
                  <a:pt x="21238" y="11643"/>
                  <a:pt x="21233" y="11460"/>
                </a:cubicBezTo>
                <a:cubicBezTo>
                  <a:pt x="21232" y="11435"/>
                  <a:pt x="21228" y="11328"/>
                  <a:pt x="21258" y="11311"/>
                </a:cubicBezTo>
                <a:cubicBezTo>
                  <a:pt x="21429" y="11215"/>
                  <a:pt x="21957" y="11324"/>
                  <a:pt x="22151" y="11336"/>
                </a:cubicBezTo>
                <a:cubicBezTo>
                  <a:pt x="22259" y="11343"/>
                  <a:pt x="22480" y="11348"/>
                  <a:pt x="22597" y="11385"/>
                </a:cubicBezTo>
                <a:cubicBezTo>
                  <a:pt x="22605" y="11393"/>
                  <a:pt x="22614" y="11402"/>
                  <a:pt x="22622" y="11410"/>
                </a:cubicBezTo>
              </a:path>
              <a:path w="2159" h="1315">
                <a:moveTo>
                  <a:pt x="20712" y="11435"/>
                </a:moveTo>
                <a:cubicBezTo>
                  <a:pt x="20624" y="11435"/>
                  <a:pt x="20546" y="11437"/>
                  <a:pt x="20464" y="11460"/>
                </a:cubicBezTo>
                <a:cubicBezTo>
                  <a:pt x="20522" y="11611"/>
                  <a:pt x="20684" y="11710"/>
                  <a:pt x="20786" y="11857"/>
                </a:cubicBezTo>
                <a:cubicBezTo>
                  <a:pt x="20742" y="11897"/>
                  <a:pt x="20446" y="11990"/>
                  <a:pt x="20513" y="11807"/>
                </a:cubicBezTo>
                <a:cubicBezTo>
                  <a:pt x="20555" y="11691"/>
                  <a:pt x="20758" y="11588"/>
                  <a:pt x="20737" y="11485"/>
                </a:cubicBezTo>
              </a:path>
              <a:path w="2159" h="1315">
                <a:moveTo>
                  <a:pt x="21530" y="10691"/>
                </a:moveTo>
                <a:cubicBezTo>
                  <a:pt x="21456" y="10744"/>
                  <a:pt x="21262" y="10815"/>
                  <a:pt x="21233" y="10914"/>
                </a:cubicBezTo>
                <a:cubicBezTo>
                  <a:pt x="21241" y="10939"/>
                  <a:pt x="21250" y="10963"/>
                  <a:pt x="21258" y="10988"/>
                </a:cubicBezTo>
                <a:cubicBezTo>
                  <a:pt x="21379" y="11066"/>
                  <a:pt x="21519" y="11123"/>
                  <a:pt x="21630" y="10988"/>
                </a:cubicBezTo>
                <a:cubicBezTo>
                  <a:pt x="21713" y="10887"/>
                  <a:pt x="21682" y="10809"/>
                  <a:pt x="21630" y="10740"/>
                </a:cubicBezTo>
                <a:cubicBezTo>
                  <a:pt x="21579" y="10672"/>
                  <a:pt x="21586" y="10685"/>
                  <a:pt x="21506" y="1071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643880" y="4491000"/>
            <a:ext cx="71280" cy="9720"/>
          </a:xfrm>
          <a:custGeom>
            <a:avLst/>
            <a:gdLst/>
            <a:ahLst/>
            <a:rect l="l" t="t" r="r" b="b"/>
            <a:pathLst>
              <a:path w="199" h="26">
                <a:moveTo>
                  <a:pt x="21233" y="12502"/>
                </a:moveTo>
                <a:cubicBezTo>
                  <a:pt x="21301" y="12494"/>
                  <a:pt x="21362" y="12483"/>
                  <a:pt x="21431" y="1247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0000" y="4822920"/>
            <a:ext cx="1793880" cy="88920"/>
          </a:xfrm>
          <a:custGeom>
            <a:avLst/>
            <a:gdLst/>
            <a:ahLst/>
            <a:rect l="l" t="t" r="r" b="b"/>
            <a:pathLst>
              <a:path w="4986" h="249">
                <a:moveTo>
                  <a:pt x="12998" y="13643"/>
                </a:moveTo>
                <a:cubicBezTo>
                  <a:pt x="13380" y="13579"/>
                  <a:pt x="13772" y="13540"/>
                  <a:pt x="14163" y="13519"/>
                </a:cubicBezTo>
                <a:cubicBezTo>
                  <a:pt x="15254" y="13459"/>
                  <a:pt x="16346" y="13504"/>
                  <a:pt x="17438" y="13444"/>
                </a:cubicBezTo>
                <a:cubicBezTo>
                  <a:pt x="17643" y="13433"/>
                  <a:pt x="17792" y="13416"/>
                  <a:pt x="17983" y="13395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82840" y="5857920"/>
            <a:ext cx="3589200" cy="741240"/>
          </a:xfrm>
          <a:custGeom>
            <a:avLst/>
            <a:gdLst/>
            <a:ahLst/>
            <a:rect l="l" t="t" r="r" b="b"/>
            <a:pathLst>
              <a:path w="9972" h="2060">
                <a:moveTo>
                  <a:pt x="13990" y="17636"/>
                </a:moveTo>
                <a:cubicBezTo>
                  <a:pt x="13948" y="17436"/>
                  <a:pt x="13935" y="17248"/>
                  <a:pt x="13915" y="17041"/>
                </a:cubicBezTo>
                <a:cubicBezTo>
                  <a:pt x="13896" y="16844"/>
                  <a:pt x="13871" y="16628"/>
                  <a:pt x="13791" y="16446"/>
                </a:cubicBezTo>
                <a:cubicBezTo>
                  <a:pt x="13763" y="16382"/>
                  <a:pt x="13776" y="16312"/>
                  <a:pt x="13692" y="16272"/>
                </a:cubicBezTo>
                <a:cubicBezTo>
                  <a:pt x="13609" y="16232"/>
                  <a:pt x="13404" y="16285"/>
                  <a:pt x="13320" y="16297"/>
                </a:cubicBezTo>
                <a:cubicBezTo>
                  <a:pt x="13187" y="16316"/>
                  <a:pt x="13054" y="16345"/>
                  <a:pt x="12923" y="16371"/>
                </a:cubicBezTo>
                <a:cubicBezTo>
                  <a:pt x="12821" y="16391"/>
                  <a:pt x="12726" y="16428"/>
                  <a:pt x="12626" y="16446"/>
                </a:cubicBezTo>
                <a:cubicBezTo>
                  <a:pt x="12480" y="16472"/>
                  <a:pt x="12327" y="16494"/>
                  <a:pt x="12179" y="16520"/>
                </a:cubicBezTo>
                <a:cubicBezTo>
                  <a:pt x="11942" y="16561"/>
                  <a:pt x="11699" y="16630"/>
                  <a:pt x="11460" y="16644"/>
                </a:cubicBezTo>
                <a:cubicBezTo>
                  <a:pt x="11196" y="16659"/>
                  <a:pt x="10927" y="16642"/>
                  <a:pt x="10666" y="16619"/>
                </a:cubicBezTo>
                <a:cubicBezTo>
                  <a:pt x="10484" y="16603"/>
                  <a:pt x="10303" y="16605"/>
                  <a:pt x="10120" y="16594"/>
                </a:cubicBezTo>
                <a:cubicBezTo>
                  <a:pt x="9948" y="16584"/>
                  <a:pt x="9770" y="16563"/>
                  <a:pt x="9599" y="16545"/>
                </a:cubicBezTo>
                <a:cubicBezTo>
                  <a:pt x="9453" y="16530"/>
                  <a:pt x="9299" y="16501"/>
                  <a:pt x="9153" y="16495"/>
                </a:cubicBezTo>
                <a:cubicBezTo>
                  <a:pt x="8498" y="16466"/>
                  <a:pt x="7845" y="16520"/>
                  <a:pt x="7193" y="16520"/>
                </a:cubicBezTo>
                <a:cubicBezTo>
                  <a:pt x="7001" y="16520"/>
                  <a:pt x="6812" y="16549"/>
                  <a:pt x="6623" y="16545"/>
                </a:cubicBezTo>
                <a:cubicBezTo>
                  <a:pt x="6385" y="16540"/>
                  <a:pt x="6136" y="16520"/>
                  <a:pt x="5904" y="16520"/>
                </a:cubicBezTo>
                <a:cubicBezTo>
                  <a:pt x="5697" y="16520"/>
                  <a:pt x="5486" y="16489"/>
                  <a:pt x="5283" y="16495"/>
                </a:cubicBezTo>
                <a:cubicBezTo>
                  <a:pt x="5184" y="16498"/>
                  <a:pt x="5083" y="16506"/>
                  <a:pt x="4986" y="16520"/>
                </a:cubicBezTo>
                <a:cubicBezTo>
                  <a:pt x="4767" y="16551"/>
                  <a:pt x="4548" y="16616"/>
                  <a:pt x="4341" y="16669"/>
                </a:cubicBezTo>
                <a:cubicBezTo>
                  <a:pt x="4265" y="16688"/>
                  <a:pt x="4183" y="16722"/>
                  <a:pt x="4118" y="16743"/>
                </a:cubicBezTo>
                <a:cubicBezTo>
                  <a:pt x="4165" y="16922"/>
                  <a:pt x="4215" y="17108"/>
                  <a:pt x="4266" y="17289"/>
                </a:cubicBezTo>
                <a:cubicBezTo>
                  <a:pt x="4313" y="17455"/>
                  <a:pt x="4352" y="17617"/>
                  <a:pt x="4390" y="17785"/>
                </a:cubicBezTo>
                <a:cubicBezTo>
                  <a:pt x="4416" y="17898"/>
                  <a:pt x="4459" y="18003"/>
                  <a:pt x="4490" y="18107"/>
                </a:cubicBezTo>
                <a:cubicBezTo>
                  <a:pt x="4495" y="18124"/>
                  <a:pt x="4530" y="18196"/>
                  <a:pt x="4539" y="18207"/>
                </a:cubicBezTo>
                <a:cubicBezTo>
                  <a:pt x="4597" y="18275"/>
                  <a:pt x="4475" y="18282"/>
                  <a:pt x="4589" y="18331"/>
                </a:cubicBezTo>
                <a:cubicBezTo>
                  <a:pt x="4720" y="18387"/>
                  <a:pt x="5039" y="18307"/>
                  <a:pt x="5184" y="18306"/>
                </a:cubicBezTo>
                <a:cubicBezTo>
                  <a:pt x="5458" y="18304"/>
                  <a:pt x="5730" y="18299"/>
                  <a:pt x="6003" y="18281"/>
                </a:cubicBezTo>
                <a:cubicBezTo>
                  <a:pt x="6376" y="18257"/>
                  <a:pt x="6746" y="18196"/>
                  <a:pt x="7119" y="18182"/>
                </a:cubicBezTo>
                <a:cubicBezTo>
                  <a:pt x="7376" y="18172"/>
                  <a:pt x="7632" y="18166"/>
                  <a:pt x="7888" y="18157"/>
                </a:cubicBezTo>
                <a:cubicBezTo>
                  <a:pt x="8204" y="18146"/>
                  <a:pt x="8512" y="18107"/>
                  <a:pt x="8830" y="18107"/>
                </a:cubicBezTo>
                <a:cubicBezTo>
                  <a:pt x="9499" y="18107"/>
                  <a:pt x="10172" y="18120"/>
                  <a:pt x="10840" y="18083"/>
                </a:cubicBezTo>
                <a:cubicBezTo>
                  <a:pt x="11203" y="18063"/>
                  <a:pt x="11567" y="18022"/>
                  <a:pt x="11931" y="18008"/>
                </a:cubicBezTo>
                <a:cubicBezTo>
                  <a:pt x="12262" y="17995"/>
                  <a:pt x="12593" y="18005"/>
                  <a:pt x="12923" y="17983"/>
                </a:cubicBezTo>
                <a:cubicBezTo>
                  <a:pt x="13136" y="17969"/>
                  <a:pt x="13358" y="17965"/>
                  <a:pt x="13568" y="17934"/>
                </a:cubicBezTo>
                <a:cubicBezTo>
                  <a:pt x="13670" y="17919"/>
                  <a:pt x="13765" y="17897"/>
                  <a:pt x="13866" y="17884"/>
                </a:cubicBezTo>
                <a:cubicBezTo>
                  <a:pt x="13930" y="17876"/>
                  <a:pt x="13995" y="17866"/>
                  <a:pt x="14064" y="17859"/>
                </a:cubicBezTo>
                <a:cubicBezTo>
                  <a:pt x="14072" y="17859"/>
                  <a:pt x="14081" y="17859"/>
                  <a:pt x="14089" y="17859"/>
                </a:cubicBezTo>
                <a:cubicBezTo>
                  <a:pt x="14085" y="17731"/>
                  <a:pt x="14076" y="17613"/>
                  <a:pt x="14064" y="17487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-302400">
              <a:spcBef>
                <a:spcPts val="700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ile you’re building a tree house, your uncle tells you that all fractions with a 4 in the numerator are “basically all the same”.  Is this true?  Why or why not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60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33520" y="3809880"/>
          <a:ext cx="752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75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7543800" y="3429000"/>
          <a:ext cx="11509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429000"/>
                    <a:ext cx="1150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5375160" y="3809880"/>
          <a:ext cx="511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5160" y="3809880"/>
                    <a:ext cx="511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809880" y="4114800"/>
          <a:ext cx="7970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114800"/>
                    <a:ext cx="797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438280" y="4191120"/>
          <a:ext cx="4431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4191120"/>
                    <a:ext cx="443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dering Fractions,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ecimals &amp; Percents W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80120" y="2840040"/>
            <a:ext cx="401760" cy="108000"/>
          </a:xfrm>
          <a:custGeom>
            <a:avLst/>
            <a:gdLst/>
            <a:ahLst/>
            <a:rect l="l" t="t" r="r" b="b"/>
            <a:pathLst>
              <a:path w="1117" h="299">
                <a:moveTo>
                  <a:pt x="17165" y="7962"/>
                </a:moveTo>
                <a:cubicBezTo>
                  <a:pt x="17460" y="7894"/>
                  <a:pt x="17756" y="7892"/>
                  <a:pt x="18058" y="7888"/>
                </a:cubicBezTo>
                <a:cubicBezTo>
                  <a:pt x="18456" y="7883"/>
                  <a:pt x="18111" y="7920"/>
                  <a:pt x="17983" y="7938"/>
                </a:cubicBezTo>
                <a:cubicBezTo>
                  <a:pt x="17728" y="7975"/>
                  <a:pt x="16964" y="7927"/>
                  <a:pt x="17214" y="7987"/>
                </a:cubicBezTo>
                <a:cubicBezTo>
                  <a:pt x="17264" y="7995"/>
                  <a:pt x="17313" y="8004"/>
                  <a:pt x="17363" y="8012"/>
                </a:cubicBezTo>
                <a:cubicBezTo>
                  <a:pt x="17450" y="8012"/>
                  <a:pt x="18451" y="7957"/>
                  <a:pt x="18033" y="8012"/>
                </a:cubicBezTo>
                <a:cubicBezTo>
                  <a:pt x="17825" y="8039"/>
                  <a:pt x="17621" y="8089"/>
                  <a:pt x="17413" y="8111"/>
                </a:cubicBezTo>
                <a:cubicBezTo>
                  <a:pt x="17702" y="8099"/>
                  <a:pt x="17992" y="8074"/>
                  <a:pt x="18281" y="8062"/>
                </a:cubicBezTo>
                <a:cubicBezTo>
                  <a:pt x="18492" y="8053"/>
                  <a:pt x="17454" y="8231"/>
                  <a:pt x="17661" y="8186"/>
                </a:cubicBezTo>
                <a:cubicBezTo>
                  <a:pt x="17826" y="8158"/>
                  <a:pt x="17892" y="8148"/>
                  <a:pt x="18008" y="8136"/>
                </a:cubicBezTo>
              </a:path>
            </a:pathLst>
          </a:custGeom>
          <a:noFill/>
          <a:ln cap="rnd" w="190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10-12T14:35:28Z</dcterms:modified>
  <cp:revision>54</cp:revision>
  <dc:subject/>
  <dc:title>Unit 1 – Variables and Equations </dc:title>
</cp:coreProperties>
</file>